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52BC-DCD2-44B0-AF93-B35F5121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C9D-3726-4452-879A-B3EEA349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06F-1164-4393-9A36-99915E77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B24-375B-4D22-9AFF-AA21B7B1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BDE0-036D-45C3-8290-4A824465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CDD4-681F-4622-B53C-5113417A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09BE-303E-4754-B6E1-7954A61C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D5C3-2377-4D11-ADF3-C45E59CA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0103-3550-4F8C-8087-6DF31633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95FB-B804-40D6-830C-DD626612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9AAA-A843-4CF8-BB63-9E86CBC8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C9C-9F93-44F0-B457-920327AD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FFEF-AF4C-42DF-8739-A664BA48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8162-5DCD-4713-9BAE-D2FF7467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6348-7531-4128-A8ED-2D67AC64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F915-D07D-4DDB-9705-62BA5F46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832A-764D-45D3-AF16-75651B75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E83-0BCC-4AB8-B732-E862F51F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DFC5-0A46-4650-A7BA-6042A376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EC49-98C7-40E9-9A9E-90EEAF27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C469-B239-42AB-80D3-F98BF0EE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C1A-C269-49AA-B52E-028639C5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AF2-8944-4E3F-A96D-FB856246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C3A1-F5CD-4A1A-B8A8-36B0FFA2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B56D-135C-4C10-B12D-C7FC1BA6B469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D950-5BBE-492C-896F-18D112C1E778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صَبَرُوا ابْتِغَاءَ وَجْهِ رَبِّهِم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621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49320" y="327672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علِّ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276720"/>
            <a:ext cx="1474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ضرب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5600" y="3276720"/>
            <a:ext cx="170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شدّه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4267080"/>
            <a:ext cx="1531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4267080"/>
            <a:ext cx="1596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راع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4267080"/>
            <a:ext cx="1663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جبي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426708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219320" y="5029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سنضع له علامة على أنفه يراد بها زيادة في إذلاله وإهانته بذلَّة ظاهرة يعرفه بها كل من رآه ونظر إلي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8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8" dur="4022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80"/>
                            </p:stCondLst>
                            <p:childTnLst>
                              <p:par>
                                <p:cTn id="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8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28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780"/>
                            </p:stCondLst>
                            <p:childTnLst>
                              <p:par>
                                <p:cTn id="6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62120" y="16765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ا بَلَوْنَاهُمْ كَمَا بَلَوْنَا أَصْحَابَ الْجَنَّةِ إِذْ أَقْسَمُو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صْبِح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60000" y="3510000"/>
            <a:ext cx="166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3510000"/>
            <a:ext cx="148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طع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عدنَّه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76120" y="3505320"/>
            <a:ext cx="149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يخرب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54160" y="464832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صرم : المراد به قطف الثمار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14942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38080" y="15238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طَافَ عَلَيْ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ائِف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رَبِّكَ وَهُمْ نَائ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قل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طَائِف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3510000"/>
            <a:ext cx="153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يضان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ز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65760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6" dur="10554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صْبَحَت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29400" y="30481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4800600"/>
            <a:ext cx="419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شجر المقطوع ثم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3886200"/>
            <a:ext cx="4189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3048120"/>
            <a:ext cx="416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رض المحصود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1911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7" dur="350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غَدَوْا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د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8660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358128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6360" y="35812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0960" y="4724280"/>
            <a:ext cx="84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عنى الحرد أنهم صمموا في أنفسهم الإمتناع عن العطاء للمساك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3" dur="512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8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2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6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371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صْبِرْ لِحُكْمِ رَبِّكَ وَلا تَكُنْ كَصَاحِبِ الْحُوتِ إِذْ نَادَى وَهُو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358632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14560" y="3554280"/>
            <a:ext cx="198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رع غيظ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554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و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3554280"/>
            <a:ext cx="189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85520" y="484020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مكظوم أي مختنق بالغم حيث لا يجد لغيظه شفاء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7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9" dur="11390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500"/>
                            </p:stCondLst>
                            <p:childTnLst>
                              <p:par>
                                <p:cTn id="87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8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87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4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40"/>
                            </p:stCondLst>
                            <p:childTnLst>
                              <p:par>
                                <p:cTn id="9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621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ْ يَكَادُ الَّذِينَ كَفَرُو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َيُزْلِقُونَك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بْصَارِهِمْ لَمَّا سَمِعُوا الذِّكْرَ وَيَقُولُونَ إِنَّهُ لَمَجْنُون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زلق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غ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657600"/>
            <a:ext cx="157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دا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461160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أي كادوا أن يصرعوك ويهلكوك بأبصاره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0" dur="1771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500"/>
                            </p:stCondLst>
                            <p:childTnLst>
                              <p:par>
                                <p:cTn id="9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49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59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320"/>
                            </p:stCondLst>
                            <p:childTnLst>
                              <p:par>
                                <p:cTn id="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8580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34320" y="3505320"/>
            <a:ext cx="1339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464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ثابت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436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79360" y="3505320"/>
            <a:ext cx="171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ز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48006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اقة : سميت القيامة كذلك لثبوتها ثبوتاً لا مرد له ولا ريب فيه من حق الشيء بمعنى ثبت وتقرر تقرراً واقعياً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7" dur="4494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9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0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003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5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320"/>
                            </p:stCondLst>
                            <p:childTnLst>
                              <p:par>
                                <p:cTn id="10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049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ذَّبَتْ ثَمُودُ وَعَاد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الْقَارِعَة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3276720"/>
            <a:ext cx="121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قرع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32608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90960" y="327672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3260880"/>
            <a:ext cx="150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41148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سميت بالقارعة لأنها تقرع وتدك السماوات والأرض بتبديلها والجب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بتسييرها والشمس بتكويرها والقمر بخسفها والكواكب بنثر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الأشياء كلها بقهر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9" dur="5904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09480" y="16765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َخَّرَهَا عَلَيْهِمْ سَبْعَ لَيَالٍ وَثَمَانِيَةَ أَيَّام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تَرَى الْقَوْمَ فِيهَا صَرْعَى 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عْجَاز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نَخْلٍ خَاوِي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44956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عَجزُ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ت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3581280"/>
            <a:ext cx="1746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خرّ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4495680"/>
            <a:ext cx="181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آخر الش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24280" y="449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4495680"/>
            <a:ext cx="177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ص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838080" y="5181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انه شبَّه أجسادهم بجذوع النخل المقلوعة من أساسها والفارغة من قلبها الملقاة على الأر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8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0" dur="20637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أُلْقُوا فِيهَا سَمِعُوا لَ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ه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282420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4724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06760" y="2824200"/>
            <a:ext cx="19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ال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7240" y="2824200"/>
            <a:ext cx="2120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أخذ النف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824200"/>
            <a:ext cx="1719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7242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47242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ذ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7242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قلَّ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733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تجذبهم إلى داخلها كما يُجذَب الهواء بالشهيق إلى داخل الصد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71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8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838080" y="19810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عَصَوْا رَسُولَ رَبِّهِمْ فَأَخَذَهُمْ أَخْذ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3581280"/>
            <a:ext cx="1433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58128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ف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3581280"/>
            <a:ext cx="1438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46560" y="4800600"/>
            <a:ext cx="51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خذة رابية  والمراد بها العقوبة الشديد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0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8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9" dur="8098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4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990720" y="18288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نْشَقَّتِ السَّمَاءُ فَهِيَ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29400" y="3733920"/>
            <a:ext cx="137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7339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ق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ف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61320" y="51562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تعبير عن تلاشي النظام السماوي وفقدان تماسك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0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8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2" dur="9196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219320" y="1828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مَّا مَنْ أُوتِيَ كِتَابَهُ بِيَمِينِهِ فَيَقُو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قْرَأوا كِتَابِيَه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364644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36306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17840" y="3630600"/>
            <a:ext cx="1459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تعالو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3630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ت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3920" y="4648320"/>
            <a:ext cx="80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ؤم : بمعنى هاكم وهي أمر للجماعة بلغة أهل الحجا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0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2" dur="13532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0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53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4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5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280"/>
                            </p:stCondLst>
                            <p:childTnLst>
                              <p:par>
                                <p:cTn id="1258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59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0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1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520"/>
                            </p:stCondLst>
                            <p:childTnLst>
                              <p:par>
                                <p:cTn id="1264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6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6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7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600"/>
                            </p:stCondLst>
                            <p:childTnLst>
                              <p:par>
                                <p:cTn id="1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طَعَامٌ إِلَّا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84720" y="3505320"/>
            <a:ext cx="1375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0160" y="3510000"/>
            <a:ext cx="222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سالة الجس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35053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81480" y="350532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400" y="4800600"/>
            <a:ext cx="88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سلين : المراد به ما يسيل من أبدان أهل النار من قيح  وصديد وغير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0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8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6" dur="5225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500"/>
                            </p:stCondLst>
                            <p:childTnLst>
                              <p:par>
                                <p:cTn id="129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15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6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7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20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1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2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200"/>
                            </p:stCondLst>
                            <p:childTnLst>
                              <p:par>
                                <p:cTn id="1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لَقَطَعْنَا مِنْه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وَت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وَت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95320" y="3510000"/>
            <a:ext cx="228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رايين الج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50532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ل الص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505320"/>
            <a:ext cx="1654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رق القل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fill="hold">
                      <p:stCondLst>
                        <p:cond delay="0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4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6" dur="5225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8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5335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كُونُ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3657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3662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ط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ر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7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9" dur="4494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02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3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4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07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8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9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5720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زَّاع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أ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348948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لجلد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3489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عي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7960" y="4800600"/>
            <a:ext cx="82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لشوى : أي صفتها إحراق الأطراف من  الأيدي والأرجل واقتلاع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1911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0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9" dur="3762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500"/>
                            </p:stCondLst>
                            <p:childTnLst>
                              <p:par>
                                <p:cTn id="14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7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9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7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14400" y="17524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جَمَع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816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10880" y="3586320"/>
            <a:ext cx="174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عله بوع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35812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3581280"/>
            <a:ext cx="154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صد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5105520"/>
            <a:ext cx="74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ي الذي جمع المال وأمسكه في وعائه ولم ينفق منه للسائل والمحرو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37339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0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7" dur="2822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500"/>
                            </p:stCondLst>
                            <p:childTnLst>
                              <p:par>
                                <p:cTn id="14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04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5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6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09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0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1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240"/>
                            </p:stCondLst>
                            <p:childTnLst>
                              <p:par>
                                <p:cTn id="1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مَسَّهُ الشَّر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10640" y="3505320"/>
            <a:ext cx="132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8195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ص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29200" y="3505320"/>
            <a:ext cx="183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حري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120" y="3505320"/>
            <a:ext cx="179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fill="hold">
                      <p:stCondLst>
                        <p:cond delay="0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5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7" dur="4650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1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5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0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1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4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5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6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9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0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1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74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5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6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3352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نِ الْيَمِينِ وَعَنِ الشِّمَال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85280" y="3657600"/>
            <a:ext cx="25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 متفر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00600" y="365760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لس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19520" y="36576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حلق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0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6" dur="5382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9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1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3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6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14479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كَاد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َ الْغَيْظِ كُلَّمَا أُلْقِيَ فِيهَا فَوْجٌ سَأَلَهُمْ خَزَنَتُهَا أَلَمْ يَأْتِكُمْ نَذِي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733920"/>
            <a:ext cx="133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7339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لا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37339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صر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733920"/>
            <a:ext cx="155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ت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708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62120" y="14479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يَخْرُجُونَ مِ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ِرَاعاً كَأَنَّهُمْ إِ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971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30280" y="457200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4300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ك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را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29200" y="4572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457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ذهبو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457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س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38098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لا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38098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اثي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30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400" y="5410080"/>
            <a:ext cx="89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نصب : وهي ما ينصب علامة في الطريق يقصده السائرون للإهتداء ب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3" dur="indefinite" restart="never" nodeType="tmRoot">
          <p:childTnLst>
            <p:seq>
              <p:cTn id="1624" dur="indefinite" nodeType="mainSeq">
                <p:childTnLst>
                  <p:par>
                    <p:cTn id="1625" fill="hold">
                      <p:stCondLst>
                        <p:cond delay="0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1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3" dur="12644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1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60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1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2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65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6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7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320"/>
                            </p:stCondLst>
                            <p:childTnLst>
                              <p:par>
                                <p:cTn id="16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4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320"/>
                            </p:stCondLst>
                            <p:childTnLst>
                              <p:par>
                                <p:cTn id="1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820"/>
                            </p:stCondLst>
                            <p:childTnLst>
                              <p:par>
                                <p:cTn id="16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2820"/>
                            </p:stCondLst>
                            <p:childTnLst>
                              <p:par>
                                <p:cTn id="16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3320"/>
                            </p:stCondLst>
                            <p:childTnLst>
                              <p:par>
                                <p:cTn id="16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6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1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3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6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9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1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4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62120" y="17524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ِّي كُلَّمَا دَعَوْتُهُمْ لِتَغْفِرَ لَهُمْ جَعَلُوا أَصَابِعَهُمْ فِي آذَانِهِ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ِيَابَهُمْ وَأَصَرُّوا وَاسْتَكْبَرُوا اسْتِكْبَا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71160" y="3657600"/>
            <a:ext cx="182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3657600"/>
            <a:ext cx="1540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ط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17880" y="365760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دل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21240" y="4800600"/>
            <a:ext cx="883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ستغشوا أي غطوا رؤوسهم ووجوههم بثيابهم لئلا يروا أو يسمعوا وه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كناية عن التنفر وعدم الإستماع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5" dur="indefinite" restart="never" nodeType="tmRoot">
          <p:childTnLst>
            <p:seq>
              <p:cTn id="1756" dur="indefinite" nodeType="mainSeq">
                <p:childTnLst>
                  <p:par>
                    <p:cTn id="1757" fill="hold">
                      <p:stCondLst>
                        <p:cond delay="0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4" dur="29414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3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6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00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1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2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05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6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7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10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1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2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240"/>
                            </p:stCondLst>
                            <p:childTnLst>
                              <p:par>
                                <p:cTn id="18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85800" y="16002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 اغْفِرْ لِي وَلِوَالِدَيَّ وَلِمَنْ دَخَلَ بَيْتِيَ مُؤْمِناً وَلِلْمُؤْمِنِينَ وَالْمُؤْمِنَاتِ وَلا تَزِدِ الظَّالِمِينَ إِل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35812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لاك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358128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19320" y="3586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8" dur="indefinite" restart="never" nodeType="tmRoot">
          <p:childTnLst>
            <p:seq>
              <p:cTn id="1819" dur="indefinite" nodeType="mainSeq">
                <p:childTnLst>
                  <p:par>
                    <p:cTn id="1820" fill="hold">
                      <p:stCondLst>
                        <p:cond delay="0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8" dur="21630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4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63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4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5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68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9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0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7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5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85800" y="16765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تَعَا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نَا مَا اتَّخَذَ صَاحِبَةً وَلا وَل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010280" y="352116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053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7" dur="indefinite" restart="never" nodeType="tmRoot">
          <p:childTnLst>
            <p:seq>
              <p:cTn id="1878" dur="indefinite" nodeType="mainSeq">
                <p:childTnLst>
                  <p:par>
                    <p:cTn id="1879" fill="hold">
                      <p:stCondLst>
                        <p:cond delay="0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8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4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0" dur="10188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500"/>
                            </p:stCondLst>
                            <p:childTnLst>
                              <p:par>
                                <p:cTn id="18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066680" y="15238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كَانَ رِجَالٌ مِنَ الْأِنْسِ يَعُوذُونَ بِرِجَالٍ مِنَ الْجِنِّ فَزَادُوهُم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رَه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ه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3581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05320" y="3581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ق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814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5" dur="indefinite" restart="never" nodeType="tmRoot">
          <p:childTnLst>
            <p:seq>
              <p:cTn id="1916" dur="indefinite" nodeType="mainSeq">
                <p:childTnLst>
                  <p:par>
                    <p:cTn id="1917" fill="hold">
                      <p:stCondLst>
                        <p:cond delay="0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7" dur="14734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500"/>
                            </p:stCondLst>
                            <p:childTnLst>
                              <p:par>
                                <p:cTn id="19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2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4" dur="8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5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6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60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1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2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65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6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7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70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1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2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13716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صَّالِحُونَ وَمِنَّا دُونَ ذَلِكَ كُ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قِد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781680" y="3048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81680" y="41148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د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4114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ط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30481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76920" y="30481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8080" y="30481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ائ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41148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4114800"/>
            <a:ext cx="166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عب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4876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 وصفت الطرائق بالقدد لأن كل واحدة منها مقطوعة عن غيرها تنتهي بسالكها إلى غاية غير ما ينتهي به غيرها ، والمراد تشبيهها بالمذاهب المتفرقة المشتت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4" dur="indefinite" restart="never" nodeType="tmRoot">
          <p:childTnLst>
            <p:seq>
              <p:cTn id="1975" dur="indefinite" nodeType="mainSeq">
                <p:childTnLst>
                  <p:par>
                    <p:cTn id="1976" fill="hold">
                      <p:stCondLst>
                        <p:cond delay="0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6" dur="14368" fill="hold"/>
                                        <p:tgtEl>
                                          <p:spTgt spid="4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9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0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2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500"/>
                            </p:stCondLst>
                            <p:childTnLst>
                              <p:par>
                                <p:cTn id="20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56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7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8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61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2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3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280"/>
                            </p:stCondLst>
                            <p:childTnLst>
                              <p:par>
                                <p:cTn id="2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219320" y="12193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ْمُسْلِمُونَ وَمِ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مَنْ أَسْلَمَ فَأُولَئ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ش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51102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5110200"/>
            <a:ext cx="121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51102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ث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0" y="51055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و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781680" y="274788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0" y="3505320"/>
            <a:ext cx="396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ادلون عن 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0" y="2743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عي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0" y="426708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شككون ب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fill="hold">
                      <p:stCondLst>
                        <p:cond delay="0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9" dur="1541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500"/>
                            </p:stCondLst>
                            <p:childTnLst>
                              <p:par>
                                <p:cTn id="20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04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5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6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09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0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1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fill="hold">
                            <p:stCondLst>
                              <p:cond delay="560"/>
                            </p:stCondLst>
                            <p:childTnLst>
                              <p:par>
                                <p:cTn id="21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1060"/>
                            </p:stCondLst>
                            <p:childTnLst>
                              <p:par>
                                <p:cTn id="2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560"/>
                            </p:stCondLst>
                            <p:childTnLst>
                              <p:par>
                                <p:cTn id="212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fill="hold">
                            <p:stCondLst>
                              <p:cond delay="2060"/>
                            </p:stCondLst>
                            <p:childTnLst>
                              <p:par>
                                <p:cTn id="2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7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8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9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4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3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4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َّوِ اسْتَقَامُوا عَلَى الطَّرِيقَةِ لَأَسْقَيْنَاه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93432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3554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د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6" dur="indefinite" restart="never" nodeType="tmRoot">
          <p:childTnLst>
            <p:seq>
              <p:cTn id="2147" dur="indefinite" nodeType="mainSeq">
                <p:childTnLst>
                  <p:par>
                    <p:cTn id="2148" fill="hold">
                      <p:stCondLst>
                        <p:cond delay="0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4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6" dur="11181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1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066680" y="13716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ِنَفْتِنَهُمْ فِيهِ وَمَنْ يُعْرِضْ عَنْ ذِكْرِ رَبِّهِ يَسْلُكْهُ عَذَاب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52760" y="3417840"/>
            <a:ext cx="117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340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وي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3402000"/>
            <a:ext cx="1461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383000"/>
            <a:ext cx="66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عذاباً صعدأ : هو العذاب الذي يصعد على المعذب ويغلب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4" dur="indefinite" restart="never" nodeType="tmRoot">
          <p:childTnLst>
            <p:seq>
              <p:cTn id="2195" dur="indefinite" nodeType="mainSeq">
                <p:childTnLst>
                  <p:par>
                    <p:cTn id="2196" fill="hold">
                      <p:stCondLst>
                        <p:cond delay="0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0" dur="8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1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7" dur="13271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6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57200" y="17524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لَمَّا قَامَ عَبْدُ اللَّهِ يَدْعُوهُ كَادُوا يَكُونُونَ عَلَيْهِ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ِب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86600" y="3570120"/>
            <a:ext cx="106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ب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3554280"/>
            <a:ext cx="153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3554280"/>
            <a:ext cx="148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خ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8120" y="3554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ه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72560" y="464832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ي عندما قام للصلاة ازدحموا عليه متعجب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9" dur="indefinite" restart="never" nodeType="tmRoot">
          <p:childTnLst>
            <p:seq>
              <p:cTn id="2250" dur="indefinite" nodeType="mainSeq">
                <p:childTnLst>
                  <p:par>
                    <p:cTn id="2251" fill="hold">
                      <p:stCondLst>
                        <p:cond delay="0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7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9" dur="13009" fill="hold"/>
                                        <p:tgtEl>
                                          <p:spTgt spid="5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9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15238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هُوَ الَّذِي جَعَلَ لَكُمُ الْأَرْضَ ذَلُولاً فَامْشُوا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ُوا مِنْ رِزْقِهِ وَإِلَيْهِ النُّشُو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3581280"/>
            <a:ext cx="1527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لال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35812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رع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160" y="3581280"/>
            <a:ext cx="1684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طح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489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قُلْ إِنِّي لَنْ يُجِيرَنِي مِنَ اللَّهِ أَحَدٌ وَلَنْ أَجِدَ مِنْ دُون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3586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تجأ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358128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از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4812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1" dur="indefinite" restart="never" nodeType="tmRoot">
          <p:childTnLst>
            <p:seq>
              <p:cTn id="2302" dur="indefinite" nodeType="mainSeq">
                <p:childTnLst>
                  <p:par>
                    <p:cTn id="2303" fill="hold">
                      <p:stCondLst>
                        <p:cond delay="0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3" dur="11547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0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47280" y="3505320"/>
            <a:ext cx="144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35053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واض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7520" y="3505320"/>
            <a:ext cx="222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لتف بالث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062680" y="3510000"/>
            <a:ext cx="179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0" dur="indefinite" restart="never" nodeType="tmRoot">
          <p:childTnLst>
            <p:seq>
              <p:cTn id="2341" dur="indefinite" nodeType="mainSeq">
                <p:childTnLst>
                  <p:par>
                    <p:cTn id="2342" fill="hold">
                      <p:stCondLst>
                        <p:cond delay="0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8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0" dur="5695" fill="hold"/>
                                        <p:tgtEl>
                                          <p:spTgt spid="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500"/>
                            </p:stCondLst>
                            <p:childTnLst>
                              <p:par>
                                <p:cTn id="23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fill="hold">
                      <p:stCondLst>
                        <p:cond delay="indefinite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1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6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8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1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371600" y="16002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لَّيْلِ هِيَ أَشَد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قْوَ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86600" y="312408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دث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3124080"/>
            <a:ext cx="1643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95280" y="3124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47293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95280" y="4729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با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54100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5410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81480" y="472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4729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410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295280" y="5410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و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18840" y="3733920"/>
            <a:ext cx="796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راد بحادثة ما يحدث وينشأ ، والمقصود بها الصلاة والطاع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ي اللي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51814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5" dur="indefinite" restart="never" nodeType="tmRoot">
          <p:childTnLst>
            <p:seq>
              <p:cTn id="2396" dur="indefinite" nodeType="mainSeq">
                <p:childTnLst>
                  <p:par>
                    <p:cTn id="2397" fill="hold">
                      <p:stCondLst>
                        <p:cond delay="0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3" dur="909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9" fill="hold">
                            <p:stCondLst>
                              <p:cond delay="500"/>
                            </p:stCondLst>
                            <p:childTnLst>
                              <p:par>
                                <p:cTn id="24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9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1" dur="8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2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30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1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2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35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6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7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200"/>
                            </p:stCondLst>
                            <p:childTnLst>
                              <p:par>
                                <p:cTn id="2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64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5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6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69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0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1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240"/>
                            </p:stCondLst>
                            <p:childTnLst>
                              <p:par>
                                <p:cTn id="24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fill="hold">
                            <p:stCondLst>
                              <p:cond delay="1240"/>
                            </p:stCondLst>
                            <p:childTnLst>
                              <p:par>
                                <p:cTn id="24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5" fill="hold">
                            <p:stCondLst>
                              <p:cond delay="1740"/>
                            </p:stCondLst>
                            <p:childTnLst>
                              <p:par>
                                <p:cTn id="24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2" fill="hold">
                            <p:stCondLst>
                              <p:cond delay="2240"/>
                            </p:stCondLst>
                            <p:childTnLst>
                              <p:par>
                                <p:cTn id="2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914400" y="16002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تَرْجُفُ الْأَرْضُ وَالْجِبَالُ وَكَانَتِ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 مَه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62920" y="4419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952880" y="4419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نحدَراً من 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666880" y="4419720"/>
            <a:ext cx="216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اً ناع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4419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ً ثاب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162920" y="3276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952880" y="3276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ً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666880" y="3281400"/>
            <a:ext cx="21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يناً جاف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3276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ملاً 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59640" y="5334120"/>
            <a:ext cx="87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هيل هو إذا حرك الرمل المجتمع من أسفله سال من أعلاه منحدرا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34290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2" dur="indefinite" restart="never" nodeType="tmRoot">
          <p:childTnLst>
            <p:seq>
              <p:cTn id="2503" dur="indefinite" nodeType="mainSeq">
                <p:childTnLst>
                  <p:par>
                    <p:cTn id="2504" fill="hold">
                      <p:stCondLst>
                        <p:cond delay="0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0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2" dur="9614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8" fill="hold">
                            <p:stCondLst>
                              <p:cond delay="500"/>
                            </p:stCondLst>
                            <p:childTnLst>
                              <p:par>
                                <p:cTn id="25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fill="hold">
                      <p:stCondLst>
                        <p:cond delay="indefinite"/>
                      </p:stCondLst>
                      <p:childTnLst>
                        <p:par>
                          <p:cTn id="2532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34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5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6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39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0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1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3" fill="hold">
                            <p:stCondLst>
                              <p:cond delay="480"/>
                            </p:stCondLst>
                            <p:childTnLst>
                              <p:par>
                                <p:cTn id="25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980"/>
                            </p:stCondLst>
                            <p:childTnLst>
                              <p:par>
                                <p:cTn id="25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3" fill="hold">
                            <p:stCondLst>
                              <p:cond delay="1480"/>
                            </p:stCondLst>
                            <p:childTnLst>
                              <p:par>
                                <p:cTn id="25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8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9" fill="hold">
                            <p:stCondLst>
                              <p:cond delay="2480"/>
                            </p:stCondLst>
                            <p:childTnLst>
                              <p:par>
                                <p:cTn id="25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0" y="329256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66680" y="3276720"/>
            <a:ext cx="1263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تب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19520" y="3276720"/>
            <a:ext cx="144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غط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دف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3" dur="indefinite" restart="never" nodeType="tmRoot">
          <p:childTnLst>
            <p:seq>
              <p:cTn id="2574" dur="indefinite" nodeType="mainSeq">
                <p:childTnLst>
                  <p:par>
                    <p:cTn id="2575" fill="hold">
                      <p:stCondLst>
                        <p:cond delay="0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1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3" dur="5382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0" fill="hold">
                            <p:stCondLst>
                              <p:cond delay="500"/>
                            </p:stCondLst>
                            <p:childTnLst>
                              <p:par>
                                <p:cTn id="2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هْجُر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930720" y="3505320"/>
            <a:ext cx="137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94120" y="3510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9528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شهو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77840" y="350532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2" dur="indefinite" restart="never" nodeType="tmRoot">
          <p:childTnLst>
            <p:seq>
              <p:cTn id="2613" dur="indefinite" nodeType="mainSeq">
                <p:childTnLst>
                  <p:par>
                    <p:cTn id="2614" fill="hold">
                      <p:stCondLst>
                        <p:cond delay="0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0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2" dur="2822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fill="hold">
                            <p:stCondLst>
                              <p:cond delay="500"/>
                            </p:stCondLst>
                            <p:childTnLst>
                              <p:par>
                                <p:cTn id="2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7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1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نُقِرَ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53080" y="3052800"/>
            <a:ext cx="143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438280" y="304812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قر فيه للتصوي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380988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كتب في اللو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38280" y="4572000"/>
            <a:ext cx="327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ز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139840" y="5257800"/>
            <a:ext cx="52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نقر معناه القرع  أي الدق على الشي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9" dur="indefinite" restart="never" nodeType="tmRoot">
          <p:childTnLst>
            <p:seq>
              <p:cTn id="2650" dur="indefinite" nodeType="mainSeq">
                <p:childTnLst>
                  <p:par>
                    <p:cTn id="2651" fill="hold">
                      <p:stCondLst>
                        <p:cond delay="0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9" dur="4441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3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7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8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500"/>
                            </p:stCondLst>
                            <p:childTnLst>
                              <p:par>
                                <p:cTn id="2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45720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ُ فَكَّر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3510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س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3510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24080" y="3510000"/>
            <a:ext cx="136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43434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4" dur="indefinite" restart="never" nodeType="tmRoot">
          <p:childTnLst>
            <p:seq>
              <p:cTn id="2695" dur="indefinite" nodeType="mainSeq">
                <p:childTnLst>
                  <p:par>
                    <p:cTn id="2696" fill="hold">
                      <p:stCondLst>
                        <p:cond delay="0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2" dur="4441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8" fill="hold">
                            <p:stCondLst>
                              <p:cond delay="500"/>
                            </p:stCondLst>
                            <p:childTnLst>
                              <p:par>
                                <p:cTn id="27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2120" y="18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عَبَس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7057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800600" y="3429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شّ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3429000"/>
            <a:ext cx="148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066680" y="3429000"/>
            <a:ext cx="1517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ب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6" dur="indefinite" restart="never" nodeType="tmRoot">
          <p:childTnLst>
            <p:seq>
              <p:cTn id="2737" dur="indefinite" nodeType="mainSeq">
                <p:childTnLst>
                  <p:par>
                    <p:cTn id="2738" fill="hold">
                      <p:stCondLst>
                        <p:cond delay="0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4" dur="3344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9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0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1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2" fill="hold">
                            <p:stCondLst>
                              <p:cond delay="360"/>
                            </p:stCondLst>
                            <p:childTnLst>
                              <p:par>
                                <p:cTn id="27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3" fill="hold">
                            <p:stCondLst>
                              <p:cond delay="1360"/>
                            </p:stCondLst>
                            <p:childTnLst>
                              <p:par>
                                <p:cTn id="27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7" fill="hold">
                            <p:stCondLst>
                              <p:cond delay="1860"/>
                            </p:stCondLst>
                            <p:childTnLst>
                              <p:par>
                                <p:cTn id="27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6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8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9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0" fill="hold">
                      <p:stCondLst>
                        <p:cond delay="indefinite"/>
                      </p:stCondLst>
                      <p:childTnLst>
                        <p:par>
                          <p:cTn id="2781" fill="hold">
                            <p:stCondLst>
                              <p:cond delay="0"/>
                            </p:stCondLst>
                            <p:childTnLst>
                              <p:par>
                                <p:cTn id="278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8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6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7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8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1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3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قَالَ إِنْ هَذَا إِلَّا سِحْر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10280" y="320040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5780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و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0532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عمل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76520" y="32004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رّق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02920" y="4572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يروى ويتعلم من السحر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5" dur="indefinite" restart="never" nodeType="tmRoot">
          <p:childTnLst>
            <p:seq>
              <p:cTn id="2796" dur="indefinite" nodeType="mainSeq">
                <p:childTnLst>
                  <p:par>
                    <p:cTn id="2797" fill="hold">
                      <p:stCondLst>
                        <p:cond delay="0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6" dur="7419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7" fill="hold">
                      <p:stCondLst>
                        <p:cond delay="indefinite"/>
                      </p:stCondLst>
                      <p:childTnLst>
                        <p:par>
                          <p:cTn id="2808" fill="hold">
                            <p:stCondLst>
                              <p:cond delay="0"/>
                            </p:stCondLst>
                            <p:childTnLst>
                              <p:par>
                                <p:cTn id="28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13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6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0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1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2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3" fill="hold">
                      <p:stCondLst>
                        <p:cond delay="indefinite"/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6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7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8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0" nodeType="with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41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17524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مَنْ يَمْش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وَجْهِهِ أَهْدَى أَمَّنْ يَمْشِي سَوِيّاً عَلَى صِرَاطٍ مُسْتَق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3733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7386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سقط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170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يص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860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ر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760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094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 تُبْقِي وَلَا تَذ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ِلْبَشَر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8168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31734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غيِّ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هلك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240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05360" y="419112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إنها تغيَّر لون البشرة إلى السوا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9" dur="indefinite" restart="never" nodeType="tmRoot">
          <p:childTnLst>
            <p:seq>
              <p:cTn id="2850" dur="indefinite" nodeType="mainSeq">
                <p:childTnLst>
                  <p:par>
                    <p:cTn id="2851" fill="hold">
                      <p:stCondLst>
                        <p:cond delay="0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7" dur="6845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8" fill="hold">
                      <p:stCondLst>
                        <p:cond delay="indefinite"/>
                      </p:stCondLst>
                      <p:childTnLst>
                        <p:par>
                          <p:cTn id="2859" fill="hold">
                            <p:stCondLst>
                              <p:cond delay="0"/>
                            </p:stCondLst>
                            <p:childTnLst>
                              <p:par>
                                <p:cTn id="2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3" fill="hold">
                            <p:stCondLst>
                              <p:cond delay="500"/>
                            </p:stCondLst>
                            <p:childTnLst>
                              <p:par>
                                <p:cTn id="28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6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fill="hold">
                      <p:stCondLst>
                        <p:cond delay="indefinite"/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5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7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0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2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5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6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7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6858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صُّبْحِ إِذ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292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نكش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2004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3581280"/>
            <a:ext cx="1592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3" dur="indefinite" restart="never" nodeType="tmRoot">
          <p:childTnLst>
            <p:seq>
              <p:cTn id="2904" dur="indefinite" nodeType="mainSeq">
                <p:childTnLst>
                  <p:par>
                    <p:cTn id="2905" fill="hold">
                      <p:stCondLst>
                        <p:cond delay="0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8" dur="4598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5" fill="hold">
                            <p:stCondLst>
                              <p:cond delay="500"/>
                            </p:stCondLst>
                            <p:childTnLst>
                              <p:par>
                                <p:cTn id="29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762120" y="16765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مُسْتَنْف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رَّتْ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56280" y="327672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763320" y="4038480"/>
            <a:ext cx="167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سْتَنْف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281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105520" y="32767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3276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يوا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038480"/>
            <a:ext cx="1438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00400" y="40435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4038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2240" y="5486400"/>
            <a:ext cx="89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:أنه  شبه الذين يعرضون عن الذكر كأنهم حمير هاربة من الاس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934320" y="480060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95280" y="4800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124080" y="4800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480528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ب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1219320" y="1905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6" dur="indefinite" restart="never" nodeType="tmRoot">
          <p:childTnLst>
            <p:seq>
              <p:cTn id="2947" dur="indefinite" nodeType="mainSeq">
                <p:childTnLst>
                  <p:par>
                    <p:cTn id="2948" fill="hold">
                      <p:stCondLst>
                        <p:cond delay="0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3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4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6" dur="9457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7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8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09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2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4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3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4" fill="hold">
                      <p:stCondLst>
                        <p:cond delay="indefinite"/>
                      </p:stCondLst>
                      <p:childTnLst>
                        <p:par>
                          <p:cTn id="3035" fill="hold">
                            <p:stCondLst>
                              <p:cond delay="0"/>
                            </p:stCondLst>
                            <p:childTnLst>
                              <p:par>
                                <p:cTn id="30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0" fill="hold">
                            <p:stCondLst>
                              <p:cond delay="0"/>
                            </p:stCondLst>
                            <p:childTnLst>
                              <p:par>
                                <p:cTn id="30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6858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َى قَادِرِينَ عَلَى أَنْ نُسَوّ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34320" y="36576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53120" y="3657600"/>
            <a:ext cx="229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طراف أصابع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800600" y="3683160"/>
            <a:ext cx="1865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أس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جسد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4" dur="indefinite" restart="never" nodeType="tmRoot">
          <p:childTnLst>
            <p:seq>
              <p:cTn id="3045" dur="indefinite" nodeType="mainSeq">
                <p:childTnLst>
                  <p:par>
                    <p:cTn id="3046" fill="hold">
                      <p:stCondLst>
                        <p:cond delay="0"/>
                      </p:stCondLst>
                      <p:childTnLst>
                        <p:par>
                          <p:cTn id="3047" fill="hold">
                            <p:stCondLst>
                              <p:cond delay="0"/>
                            </p:stCondLst>
                            <p:childTnLst>
                              <p:par>
                                <p:cTn id="30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0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2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3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5" dur="7576" fill="hold"/>
                                        <p:tgtEl>
                                          <p:spTgt spid="6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2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6" fill="hold">
                      <p:stCondLst>
                        <p:cond delay="indefinite"/>
                      </p:stCondLst>
                      <p:childTnLst>
                        <p:par>
                          <p:cTn id="3077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79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0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1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84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5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6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يُرِيدُ الْأِنْسَان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 أَمَام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05720" y="3124080"/>
            <a:ext cx="146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952880" y="3129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شق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3124080"/>
            <a:ext cx="135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95360" y="3124080"/>
            <a:ext cx="142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ن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05720" y="4114800"/>
            <a:ext cx="143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أَمَام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71808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76920" y="4114800"/>
            <a:ext cx="142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114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قب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71600" y="4114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يمان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-44280" y="5029200"/>
            <a:ext cx="92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يفجر أمامه : أي يريد الانسان أن يشق ستر الديانة  على مدى عمره و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دام حياً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8" dur="indefinite" restart="never" nodeType="tmRoot">
          <p:childTnLst>
            <p:seq>
              <p:cTn id="3089" dur="indefinite" nodeType="mainSeq">
                <p:childTnLst>
                  <p:par>
                    <p:cTn id="3090" fill="hold">
                      <p:stCondLst>
                        <p:cond delay="0"/>
                      </p:stCondLst>
                      <p:childTnLst>
                        <p:par>
                          <p:cTn id="3091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6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8" dur="6479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7" fill="hold">
                            <p:stCondLst>
                              <p:cond delay="500"/>
                            </p:stCondLst>
                            <p:childTnLst>
                              <p:par>
                                <p:cTn id="31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0" fill="hold">
                      <p:stCondLst>
                        <p:cond delay="indefinite"/>
                      </p:stCondLst>
                      <p:childTnLst>
                        <p:par>
                          <p:cTn id="3121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23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4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5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28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9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0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2" fill="hold">
                            <p:stCondLst>
                              <p:cond delay="240"/>
                            </p:stCondLst>
                            <p:childTnLst>
                              <p:par>
                                <p:cTn id="3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6" fill="hold">
                            <p:stCondLst>
                              <p:cond delay="740"/>
                            </p:stCondLst>
                            <p:childTnLst>
                              <p:par>
                                <p:cTn id="31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0" fill="hold">
                            <p:stCondLst>
                              <p:cond delay="1240"/>
                            </p:stCondLst>
                            <p:childTnLst>
                              <p:par>
                                <p:cTn id="3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5" fill="hold">
                            <p:stCondLst>
                              <p:cond delay="1740"/>
                            </p:stCondLst>
                            <p:childTnLst>
                              <p:par>
                                <p:cTn id="31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0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1" fill="hold">
                      <p:stCondLst>
                        <p:cond delay="indefinite"/>
                      </p:stCondLst>
                      <p:childTnLst>
                        <p:par>
                          <p:cTn id="3152" fill="hold">
                            <p:stCondLst>
                              <p:cond delay="0"/>
                            </p:stCondLst>
                            <p:childTnLst>
                              <p:par>
                                <p:cTn id="315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4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6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9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0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6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533520" y="1600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لَّا ل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وَز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لَى رَبِّكَ يَوْمَئِذٍ الْمُسْتَقَرُّ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010280" y="3510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ز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124080" y="3478320"/>
            <a:ext cx="1468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ج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1055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19320" y="3478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746748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7" dur="indefinite" restart="never" nodeType="tmRoot">
          <p:childTnLst>
            <p:seq>
              <p:cTn id="3168" dur="indefinite" nodeType="mainSeq">
                <p:childTnLst>
                  <p:par>
                    <p:cTn id="3169" fill="hold">
                      <p:stCondLst>
                        <p:cond delay="0"/>
                      </p:stCondLst>
                      <p:childTnLst>
                        <p:par>
                          <p:cTn id="3170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5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7" dur="8203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4" fill="hold">
                            <p:stCondLst>
                              <p:cond delay="500"/>
                            </p:stCondLst>
                            <p:childTnLst>
                              <p:par>
                                <p:cTn id="3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9" fill="hold">
                      <p:stCondLst>
                        <p:cond delay="indefinite"/>
                      </p:stCondLst>
                      <p:childTnLst>
                        <p:par>
                          <p:cTn id="3200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02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3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4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07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8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9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60948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ِ الْإِنْسَانُ عَلَى نَفْس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وْ أَلْق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934320" y="416412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ذ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105520" y="4164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ثقا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9718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ح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934320" y="32767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10552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71800" y="3325680"/>
            <a:ext cx="159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ؤو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990720" y="3325680"/>
            <a:ext cx="1498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يَّر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2666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1" dur="indefinite" restart="never" nodeType="tmRoot">
          <p:childTnLst>
            <p:seq>
              <p:cTn id="3212" dur="indefinite" nodeType="mainSeq">
                <p:childTnLst>
                  <p:par>
                    <p:cTn id="3213" fill="hold">
                      <p:stCondLst>
                        <p:cond delay="0"/>
                      </p:stCondLst>
                      <p:childTnLst>
                        <p:par>
                          <p:cTn id="3214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9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1" dur="10867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2" fill="hold">
                      <p:stCondLst>
                        <p:cond delay="indefinite"/>
                      </p:stCondLst>
                      <p:childTnLst>
                        <p:par>
                          <p:cTn id="3223" fill="hold">
                            <p:stCondLst>
                              <p:cond delay="0"/>
                            </p:stCondLst>
                            <p:childTnLst>
                              <p:par>
                                <p:cTn id="3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3" fill="hold">
                      <p:stCondLst>
                        <p:cond delay="indefinite"/>
                      </p:stCondLst>
                      <p:childTnLst>
                        <p:par>
                          <p:cTn id="3244" fill="hold">
                            <p:stCondLst>
                              <p:cond delay="0"/>
                            </p:stCondLst>
                            <p:childTnLst>
                              <p:par>
                                <p:cTn id="324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6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7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8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51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2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3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5" fill="hold">
                            <p:stCondLst>
                              <p:cond delay="320"/>
                            </p:stCondLst>
                            <p:childTnLst>
                              <p:par>
                                <p:cTn id="3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9" fill="hold">
                            <p:stCondLst>
                              <p:cond delay="820"/>
                            </p:stCondLst>
                            <p:childTnLst>
                              <p:par>
                                <p:cTn id="3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4" fill="hold">
                            <p:stCondLst>
                              <p:cond delay="1320"/>
                            </p:stCondLst>
                            <p:childTnLst>
                              <p:par>
                                <p:cTn id="32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9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0" fill="hold">
                            <p:stCondLst>
                              <p:cond delay="2320"/>
                            </p:stCondLst>
                            <p:childTnLst>
                              <p:par>
                                <p:cTn id="3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4" fill="hold">
                      <p:stCondLst>
                        <p:cond delay="indefinite"/>
                      </p:stCondLst>
                      <p:childTnLst>
                        <p:par>
                          <p:cTn id="3275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7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8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79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2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3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4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685800" y="1905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ُجُوهٌ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70240" y="3662280"/>
            <a:ext cx="128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952880" y="3662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شرق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08360" y="3662280"/>
            <a:ext cx="168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بشر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6212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بس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6" dur="indefinite" restart="never" nodeType="tmRoot">
          <p:childTnLst>
            <p:seq>
              <p:cTn id="3287" dur="indefinite" nodeType="mainSeq">
                <p:childTnLst>
                  <p:par>
                    <p:cTn id="3288" fill="hold">
                      <p:stCondLst>
                        <p:cond delay="0"/>
                      </p:stCondLst>
                      <p:childTnLst>
                        <p:par>
                          <p:cTn id="3289" fill="hold">
                            <p:stCondLst>
                              <p:cond delay="0"/>
                            </p:stCondLst>
                            <p:childTnLst>
                              <p:par>
                                <p:cTn id="32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2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3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4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6" dur="5591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3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8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0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4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5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9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7" fill="hold">
                      <p:stCondLst>
                        <p:cond delay="indefinite"/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0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5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40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1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2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4572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ظُنُّ أَنْ يُفْعَلَ بِ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238880" y="3478320"/>
            <a:ext cx="108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623680" y="3478320"/>
            <a:ext cx="254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قسم ظهر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292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يبة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كسر عنق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4" dur="indefinite" restart="never" nodeType="tmRoot">
          <p:childTnLst>
            <p:seq>
              <p:cTn id="3345" dur="indefinite" nodeType="mainSeq">
                <p:childTnLst>
                  <p:par>
                    <p:cTn id="3346" fill="hold">
                      <p:stCondLst>
                        <p:cond delay="0"/>
                      </p:stCondLst>
                      <p:childTnLst>
                        <p:par>
                          <p:cTn id="3347" fill="hold">
                            <p:stCondLst>
                              <p:cond delay="0"/>
                            </p:stCondLst>
                            <p:childTnLst>
                              <p:par>
                                <p:cTn id="33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0" dur="8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1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3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7" dur="6270" fill="hold"/>
                                        <p:tgtEl>
                                          <p:spTgt spid="7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8" fill="hold">
                      <p:stCondLst>
                        <p:cond delay="indefinite"/>
                      </p:stCondLst>
                      <p:childTnLst>
                        <p:par>
                          <p:cTn id="3359" fill="hold">
                            <p:stCondLst>
                              <p:cond delay="0"/>
                            </p:stCondLst>
                            <p:childTnLst>
                              <p:par>
                                <p:cTn id="3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1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84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5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6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89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0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1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لَّا إِذَا بَلَغَ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915600" y="3657600"/>
            <a:ext cx="145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365760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الصد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971800" y="3657600"/>
            <a:ext cx="169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رق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38080" y="3657600"/>
            <a:ext cx="182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را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3" dur="indefinite" restart="never" nodeType="tmRoot">
          <p:childTnLst>
            <p:seq>
              <p:cTn id="3394" dur="indefinite" nodeType="mainSeq">
                <p:childTnLst>
                  <p:par>
                    <p:cTn id="3395" fill="hold">
                      <p:stCondLst>
                        <p:cond delay="0"/>
                      </p:stCondLst>
                      <p:childTnLst>
                        <p:par>
                          <p:cTn id="3396" fill="hold">
                            <p:stCondLst>
                              <p:cond delay="0"/>
                            </p:stCondLst>
                            <p:childTnLst>
                              <p:par>
                                <p:cTn id="33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0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1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3" dur="6270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fill="hold">
                      <p:stCondLst>
                        <p:cond delay="indefinite"/>
                      </p:stCondLst>
                      <p:childTnLst>
                        <p:par>
                          <p:cTn id="3405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9" fill="hold">
                            <p:stCondLst>
                              <p:cond delay="500"/>
                            </p:stCondLst>
                            <p:childTnLst>
                              <p:par>
                                <p:cTn id="3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2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19810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سَتُبْصِرُ وَيُبْصِ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يِّكُم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مَفْتُون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96360" y="3657600"/>
            <a:ext cx="152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َفْتُون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36576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بت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365760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ج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د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14300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449568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أنه إذا لم تكن مجنونا بل مدَّعي النبوة فسيظهر أمر دعوتك وينكش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لى الابصار والبصائر من المبتلي بالجنون أنت أو المكذبون الرَّامون لك بالجنو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7106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قِيلَ مَ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200400" y="3429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او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3716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عد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1055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حر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58000" y="3429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8" dur="indefinite" restart="never" nodeType="tmRoot">
          <p:childTnLst>
            <p:seq>
              <p:cTn id="3429" dur="indefinite" nodeType="mainSeq">
                <p:childTnLst>
                  <p:par>
                    <p:cTn id="3430" fill="hold">
                      <p:stCondLst>
                        <p:cond delay="0"/>
                      </p:stCondLst>
                      <p:childTnLst>
                        <p:par>
                          <p:cTn id="3431" fill="hold">
                            <p:stCondLst>
                              <p:cond delay="0"/>
                            </p:stCondLst>
                            <p:childTnLst>
                              <p:par>
                                <p:cTn id="3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5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6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38" dur="3762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9" fill="hold">
                      <p:stCondLst>
                        <p:cond delay="indefinite"/>
                      </p:stCondLst>
                      <p:childTnLst>
                        <p:par>
                          <p:cTn id="3440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3" dur="8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4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5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6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1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2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3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4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5" fill="hold">
                      <p:stCondLst>
                        <p:cond delay="indefinite"/>
                      </p:stCondLst>
                      <p:childTnLst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8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9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2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3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6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7621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ذَهَبَ إِلَى أَهْل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790680" y="3510000"/>
            <a:ext cx="1506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ى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57080" y="3505320"/>
            <a:ext cx="209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بختر ويخت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029200" y="3505320"/>
            <a:ext cx="1692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ي بسر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47160" y="3510000"/>
            <a:ext cx="2381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كاسل بمشي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4687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يتمطى : وهو تمدد البدن من الكسل وأصله أن يلوي مطاه أي ظهره ، والمراد بتمطيه في ذهابه التبختر والاختيال استعار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9" dur="indefinite" restart="never" nodeType="tmRoot">
          <p:childTnLst>
            <p:seq>
              <p:cTn id="3490" dur="indefinite" nodeType="mainSeq">
                <p:childTnLst>
                  <p:par>
                    <p:cTn id="3491" fill="hold">
                      <p:stCondLst>
                        <p:cond delay="0"/>
                      </p:stCondLst>
                      <p:childTnLst>
                        <p:par>
                          <p:cTn id="3492" fill="hold">
                            <p:stCondLst>
                              <p:cond delay="0"/>
                            </p:stCondLst>
                            <p:childTnLst>
                              <p:par>
                                <p:cTn id="34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8" dur="7419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9" fill="hold">
                      <p:stCondLst>
                        <p:cond delay="indefinite"/>
                      </p:stCondLst>
                      <p:childTnLst>
                        <p:par>
                          <p:cTn id="3500" fill="hold">
                            <p:stCondLst>
                              <p:cond delay="0"/>
                            </p:stCondLst>
                            <p:childTnLst>
                              <p:par>
                                <p:cTn id="35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7" fill="hold">
                            <p:stCondLst>
                              <p:cond delay="500"/>
                            </p:stCondLst>
                            <p:childTnLst>
                              <p:par>
                                <p:cTn id="350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0" dur="8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1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3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3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5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fill="hold">
                      <p:stCondLst>
                        <p:cond delay="indefinite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29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0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1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34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5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6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8" fill="hold">
                            <p:stCondLst>
                              <p:cond delay="520"/>
                            </p:stCondLst>
                            <p:childTnLst>
                              <p:par>
                                <p:cTn id="3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53352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يَحْسَبُ الْأِنْسَانُ أَنْ يُتْرَ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010280" y="38149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0481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43000" y="3809880"/>
            <a:ext cx="1467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2" dur="indefinite" restart="never" nodeType="tmRoot">
          <p:childTnLst>
            <p:seq>
              <p:cTn id="3543" dur="indefinite" nodeType="mainSeq">
                <p:childTnLst>
                  <p:par>
                    <p:cTn id="3544" fill="hold">
                      <p:stCondLst>
                        <p:cond delay="0"/>
                      </p:stCondLst>
                      <p:childTnLst>
                        <p:par>
                          <p:cTn id="3545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50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2" dur="6845" fill="hold"/>
                                        <p:tgtEl>
                                          <p:spTgt spid="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fill="hold">
                      <p:stCondLst>
                        <p:cond delay="indefinite"/>
                      </p:stCondLst>
                      <p:childTnLst>
                        <p:par>
                          <p:cTn id="3554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5" dur="8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6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7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8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3" dur="8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4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5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6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6" fill="hold">
                      <p:stCondLst>
                        <p:cond delay="indefinite"/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9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0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1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4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5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6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9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533520" y="18288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خَلَقْنَا الْأِنْسَانَ مِنْ نُطْفَة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بْتَلِيهِ فَجَعَلْنَاهُ سَمِيعاً بَص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0" y="38862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1320" y="3886200"/>
            <a:ext cx="231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لاط ممز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3886200"/>
            <a:ext cx="183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ماء ممزوج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743200" y="38862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شكال مختلف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1" dur="indefinite" restart="never" nodeType="tmRoot">
          <p:childTnLst>
            <p:seq>
              <p:cTn id="3602" dur="indefinite" nodeType="mainSeq">
                <p:childTnLst>
                  <p:par>
                    <p:cTn id="3603" fill="hold">
                      <p:stCondLst>
                        <p:cond delay="0"/>
                      </p:stCondLst>
                      <p:childTnLst>
                        <p:par>
                          <p:cTn id="3604" fill="hold">
                            <p:stCondLst>
                              <p:cond delay="0"/>
                            </p:stCondLst>
                            <p:childTnLst>
                              <p:par>
                                <p:cTn id="36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6" dur="15517" fill="hold"/>
                                        <p:tgtEl>
                                          <p:spTgt spid="7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7" fill="hold">
                      <p:stCondLst>
                        <p:cond delay="indefinite"/>
                      </p:stCondLst>
                      <p:childTnLst>
                        <p:par>
                          <p:cTn id="3618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23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8" fill="hold">
                      <p:stCondLst>
                        <p:cond delay="indefinite"/>
                      </p:stCondLst>
                      <p:childTnLst>
                        <p:par>
                          <p:cTn id="3639" fill="hold">
                            <p:stCondLst>
                              <p:cond delay="0"/>
                            </p:stCondLst>
                            <p:childTnLst>
                              <p:par>
                                <p:cTn id="36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1295280" y="16002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الْأَبْرَارَ يَشْرَبُونَ مِنْ كَأْسٍ كَا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افُو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958800" y="3581280"/>
            <a:ext cx="135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ج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048120" y="35863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طعم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1430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رائحت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4" dur="indefinite" restart="never" nodeType="tmRoot">
          <p:childTnLst>
            <p:seq>
              <p:cTn id="3645" dur="indefinite" nodeType="mainSeq">
                <p:childTnLst>
                  <p:par>
                    <p:cTn id="3646" fill="hold">
                      <p:stCondLst>
                        <p:cond delay="0"/>
                      </p:stCondLst>
                      <p:childTnLst>
                        <p:par>
                          <p:cTn id="3647" fill="hold">
                            <p:stCondLst>
                              <p:cond delay="0"/>
                            </p:stCondLst>
                            <p:childTnLst>
                              <p:par>
                                <p:cTn id="36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52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4" dur="11547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5" fill="hold">
                      <p:stCondLst>
                        <p:cond delay="indefinite"/>
                      </p:stCondLst>
                      <p:childTnLst>
                        <p:par>
                          <p:cTn id="3656" fill="hold">
                            <p:stCondLst>
                              <p:cond delay="0"/>
                            </p:stCondLst>
                            <p:childTnLst>
                              <p:par>
                                <p:cTn id="3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3" fill="hold">
                      <p:stCondLst>
                        <p:cond delay="indefinite"/>
                      </p:stCondLst>
                      <p:childTnLst>
                        <p:par>
                          <p:cTn id="3674" fill="hold">
                            <p:stCondLst>
                              <p:cond delay="0"/>
                            </p:stCondLst>
                            <p:childTnLst>
                              <p:par>
                                <p:cTn id="36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وفون بالنذر ويخافون يوما كان شره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( الإنسان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713280" y="3586320"/>
            <a:ext cx="168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52880" y="3581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895480" y="35812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ب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066680" y="3581280"/>
            <a:ext cx="143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حت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9" dur="indefinite" restart="never" nodeType="tmRoot">
          <p:childTnLst>
            <p:seq>
              <p:cTn id="3680" dur="indefinite" nodeType="mainSeq">
                <p:childTnLst>
                  <p:par>
                    <p:cTn id="3681" fill="hold">
                      <p:stCondLst>
                        <p:cond delay="0"/>
                      </p:stCondLst>
                      <p:childTnLst>
                        <p:par>
                          <p:cTn id="3682" fill="hold">
                            <p:stCondLst>
                              <p:cond delay="0"/>
                            </p:stCondLst>
                            <p:childTnLst>
                              <p:par>
                                <p:cTn id="36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8" dur="11048" fill="hold"/>
                                        <p:tgtEl>
                                          <p:spTgt spid="7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4" fill="hold">
                            <p:stCondLst>
                              <p:cond delay="500"/>
                            </p:stCondLst>
                            <p:childTnLst>
                              <p:par>
                                <p:cTn id="36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7" fill="hold">
                      <p:stCondLst>
                        <p:cond delay="indefinite"/>
                      </p:stCondLst>
                      <p:childTnLst>
                        <p:par>
                          <p:cTn id="3708" fill="hold">
                            <p:stCondLst>
                              <p:cond delay="0"/>
                            </p:stCondLst>
                            <p:childTnLst>
                              <p:par>
                                <p:cTn id="370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0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1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2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5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6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7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1447920" y="17524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نَخَافُ مِنْ رَبِّنَا يَوْماً عَبُوس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722640" y="3706920"/>
            <a:ext cx="167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1240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029200" y="3738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وداً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19320" y="373860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غ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2895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9" dur="indefinite" restart="never" nodeType="tmRoot">
          <p:childTnLst>
            <p:seq>
              <p:cTn id="3720" dur="indefinite" nodeType="mainSeq">
                <p:childTnLst>
                  <p:par>
                    <p:cTn id="3721" fill="hold">
                      <p:stCondLst>
                        <p:cond delay="0"/>
                      </p:stCondLst>
                      <p:childTnLst>
                        <p:par>
                          <p:cTn id="3722" fill="hold">
                            <p:stCondLst>
                              <p:cond delay="0"/>
                            </p:stCondLst>
                            <p:childTnLst>
                              <p:par>
                                <p:cTn id="37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0" dur="10084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1" fill="hold">
                      <p:stCondLst>
                        <p:cond delay="indefinite"/>
                      </p:stCondLst>
                      <p:childTnLst>
                        <p:par>
                          <p:cTn id="3732" fill="hold">
                            <p:stCondLst>
                              <p:cond delay="0"/>
                            </p:stCondLst>
                            <p:childTnLst>
                              <p:par>
                                <p:cTn id="37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5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9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53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4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5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58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9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0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1523880" y="167652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يْهِمْ ظِلال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طُوفُهَا تَذْل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781680" y="335268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781680" y="441972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90720" y="3352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800600" y="3357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ظل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95480" y="3352680"/>
            <a:ext cx="158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800600" y="4419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ُخِر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14840" y="4419720"/>
            <a:ext cx="178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وطاب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90720" y="4419720"/>
            <a:ext cx="1536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َهُل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2" dur="indefinite" restart="never" nodeType="tmRoot">
          <p:childTnLst>
            <p:seq>
              <p:cTn id="3763" dur="indefinite" nodeType="mainSeq">
                <p:childTnLst>
                  <p:par>
                    <p:cTn id="3764" fill="hold">
                      <p:stCondLst>
                        <p:cond delay="0"/>
                      </p:stCondLst>
                      <p:childTnLst>
                        <p:par>
                          <p:cTn id="3765" fill="hold">
                            <p:stCondLst>
                              <p:cond delay="0"/>
                            </p:stCondLst>
                            <p:childTnLst>
                              <p:par>
                                <p:cTn id="37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8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9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0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2" dur="10345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fill="hold">
                      <p:stCondLst>
                        <p:cond delay="indefinite"/>
                      </p:stCondLst>
                      <p:childTnLst>
                        <p:par>
                          <p:cTn id="3774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7" dur="8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8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0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0" fill="hold">
                      <p:stCondLst>
                        <p:cond delay="indefinite"/>
                      </p:stCondLst>
                      <p:childTnLst>
                        <p:par>
                          <p:cTn id="3801" fill="hold">
                            <p:stCondLst>
                              <p:cond delay="0"/>
                            </p:stCondLst>
                            <p:childTnLst>
                              <p:par>
                                <p:cTn id="380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03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4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5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08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9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0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2" fill="hold">
                            <p:stCondLst>
                              <p:cond delay="280"/>
                            </p:stCondLst>
                            <p:childTnLst>
                              <p:par>
                                <p:cTn id="38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7" fill="hold">
                            <p:stCondLst>
                              <p:cond delay="780"/>
                            </p:stCondLst>
                            <p:childTnLst>
                              <p:par>
                                <p:cTn id="38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1" fill="hold">
                            <p:stCondLst>
                              <p:cond delay="1280"/>
                            </p:stCondLst>
                            <p:childTnLst>
                              <p:par>
                                <p:cTn id="38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6" fill="hold">
                            <p:stCondLst>
                              <p:cond delay="1780"/>
                            </p:stCondLst>
                            <p:childTnLst>
                              <p:par>
                                <p:cTn id="38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fill="hold">
                      <p:stCondLst>
                        <p:cond delay="indefinite"/>
                      </p:stCondLst>
                      <p:childTnLst>
                        <p:par>
                          <p:cTn id="3832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4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5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6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9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0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1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219320" y="14479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يُطَافُ عَلَيْهِمْ بِآنِيَةٍ مِنْ فِضَّةٍ وَأَكْوَابٍ كَانَت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394320" y="3200400"/>
            <a:ext cx="153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590920" y="4043520"/>
            <a:ext cx="312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590920" y="3200400"/>
            <a:ext cx="3139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رار من فخا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514600" y="4876920"/>
            <a:ext cx="320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أكواب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3" dur="indefinite" restart="never" nodeType="tmRoot">
          <p:childTnLst>
            <p:seq>
              <p:cTn id="3844" dur="indefinite" nodeType="mainSeq">
                <p:childTnLst>
                  <p:par>
                    <p:cTn id="3845" fill="hold">
                      <p:stCondLst>
                        <p:cond delay="0"/>
                      </p:stCondLst>
                      <p:childTnLst>
                        <p:par>
                          <p:cTn id="3846" fill="hold">
                            <p:stCondLst>
                              <p:cond delay="0"/>
                            </p:stCondLst>
                            <p:childTnLst>
                              <p:par>
                                <p:cTn id="38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2" dur="14368" fill="hold"/>
                                        <p:tgtEl>
                                          <p:spTgt spid="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3" fill="hold">
                      <p:stCondLst>
                        <p:cond delay="indefinite"/>
                      </p:stCondLst>
                      <p:childTnLst>
                        <p:par>
                          <p:cTn id="3854" fill="hold">
                            <p:stCondLst>
                              <p:cond delay="0"/>
                            </p:stCondLst>
                            <p:childTnLst>
                              <p:par>
                                <p:cTn id="38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8" fill="hold">
                            <p:stCondLst>
                              <p:cond delay="500"/>
                            </p:stCondLst>
                            <p:childTnLst>
                              <p:par>
                                <p:cTn id="38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2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8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0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1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7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2" fill="hold">
                      <p:stCondLst>
                        <p:cond delay="indefinite"/>
                      </p:stCondLst>
                      <p:childTnLst>
                        <p:par>
                          <p:cTn id="3883" fill="hold">
                            <p:stCondLst>
                              <p:cond delay="0"/>
                            </p:stCondLst>
                            <p:childTnLst>
                              <p:par>
                                <p:cTn id="388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85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6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7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90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1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2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95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6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7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رْسَل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934320" y="349416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105520" y="3510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اب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19520" y="3505320"/>
            <a:ext cx="205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فرادى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38080" y="35053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990720" y="4511520"/>
            <a:ext cx="701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رف : أي الشعر النابت على عنق الفرس ، وشبه الملائكة وه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تتابع بالوحي كعرف الفرس وهو يجري بتتابعها ويقال جاؤوا كعرف الفر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9" dur="indefinite" restart="never" nodeType="tmRoot">
          <p:childTnLst>
            <p:seq>
              <p:cTn id="3900" dur="indefinite" nodeType="mainSeq">
                <p:childTnLst>
                  <p:par>
                    <p:cTn id="3901" fill="hold">
                      <p:stCondLst>
                        <p:cond delay="0"/>
                      </p:stCondLst>
                      <p:childTnLst>
                        <p:par>
                          <p:cTn id="3902" fill="hold">
                            <p:stCondLst>
                              <p:cond delay="0"/>
                            </p:stCondLst>
                            <p:childTnLst>
                              <p:par>
                                <p:cTn id="3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7" dur="3553" fill="hold"/>
                                        <p:tgtEl>
                                          <p:spTgt spid="8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8" fill="hold">
                      <p:stCondLst>
                        <p:cond delay="indefinite"/>
                      </p:stCondLst>
                      <p:childTnLst>
                        <p:par>
                          <p:cTn id="3909" fill="hold">
                            <p:stCondLst>
                              <p:cond delay="0"/>
                            </p:stCondLst>
                            <p:childTnLst>
                              <p:par>
                                <p:cTn id="3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3" fill="hold">
                            <p:stCondLst>
                              <p:cond delay="500"/>
                            </p:stCondLst>
                            <p:childTnLst>
                              <p:par>
                                <p:cTn id="39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8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7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8" fill="hold">
                      <p:stCondLst>
                        <p:cond delay="indefinite"/>
                      </p:stCondLst>
                      <p:childTnLst>
                        <p:par>
                          <p:cTn id="3929" fill="hold">
                            <p:stCondLst>
                              <p:cond delay="0"/>
                            </p:stCondLst>
                            <p:childTnLst>
                              <p:par>
                                <p:cTn id="39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4" fill="hold">
                            <p:stCondLst>
                              <p:cond delay="0"/>
                            </p:stCondLst>
                            <p:childTnLst>
                              <p:par>
                                <p:cTn id="39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23880" y="19051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تُطِعْ كُلَّ حَلَّافٍ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مَهِي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3809880"/>
            <a:ext cx="132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8098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3809880"/>
            <a:ext cx="1519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ا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8098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5695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533520" y="16765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لْعَاصِفَ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294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507920" y="3505320"/>
            <a:ext cx="200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عة الس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531160" y="3505320"/>
            <a:ext cx="217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شدة الص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4680" y="3505320"/>
            <a:ext cx="216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تراكم الغي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-13320" y="4495680"/>
            <a:ext cx="90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صفا : المراد بالعصف سرعة السير إستعارة من عصف الريح أي سرع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بوبها إشارة إلى سرعة سيرها إلى ما أرسلت إليه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8" dur="indefinite" restart="never" nodeType="tmRoot">
          <p:childTnLst>
            <p:seq>
              <p:cTn id="3939" dur="indefinite" nodeType="mainSeq">
                <p:childTnLst>
                  <p:par>
                    <p:cTn id="3940" fill="hold">
                      <p:stCondLst>
                        <p:cond delay="0"/>
                      </p:stCondLst>
                      <p:childTnLst>
                        <p:par>
                          <p:cTn id="3941" fill="hold">
                            <p:stCondLst>
                              <p:cond delay="0"/>
                            </p:stCondLst>
                            <p:childTnLst>
                              <p:par>
                                <p:cTn id="39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46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8" dur="3396" fill="hold"/>
                                        <p:tgtEl>
                                          <p:spTgt spid="8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0" fill="hold">
                      <p:stCondLst>
                        <p:cond delay="indefinite"/>
                      </p:stCondLst>
                      <p:childTnLst>
                        <p:par>
                          <p:cTn id="3971" fill="hold">
                            <p:stCondLst>
                              <p:cond delay="0"/>
                            </p:stCondLst>
                            <p:childTnLst>
                              <p:par>
                                <p:cTn id="39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6" fill="hold">
                            <p:stCondLst>
                              <p:cond delay="0"/>
                            </p:stCondLst>
                            <p:childTnLst>
                              <p:par>
                                <p:cTn id="3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53352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شْ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429600" y="3048120"/>
            <a:ext cx="1899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676520" y="37339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شرات الصح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76520" y="305280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قلات الكل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676520" y="44197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ملات خبر 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69120" y="52578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الناشرات : أي وقسماً بالملائكة الناشرين لصحف الوح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3"/>
          <a:stretch/>
        </p:blipFill>
        <p:spPr>
          <a:xfrm>
            <a:off x="18288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0" dur="indefinite" restart="never" nodeType="tmRoot">
          <p:childTnLst>
            <p:seq>
              <p:cTn id="3981" dur="indefinite" nodeType="mainSeq">
                <p:childTnLst>
                  <p:par>
                    <p:cTn id="3982" fill="hold">
                      <p:stCondLst>
                        <p:cond delay="0"/>
                      </p:stCondLst>
                      <p:childTnLst>
                        <p:par>
                          <p:cTn id="3983" fill="hold">
                            <p:stCondLst>
                              <p:cond delay="0"/>
                            </p:stCondLst>
                            <p:childTnLst>
                              <p:par>
                                <p:cTn id="39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9" dur="4022" fill="hold"/>
                                        <p:tgtEl>
                                          <p:spTgt spid="8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0" fill="hold">
                      <p:stCondLst>
                        <p:cond delay="indefinite"/>
                      </p:stCondLst>
                      <p:childTnLst>
                        <p:par>
                          <p:cTn id="3991" fill="hold">
                            <p:stCondLst>
                              <p:cond delay="0"/>
                            </p:stCondLst>
                            <p:childTnLst>
                              <p:par>
                                <p:cTn id="3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4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9" fill="hold">
                      <p:stCondLst>
                        <p:cond delay="indefinite"/>
                      </p:stCondLst>
                      <p:childTnLst>
                        <p:par>
                          <p:cTn id="4010" fill="hold">
                            <p:stCondLst>
                              <p:cond delay="0"/>
                            </p:stCondLst>
                            <p:childTnLst>
                              <p:par>
                                <p:cTn id="401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12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3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4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17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8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9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1" fill="hold">
                            <p:stCondLst>
                              <p:cond delay="600"/>
                            </p:stCondLst>
                            <p:childTnLst>
                              <p:par>
                                <p:cTn id="40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3808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رْ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26800" y="3630600"/>
            <a:ext cx="183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952880" y="3630600"/>
            <a:ext cx="1524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رق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71800" y="3630600"/>
            <a:ext cx="167652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تفر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074600" y="3630600"/>
            <a:ext cx="159228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ختلف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7600" y="4687920"/>
            <a:ext cx="86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فارقات : المراد به التفريق بين الحق والباطل وبين الحلال والحر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5" dur="indefinite" restart="never" nodeType="tmRoot">
          <p:childTnLst>
            <p:seq>
              <p:cTn id="4026" dur="indefinite" nodeType="mainSeq">
                <p:childTnLst>
                  <p:par>
                    <p:cTn id="4027" fill="hold">
                      <p:stCondLst>
                        <p:cond delay="0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1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2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3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5" dur="3553" fill="hold"/>
                                        <p:tgtEl>
                                          <p:spTgt spid="8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6" fill="hold">
                      <p:stCondLst>
                        <p:cond delay="indefinite"/>
                      </p:stCondLst>
                      <p:childTnLst>
                        <p:par>
                          <p:cTn id="4037" fill="hold">
                            <p:stCondLst>
                              <p:cond delay="0"/>
                            </p:stCondLst>
                            <p:childTnLst>
                              <p:par>
                                <p:cTn id="40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4" fill="hold">
                            <p:stCondLst>
                              <p:cond delay="500"/>
                            </p:stCondLst>
                            <p:childTnLst>
                              <p:par>
                                <p:cTn id="40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58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9" fill="hold">
                      <p:stCondLst>
                        <p:cond delay="indefinite"/>
                      </p:stCondLst>
                      <p:childTnLst>
                        <p:par>
                          <p:cTn id="4060" fill="hold">
                            <p:stCondLst>
                              <p:cond delay="0"/>
                            </p:stCondLst>
                            <p:childTnLst>
                              <p:par>
                                <p:cTn id="40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5" fill="hold">
                            <p:stCondLst>
                              <p:cond delay="0"/>
                            </p:stCondLst>
                            <p:childTnLst>
                              <p:par>
                                <p:cTn id="4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لنُّجُو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873840" y="3554280"/>
            <a:ext cx="153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143000" y="3554280"/>
            <a:ext cx="163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يَّ أثر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181480" y="355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فج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200400" y="355428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سقط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9" dur="indefinite" restart="never" nodeType="tmRoot">
          <p:childTnLst>
            <p:seq>
              <p:cTn id="4070" dur="indefinite" nodeType="mainSeq">
                <p:childTnLst>
                  <p:par>
                    <p:cTn id="4071" fill="hold">
                      <p:stCondLst>
                        <p:cond delay="0"/>
                      </p:stCondLst>
                      <p:childTnLst>
                        <p:par>
                          <p:cTn id="4072" fill="hold">
                            <p:stCondLst>
                              <p:cond delay="0"/>
                            </p:stCondLst>
                            <p:childTnLst>
                              <p:par>
                                <p:cTn id="40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8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4" dur="3867" fill="hold"/>
                                        <p:tgtEl>
                                          <p:spTgt spid="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5" fill="hold">
                      <p:stCondLst>
                        <p:cond delay="indefinite"/>
                      </p:stCondLst>
                      <p:childTnLst>
                        <p:par>
                          <p:cTn id="4086" fill="hold">
                            <p:stCondLst>
                              <p:cond delay="0"/>
                            </p:stCondLst>
                            <p:childTnLst>
                              <p:par>
                                <p:cTn id="4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0" fill="hold">
                            <p:stCondLst>
                              <p:cond delay="500"/>
                            </p:stCondLst>
                            <p:childTnLst>
                              <p:par>
                                <p:cTn id="409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7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8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9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0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5" fill="hold">
                      <p:stCondLst>
                        <p:cond delay="indefinite"/>
                      </p:stCondLst>
                      <p:childTnLst>
                        <p:par>
                          <p:cTn id="4116" fill="hold">
                            <p:stCondLst>
                              <p:cond delay="0"/>
                            </p:stCondLst>
                            <p:childTnLst>
                              <p:par>
                                <p:cTn id="411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18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9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0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23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4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5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2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28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9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0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سَّمَاء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69880" y="3510000"/>
            <a:ext cx="131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200400" y="350532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ش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0292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فع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2952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نسف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2" dur="indefinite" restart="never" nodeType="tmRoot">
          <p:childTnLst>
            <p:seq>
              <p:cTn id="4133" dur="indefinite" nodeType="mainSeq">
                <p:childTnLst>
                  <p:par>
                    <p:cTn id="4134" fill="hold">
                      <p:stCondLst>
                        <p:cond delay="0"/>
                      </p:stCondLst>
                      <p:childTnLst>
                        <p:par>
                          <p:cTn id="4135" fill="hold">
                            <p:stCondLst>
                              <p:cond delay="0"/>
                            </p:stCondLst>
                            <p:childTnLst>
                              <p:par>
                                <p:cTn id="4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1" dur="4494" fill="hold"/>
                                        <p:tgtEl>
                                          <p:spTgt spid="8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2" fill="hold">
                      <p:stCondLst>
                        <p:cond delay="indefinite"/>
                      </p:stCondLst>
                      <p:childTnLst>
                        <p:par>
                          <p:cTn id="4143" fill="hold">
                            <p:stCondLst>
                              <p:cond delay="0"/>
                            </p:stCondLst>
                            <p:childTnLst>
                              <p:par>
                                <p:cTn id="41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9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0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4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5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1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5" fill="hold">
                      <p:stCondLst>
                        <p:cond delay="indefinite"/>
                      </p:stCondLst>
                      <p:childTnLst>
                        <p:par>
                          <p:cTn id="4176" fill="hold">
                            <p:stCondLst>
                              <p:cond delay="0"/>
                            </p:stCondLst>
                            <p:childTnLst>
                              <p:par>
                                <p:cTn id="4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4572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رُّسُ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238880" y="3357720"/>
            <a:ext cx="106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768560" y="3352680"/>
            <a:ext cx="243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جع بها الوق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3352680"/>
            <a:ext cx="2028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ن ل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3357720"/>
            <a:ext cx="2025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ر ب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037880" y="4687920"/>
            <a:ext cx="70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عين لها الوقت الذي تحضر فيه للشهادة على الأمم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3" dur="indefinite" restart="never" nodeType="tmRoot">
          <p:childTnLst>
            <p:seq>
              <p:cTn id="4184" dur="indefinite" nodeType="mainSeq">
                <p:childTnLst>
                  <p:par>
                    <p:cTn id="4185" fill="hold">
                      <p:stCondLst>
                        <p:cond delay="0"/>
                      </p:stCondLst>
                      <p:childTnLst>
                        <p:par>
                          <p:cTn id="4186" fill="hold">
                            <p:stCondLst>
                              <p:cond delay="0"/>
                            </p:stCondLst>
                            <p:childTnLst>
                              <p:par>
                                <p:cTn id="41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91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3" dur="3396" fill="hold"/>
                                        <p:tgtEl>
                                          <p:spTgt spid="8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4" fill="hold">
                      <p:stCondLst>
                        <p:cond delay="indefinite"/>
                      </p:stCondLst>
                      <p:childTnLst>
                        <p:par>
                          <p:cTn id="4195" fill="hold">
                            <p:stCondLst>
                              <p:cond delay="0"/>
                            </p:stCondLst>
                            <p:childTnLst>
                              <p:par>
                                <p:cTn id="41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8" dur="8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9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0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1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3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4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5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6" dur="5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0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1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8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9" fill="hold">
                      <p:stCondLst>
                        <p:cond delay="indefinite"/>
                      </p:stCondLst>
                      <p:childTnLst>
                        <p:par>
                          <p:cTn id="4230" fill="hold">
                            <p:stCondLst>
                              <p:cond delay="0"/>
                            </p:stCondLst>
                            <p:childTnLst>
                              <p:par>
                                <p:cTn id="42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9" fill="hold">
                            <p:stCondLst>
                              <p:cond delay="0"/>
                            </p:stCondLst>
                            <p:childTnLst>
                              <p:par>
                                <p:cTn id="4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2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3808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خْلُقْكُمْ مِنْ مَاء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جَعَلْنَاهُ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 مَكِين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41958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ٍ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029200" y="4191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يقٍ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41911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كن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3433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ر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124080" y="342900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066680" y="34290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جه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914400" y="50292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رار مكين المراد به المكان المتمكن من حماية النطفة وحفظها من الضياع والفساد والمقصود به رحم ال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5720" y="263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029200" y="2655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تلط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124080" y="26398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66680" y="263988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ر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3"/>
          <a:stretch/>
        </p:blipFill>
        <p:spPr>
          <a:xfrm>
            <a:off x="83808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3" dur="indefinite" restart="never" nodeType="tmRoot">
          <p:childTnLst>
            <p:seq>
              <p:cTn id="4244" dur="indefinite" nodeType="mainSeq">
                <p:childTnLst>
                  <p:par>
                    <p:cTn id="4245" fill="hold">
                      <p:stCondLst>
                        <p:cond delay="0"/>
                      </p:stCondLst>
                      <p:childTnLst>
                        <p:par>
                          <p:cTn id="4246" fill="hold">
                            <p:stCondLst>
                              <p:cond delay="0"/>
                            </p:stCondLst>
                            <p:childTnLst>
                              <p:par>
                                <p:cTn id="42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1" dur="14054" fill="hold"/>
                                        <p:tgtEl>
                                          <p:spTgt spid="8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2" fill="hold">
                      <p:stCondLst>
                        <p:cond delay="indefinite"/>
                      </p:stCondLst>
                      <p:childTnLst>
                        <p:par>
                          <p:cTn id="4253" fill="hold">
                            <p:stCondLst>
                              <p:cond delay="0"/>
                            </p:stCondLst>
                            <p:childTnLst>
                              <p:par>
                                <p:cTn id="42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58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4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5" fill="hold">
                      <p:stCondLst>
                        <p:cond delay="indefinite"/>
                      </p:stCondLst>
                      <p:childTnLst>
                        <p:par>
                          <p:cTn id="4276" fill="hold">
                            <p:stCondLst>
                              <p:cond delay="0"/>
                            </p:stCondLst>
                            <p:childTnLst>
                              <p:par>
                                <p:cTn id="4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1" fill="hold">
                            <p:stCondLst>
                              <p:cond delay="0"/>
                            </p:stCondLst>
                            <p:childTnLst>
                              <p:par>
                                <p:cTn id="4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5" fill="hold">
                            <p:stCondLst>
                              <p:cond delay="500"/>
                            </p:stCondLst>
                            <p:childTnLst>
                              <p:par>
                                <p:cTn id="42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2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6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7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8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9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0" fill="hold">
                      <p:stCondLst>
                        <p:cond delay="indefinite"/>
                      </p:stCondLst>
                      <p:childTnLst>
                        <p:par>
                          <p:cTn id="4301" fill="hold">
                            <p:stCondLst>
                              <p:cond delay="0"/>
                            </p:stCondLst>
                            <p:childTnLst>
                              <p:par>
                                <p:cTn id="430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3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4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5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8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9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0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4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8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9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2" fill="hold">
                      <p:stCondLst>
                        <p:cond delay="indefinite"/>
                      </p:stCondLst>
                      <p:childTnLst>
                        <p:par>
                          <p:cTn id="4333" fill="hold">
                            <p:stCondLst>
                              <p:cond delay="0"/>
                            </p:stCondLst>
                            <p:childTnLst>
                              <p:par>
                                <p:cTn id="43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8" fill="hold">
                            <p:stCondLst>
                              <p:cond delay="0"/>
                            </p:stCondLst>
                            <p:childTnLst>
                              <p:par>
                                <p:cTn id="4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جْعَلِ الْأَرْض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086600" y="33256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181480" y="3325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24080" y="33256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متوازنة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914400" y="332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720" y="4459320"/>
            <a:ext cx="90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إن الله سبحانه وتعالى جعل الأرض أوعية تجمع الأحياء والأمو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2" dur="indefinite" restart="never" nodeType="tmRoot">
          <p:childTnLst>
            <p:seq>
              <p:cTn id="4343" dur="indefinite" nodeType="mainSeq">
                <p:childTnLst>
                  <p:par>
                    <p:cTn id="4344" fill="hold">
                      <p:stCondLst>
                        <p:cond delay="0"/>
                      </p:stCondLst>
                      <p:childTnLst>
                        <p:par>
                          <p:cTn id="4345" fill="hold">
                            <p:stCondLst>
                              <p:cond delay="0"/>
                            </p:stCondLst>
                            <p:childTnLst>
                              <p:par>
                                <p:cTn id="43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50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2" dur="4859" fill="hold"/>
                                        <p:tgtEl>
                                          <p:spTgt spid="9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3" fill="hold">
                      <p:stCondLst>
                        <p:cond delay="indefinite"/>
                      </p:stCondLst>
                      <p:childTnLst>
                        <p:par>
                          <p:cTn id="4354" fill="hold">
                            <p:stCondLst>
                              <p:cond delay="0"/>
                            </p:stCondLst>
                            <p:childTnLst>
                              <p:par>
                                <p:cTn id="4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7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8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9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6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2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3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4" fill="hold">
                      <p:stCondLst>
                        <p:cond delay="indefinite"/>
                      </p:stCondLst>
                      <p:childTnLst>
                        <p:par>
                          <p:cTn id="4375" fill="hold">
                            <p:stCondLst>
                              <p:cond delay="0"/>
                            </p:stCondLst>
                            <p:childTnLst>
                              <p:par>
                                <p:cTn id="437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77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8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9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8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82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3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4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6" fill="hold">
                            <p:stCondLst>
                              <p:cond delay="320"/>
                            </p:stCondLst>
                            <p:childTnLst>
                              <p:par>
                                <p:cTn id="4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53352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عَلْنَا فِيهَا رَوَاس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سْقَيْنَاك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744960" y="3433680"/>
            <a:ext cx="164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58000" y="44686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895480" y="3429000"/>
            <a:ext cx="1617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800600" y="3433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بيرا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838080" y="3429000"/>
            <a:ext cx="1752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تساو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800600" y="4468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895480" y="4468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بار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838080" y="4468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طي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0" dur="indefinite" restart="never" nodeType="tmRoot">
          <p:childTnLst>
            <p:seq>
              <p:cTn id="4391" dur="indefinite" nodeType="mainSeq">
                <p:childTnLst>
                  <p:par>
                    <p:cTn id="4392" fill="hold">
                      <p:stCondLst>
                        <p:cond delay="0"/>
                      </p:stCondLst>
                      <p:childTnLst>
                        <p:par>
                          <p:cTn id="4393" fill="hold">
                            <p:stCondLst>
                              <p:cond delay="0"/>
                            </p:stCondLst>
                            <p:childTnLst>
                              <p:par>
                                <p:cTn id="43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6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8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0" dur="14368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1" fill="hold">
                      <p:stCondLst>
                        <p:cond delay="indefinite"/>
                      </p:stCondLst>
                      <p:childTnLst>
                        <p:par>
                          <p:cTn id="4402" fill="hold">
                            <p:stCondLst>
                              <p:cond delay="0"/>
                            </p:stCondLst>
                            <p:childTnLst>
                              <p:par>
                                <p:cTn id="4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4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9" dur="8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0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1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2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7" fill="hold">
                      <p:stCondLst>
                        <p:cond delay="indefinite"/>
                      </p:stCondLst>
                      <p:childTnLst>
                        <p:par>
                          <p:cTn id="4428" fill="hold">
                            <p:stCondLst>
                              <p:cond delay="0"/>
                            </p:stCondLst>
                            <p:childTnLst>
                              <p:par>
                                <p:cTn id="44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0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1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32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41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5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6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7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4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9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4" dur="1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9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6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7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8" fill="hold">
                      <p:stCondLst>
                        <p:cond delay="indefinite"/>
                      </p:stCondLst>
                      <p:childTnLst>
                        <p:par>
                          <p:cTn id="4479" fill="hold">
                            <p:stCondLst>
                              <p:cond delay="0"/>
                            </p:stCondLst>
                            <p:childTnLst>
                              <p:par>
                                <p:cTn id="448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81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2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3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86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7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8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8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91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2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3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9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96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7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8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9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َا تَرْمِي بِشَرَر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629400" y="3554280"/>
            <a:ext cx="1405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362320" y="4348080"/>
            <a:ext cx="360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جمر المتطا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362320" y="3554280"/>
            <a:ext cx="36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حصى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362320" y="51814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بناء الضخ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0" dur="indefinite" restart="never" nodeType="tmRoot">
          <p:childTnLst>
            <p:seq>
              <p:cTn id="4501" dur="indefinite" nodeType="mainSeq">
                <p:childTnLst>
                  <p:par>
                    <p:cTn id="4502" fill="hold">
                      <p:stCondLst>
                        <p:cond delay="0"/>
                      </p:stCondLst>
                      <p:childTnLst>
                        <p:par>
                          <p:cTn id="4503" fill="hold">
                            <p:stCondLst>
                              <p:cond delay="0"/>
                            </p:stCondLst>
                            <p:childTnLst>
                              <p:par>
                                <p:cTn id="45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6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08" dur="6792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9" fill="hold">
                      <p:stCondLst>
                        <p:cond delay="indefinite"/>
                      </p:stCondLst>
                      <p:childTnLst>
                        <p:par>
                          <p:cTn id="4510" fill="hold">
                            <p:stCondLst>
                              <p:cond delay="0"/>
                            </p:stCondLst>
                            <p:childTnLst>
                              <p:par>
                                <p:cTn id="4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3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5" fill="hold">
                            <p:stCondLst>
                              <p:cond delay="500"/>
                            </p:stCondLst>
                            <p:childTnLst>
                              <p:par>
                                <p:cTn id="45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1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5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6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7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8" fill="hold">
                            <p:stCondLst>
                              <p:cond delay="1600"/>
                            </p:stCondLst>
                            <p:childTnLst>
                              <p:par>
                                <p:cTn id="45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33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4" fill="hold">
                      <p:stCondLst>
                        <p:cond delay="indefinite"/>
                      </p:stCondLst>
                      <p:childTnLst>
                        <p:par>
                          <p:cTn id="4535" fill="hold">
                            <p:stCondLst>
                              <p:cond delay="0"/>
                            </p:stCondLst>
                            <p:childTnLst>
                              <p:par>
                                <p:cTn id="45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380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مَشَّاءٍ بِنَم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5146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4724280"/>
            <a:ext cx="10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نَم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3962520"/>
            <a:ext cx="109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شَّاء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06720" y="251460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َّ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36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حدي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396252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ع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2514600"/>
            <a:ext cx="1575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كك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514600"/>
            <a:ext cx="1519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3967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ا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962520"/>
            <a:ext cx="15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نق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7242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قول الز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724280"/>
            <a:ext cx="1629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1960" y="3276720"/>
            <a:ext cx="65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ماز معناه من يشير إلى عيوب الناس ويطعن فيه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760" y="5486400"/>
            <a:ext cx="90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شاء بنميم أي الشخص الذي يمشي بين الناس بإيجاد الإفساد والفرق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4197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783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3808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صُفْ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93432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934320" y="4195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ُفْر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048120" y="3173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05520" y="3173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واب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066680" y="3173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ي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105520" y="41958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 اص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048120" y="41911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خائف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066680" y="41958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ئ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0" dur="indefinite" restart="never" nodeType="tmRoot">
          <p:childTnLst>
            <p:seq>
              <p:cTn id="4541" dur="indefinite" nodeType="mainSeq">
                <p:childTnLst>
                  <p:par>
                    <p:cTn id="4542" fill="hold">
                      <p:stCondLst>
                        <p:cond delay="0"/>
                      </p:stCondLst>
                      <p:childTnLst>
                        <p:par>
                          <p:cTn id="4543" fill="hold">
                            <p:stCondLst>
                              <p:cond delay="0"/>
                            </p:stCondLst>
                            <p:childTnLst>
                              <p:par>
                                <p:cTn id="45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9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5" dur="5225" fill="hold"/>
                                        <p:tgtEl>
                                          <p:spTgt spid="9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6" fill="hold">
                      <p:stCondLst>
                        <p:cond delay="indefinite"/>
                      </p:stCondLst>
                      <p:childTnLst>
                        <p:par>
                          <p:cTn id="4557" fill="hold">
                            <p:stCondLst>
                              <p:cond delay="0"/>
                            </p:stCondLst>
                            <p:childTnLst>
                              <p:par>
                                <p:cTn id="45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0" dur="8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1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2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3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9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0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1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0" fill="hold">
                      <p:stCondLst>
                        <p:cond delay="indefinite"/>
                      </p:stCondLst>
                      <p:childTnLst>
                        <p:par>
                          <p:cTn id="4581" fill="hold">
                            <p:stCondLst>
                              <p:cond delay="0"/>
                            </p:stCondLst>
                            <p:childTnLst>
                              <p:par>
                                <p:cTn id="458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8" fill="hold">
                            <p:stCondLst>
                              <p:cond delay="500"/>
                            </p:stCondLst>
                            <p:childTnLst>
                              <p:par>
                                <p:cTn id="45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1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2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3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8" dur="8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9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0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1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5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09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1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3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4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6" fill="hold">
                      <p:stCondLst>
                        <p:cond delay="indefinite"/>
                      </p:stCondLst>
                      <p:childTnLst>
                        <p:par>
                          <p:cTn id="4617" fill="hold">
                            <p:stCondLst>
                              <p:cond delay="0"/>
                            </p:stCondLst>
                            <p:childTnLst>
                              <p:par>
                                <p:cTn id="461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19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0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1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24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5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6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3520" y="1600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بَعْدَ ذَل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3276720"/>
            <a:ext cx="137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426708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3276720"/>
            <a:ext cx="183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ظ غلي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32767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2560" y="3276720"/>
            <a:ext cx="216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 عن ال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4267080"/>
            <a:ext cx="180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أصل 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4267080"/>
            <a:ext cx="181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42670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512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80"/>
                            </p:stCondLst>
                            <p:childTnLst>
                              <p:par>
                                <p:cTn id="4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280"/>
                            </p:stCondLst>
                            <p:childTnLst>
                              <p:par>
                                <p:cTn id="4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780"/>
                            </p:stCondLst>
                            <p:childTnLst>
                              <p:par>
                                <p:cTn id="5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8:09Z</dcterms:created>
  <dc:creator/>
  <dc:description/>
  <dc:language>en-US</dc:language>
  <cp:lastModifiedBy>ALI</cp:lastModifiedBy>
  <dcterms:modified xsi:type="dcterms:W3CDTF">2008-09-21T07:17:00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