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B147-CEDC-4C22-BBB1-F4F0C2C0C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5629-E21E-458B-B4BB-A38426B7F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9F4A-D61E-4387-8D87-818B6B9C3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A0D8-D332-49A6-A340-ECFCACE3E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D22D8-1983-4D89-BD96-6F29924D7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5D446-2AF8-4CF9-A10C-B54A3840C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81466-BE34-455E-9C9D-B54F96250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F45CC-8092-4D7F-A854-8142B527A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7A9EF-3D1A-4080-B669-ADB0AC701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EC822-01BC-4D0B-86B4-81B8651D2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03B03-D487-4D0C-8069-898170C51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561D-5527-49B4-914E-CB6389A93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554A1-91B8-4784-BEB3-70275BB83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705A6-E8CB-4F30-AFD2-F014CB92C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C77DB-3B62-46B3-AFB5-118A169C5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FE71E-83D1-4C5C-8699-CCC353685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69E6A-1106-4257-A946-1E9FCFE63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2EC8-6F57-4CF6-94F6-E72F8C599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0E30-D0B0-4D3B-AF86-B1217AA60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69CF-ACB7-40D4-9AC3-14D2D7E0C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63F7-AC3B-47CB-BB6A-0264D5E02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A46F-16C9-407A-9768-7018EB915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A9FE-25FC-4100-8ED7-D9FEB013C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2FB1-34BB-4252-B558-F3B95A5E1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01A9E-540A-43E2-B799-6F08C45EBFF5}" type="slidenum">
              <a:rPr b="0" lang="ar-SA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14D0E-D5F6-4905-BD04-5417131E775D}" type="slidenum">
              <a:rPr b="0" lang="ar-SA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296280" cy="56386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 rot="16200000">
            <a:off x="4038480" y="-4038480"/>
            <a:ext cx="1219320" cy="9296280"/>
          </a:xfrm>
          <a:prstGeom prst="flowChartDelay">
            <a:avLst/>
          </a:prstGeom>
          <a:gradFill rotWithShape="0">
            <a:gsLst>
              <a:gs pos="0">
                <a:srgbClr val="000000"/>
              </a:gs>
              <a:gs pos="100000">
                <a:srgbClr val="4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ar-LB" sz="2800" spc="-1" strike="noStrike">
                <a:solidFill>
                  <a:srgbClr val="ffffff"/>
                </a:solidFill>
                <a:latin typeface="Arial"/>
                <a:cs typeface="Arial"/>
              </a:rPr>
              <a:t>باب الصل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cs typeface="Arial"/>
              </a:rPr>
              <a:t>وَالَّذِينَ يَصِلُونَ مَا أَمَرَ اللَّهُ بِهِ أَنْ يُوصَل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609588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  <a:cs typeface="Arial"/>
              </a:rPr>
              <a:t>إضغط الماوس لبدء العرض</a:t>
            </a:r>
            <a:r>
              <a:rPr b="1" lang="ar-LB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64450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  <a:cs typeface="Arial"/>
              </a:rPr>
              <a:t>لظهور الاحتمالات إضغط الماوس بعد إنتهاء الآية             و لمعرفة الاحتمال الصحيح إضغط الماوس مرة ثا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-457200" y="-2286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762120" y="1523880"/>
            <a:ext cx="7315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الْمُؤْتَفِكَةَ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أَهْوَى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غَشَّاهَا مَا غَشَّى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نجم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3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0" y="3429000"/>
            <a:ext cx="1233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أَهْوَى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800600" y="3429000"/>
            <a:ext cx="1689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ح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895480" y="34290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سق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066680" y="3429000"/>
            <a:ext cx="1528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هد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14400" y="4724280"/>
            <a:ext cx="711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مقصود بالمؤتفكة هم القرى المنقلبة عن الإيمان ،اللهُ سبحانه أسقط قراهم وخسفها إلى الأرض بقلبها وشملها وأحاط بها من العذاب ما شملها وأحاط بها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419720" y="2743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4" dur="6531" fill="hold"/>
                                        <p:tgtEl>
                                          <p:spTgt spid="1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2000"/>
                            </p:stCondLst>
                            <p:childTnLst>
                              <p:par>
                                <p:cTn id="47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6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8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8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500"/>
                            </p:stCondLst>
                            <p:childTnLst>
                              <p:par>
                                <p:cTn id="4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838080" y="1981080"/>
            <a:ext cx="723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بِأَيِّ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آلاءِ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رَبِّكَ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تَتَمَارَى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نج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705720" y="3352680"/>
            <a:ext cx="1488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آلاء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705720" y="4343400"/>
            <a:ext cx="1490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تَتَمَارَى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3352680"/>
            <a:ext cx="1608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ِع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724280" y="3352680"/>
            <a:ext cx="1725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سم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95480" y="3352680"/>
            <a:ext cx="1584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در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724280" y="4343400"/>
            <a:ext cx="1662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شك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95480" y="4343400"/>
            <a:ext cx="1608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ستهز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066680" y="4343400"/>
            <a:ext cx="1557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كذ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4343400" y="2819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9" dur="5591" fill="hold"/>
                                        <p:tgtEl>
                                          <p:spTgt spid="2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500"/>
                            </p:stCondLst>
                            <p:childTnLst>
                              <p:par>
                                <p:cTn id="510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1000"/>
                            </p:stCondLst>
                            <p:childTnLst>
                              <p:par>
                                <p:cTn id="51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1500"/>
                            </p:stCondLst>
                            <p:childTnLst>
                              <p:par>
                                <p:cTn id="5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528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9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0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533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4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5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240"/>
                            </p:stCondLst>
                            <p:childTnLst>
                              <p:par>
                                <p:cTn id="5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0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1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2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720"/>
                            </p:stCondLst>
                            <p:childTnLst>
                              <p:par>
                                <p:cTn id="54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220"/>
                            </p:stCondLst>
                            <p:childTnLst>
                              <p:par>
                                <p:cTn id="54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1720"/>
                            </p:stCondLst>
                            <p:childTnLst>
                              <p:par>
                                <p:cTn id="5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559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0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1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564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5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6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609480" y="205740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أَنْتُمْ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سَامِد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نج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692400" y="3505320"/>
            <a:ext cx="1593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سَامِدُون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505320"/>
            <a:ext cx="1692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اه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952880" y="3505320"/>
            <a:ext cx="16002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تكبر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990720" y="3505320"/>
            <a:ext cx="1698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اجدون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4495680" y="2743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0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0" dur="3396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500"/>
                            </p:stCondLst>
                            <p:childTnLst>
                              <p:par>
                                <p:cTn id="587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1000"/>
                            </p:stCondLst>
                            <p:childTnLst>
                              <p:par>
                                <p:cTn id="59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1500"/>
                            </p:stCondLst>
                            <p:childTnLst>
                              <p:par>
                                <p:cTn id="5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605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6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7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610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1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2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762120" y="182880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كَذَّبُوا وَاتَّبَعُوا أَهْوَاءَهُمْ وَكُلُّ أَمْرٍ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سْتَقِرٌّ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قم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0" y="3581280"/>
            <a:ext cx="12254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سْتَقِرّ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029200" y="3581280"/>
            <a:ext cx="1465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ثاب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00400" y="3581280"/>
            <a:ext cx="1486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و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295280" y="3581280"/>
            <a:ext cx="1533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جهو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62120" y="4495680"/>
            <a:ext cx="73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معنى أنهم كذَّبوا الحقَّ ومعجزاته واتبَّعوا رغباتهم ، والمراد أن كل الأمور والأعمال ثابتة وكل عمل وأمر سيذهب إلى مستقره ويُعلم إذا كان حقٌ أو باطل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0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2" dur="1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4" dur="10449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500"/>
                            </p:stCondLst>
                            <p:childTnLst>
                              <p:par>
                                <p:cTn id="63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1000"/>
                            </p:stCondLst>
                            <p:childTnLst>
                              <p:par>
                                <p:cTn id="6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1500"/>
                            </p:stCondLst>
                            <p:childTnLst>
                              <p:par>
                                <p:cTn id="64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2000"/>
                            </p:stCondLst>
                            <p:childTnLst>
                              <p:par>
                                <p:cTn id="651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660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1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2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4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665" dur="8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6" dur="8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7" dur="8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670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1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2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240"/>
                            </p:stCondLst>
                            <p:childTnLst>
                              <p:par>
                                <p:cTn id="6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609480" y="21337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لَقَدْ جَاءَهُمْ مِنَ الْأَنْبَاءِ مَا فِيهِ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زْدَجَرٌ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    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قم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781680" y="3657600"/>
            <a:ext cx="12621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زْدَجَرٌ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048120" y="365760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تع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952880" y="3657600"/>
            <a:ext cx="1546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كمة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219320" y="3657600"/>
            <a:ext cx="155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مر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0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8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8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8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8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1" dur="9405" fill="hold"/>
                                        <p:tgtEl>
                                          <p:spTgt spid="2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500"/>
                            </p:stCondLst>
                            <p:childTnLst>
                              <p:par>
                                <p:cTn id="6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1000"/>
                            </p:stCondLst>
                            <p:childTnLst>
                              <p:par>
                                <p:cTn id="70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0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2000"/>
                            </p:stCondLst>
                            <p:childTnLst>
                              <p:par>
                                <p:cTn id="70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85800" y="19810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حَمَلْنَاهُ عَلَى ذَاتِ أَلْوَاحٍ و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َدُسُر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م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3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705720" y="3581280"/>
            <a:ext cx="1479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َدُسُر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952880" y="3581280"/>
            <a:ext cx="1460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ام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124080" y="3581280"/>
            <a:ext cx="1536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وامي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19320" y="3581280"/>
            <a:ext cx="1593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خيط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0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25" dur="1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7" dur="5382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500"/>
                            </p:stCondLst>
                            <p:childTnLst>
                              <p:par>
                                <p:cTn id="73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1000"/>
                            </p:stCondLst>
                            <p:childTnLst>
                              <p:par>
                                <p:cTn id="74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1500"/>
                            </p:stCondLst>
                            <p:childTnLst>
                              <p:par>
                                <p:cTn id="7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685800" y="20574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تَنْزِعُ النَّاسَ كَأَنَّهُمْ أَعْجَازُ نَخْلٍ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نْقَعِر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م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0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0" y="3581280"/>
            <a:ext cx="1328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نْقَعِر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895480" y="3581280"/>
            <a:ext cx="1685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قلو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952880" y="3581280"/>
            <a:ext cx="1587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كسو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914400" y="3581280"/>
            <a:ext cx="1654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تجذ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0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1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3" dur="7889" fill="hold"/>
                                        <p:tgtEl>
                                          <p:spTgt spid="2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7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6" dur="8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7" dur="8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8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8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2000"/>
                            </p:stCondLst>
                            <p:childTnLst>
                              <p:par>
                                <p:cTn id="783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87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92" dur="1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796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7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8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801" dur="8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2" dur="8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3" dur="8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5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806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7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8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685800" y="205740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أَأُلْقِيَ الذِّكْرُ عَلَيْهِ مِنْ بَيْنِنَا بَلْ هُوَ كَذَّابٌ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ea typeface="Arial"/>
              </a:rPr>
              <a:t> أَشِر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قم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3505320"/>
            <a:ext cx="1359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أَشِرٌ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800600" y="35053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تكَّبر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971800" y="35053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حتال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066680" y="3505320"/>
            <a:ext cx="1625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جن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0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6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8" dur="7210" fill="hold"/>
                                        <p:tgtEl>
                                          <p:spTgt spid="2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500"/>
                            </p:stCondLst>
                            <p:childTnLst>
                              <p:par>
                                <p:cTn id="8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1000"/>
                            </p:stCondLst>
                            <p:childTnLst>
                              <p:par>
                                <p:cTn id="8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1500"/>
                            </p:stCondLst>
                            <p:childTnLst>
                              <p:par>
                                <p:cTn id="83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914400" y="1219320"/>
            <a:ext cx="716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نَبِّئْهُمْ أَنَّ الْمَاءَ قِسْمَةٌ بَيْنَهُمْ كُلُّ شِرْبٍ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حْتَضَر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قم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400800" y="2743200"/>
            <a:ext cx="1662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حْتَضَرٌ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905120" y="4267080"/>
            <a:ext cx="39765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حضره أهله لا يحضر سواه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905120" y="2743200"/>
            <a:ext cx="3943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أتي شربهم لعنده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905120" y="3505320"/>
            <a:ext cx="3965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وزع بالتساوي لكل النا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3352680" y="23623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62120" y="502920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المراد أن الماء قسمةٌ بينهم وبين الناقة وكل قوم لهم حصتهم ونصيبهم من الماء ولا يحق لأحد آخر الحضور والشرب منها وكلٌ يذهب حيث نصيبه من الشرب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fill="hold">
                      <p:stCondLst>
                        <p:cond delay="0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5" dur="11390" fill="hold"/>
                                        <p:tgtEl>
                                          <p:spTgt spid="2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500"/>
                            </p:stCondLst>
                            <p:childTnLst>
                              <p:par>
                                <p:cTn id="86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1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1500"/>
                            </p:stCondLst>
                            <p:childTnLst>
                              <p:par>
                                <p:cTn id="87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5" dur="8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6" dur="8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8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8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4" dur="10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86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8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9" dur="1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1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1" dur="1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3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4" dur="10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685800" y="175248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نَّا أَرْسَلْنَا عَلَيْهِمْ صَيْحَةً وَاحِدَةً فَكَانُوا كَهَشِيمِ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مُحْتَظِر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م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868440" y="3505320"/>
            <a:ext cx="1616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مُحْتَظِر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62120" y="3505320"/>
            <a:ext cx="20574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صاحب الحظي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05520" y="3505320"/>
            <a:ext cx="17636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صاحب الغن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971800" y="3505320"/>
            <a:ext cx="19810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علف الياب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838080" y="458784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معنى أنهم أصبحوا بعد الصيحة كالشجرالمتكسر والنبات اليابس ونحوه مما يجمعه صاحب الحظيرة لماشيته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fill="hold">
                      <p:stCondLst>
                        <p:cond delay="0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8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0" dur="11390" fill="hold"/>
                                        <p:tgtEl>
                                          <p:spTgt spid="2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5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6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7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600"/>
                            </p:stCondLst>
                            <p:childTnLst>
                              <p:par>
                                <p:cTn id="91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23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1600"/>
                            </p:stCondLst>
                            <p:childTnLst>
                              <p:par>
                                <p:cTn id="9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2100"/>
                            </p:stCondLst>
                            <p:childTnLst>
                              <p:par>
                                <p:cTn id="92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1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2600"/>
                            </p:stCondLst>
                            <p:childTnLst>
                              <p:par>
                                <p:cTn id="93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0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2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33520" y="17524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أَمْ تَسْأَلُهُمْ أَجْراً فَهُمْ مِنْ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غْرَمٍ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مُثْقَل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طو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0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0" y="3505320"/>
            <a:ext cx="1268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غْرَم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505320"/>
            <a:ext cx="1656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د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5520" y="35053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43000" y="3505320"/>
            <a:ext cx="1654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ع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7576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609480" y="20574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ِي مَقْعَدِ صِدْقٍ عِنْدَ مَلِيكٍ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قْتَدِر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م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934320" y="3657600"/>
            <a:ext cx="1385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قْتَدِر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657600"/>
            <a:ext cx="16034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ظيم القد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800600" y="3657600"/>
            <a:ext cx="17636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ظيم العف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53040" y="3657600"/>
            <a:ext cx="2183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اسع المغف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8" dur="indefinite" restart="never" nodeType="tmRoot">
          <p:childTnLst>
            <p:seq>
              <p:cTn id="949" dur="indefinite" nodeType="mainSeq">
                <p:childTnLst>
                  <p:par>
                    <p:cTn id="950" fill="hold">
                      <p:stCondLst>
                        <p:cond delay="0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57" dur="6165" fill="hold"/>
                                        <p:tgtEl>
                                          <p:spTgt spid="2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2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3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4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480"/>
                            </p:stCondLst>
                            <p:childTnLst>
                              <p:par>
                                <p:cTn id="96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8" dur="8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9" dur="8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8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8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6" dur="8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7" dur="8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8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8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1480"/>
                            </p:stCondLst>
                            <p:childTnLst>
                              <p:par>
                                <p:cTn id="98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1980"/>
                            </p:stCondLst>
                            <p:childTnLst>
                              <p:par>
                                <p:cTn id="99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6" dur="1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1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98" dur="1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1" dur="10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10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03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5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6" dur="10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10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08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457200" y="20574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الشَّمْسُ وَالْقَمَرُ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بِحُسْبَان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895480" y="3733920"/>
            <a:ext cx="1755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حسا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934320" y="3733920"/>
            <a:ext cx="13636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بِحُسْبَان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029200" y="3733920"/>
            <a:ext cx="1616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ميز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38080" y="3733920"/>
            <a:ext cx="1752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السم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0" dur="indefinite" restart="never" nodeType="tmRoot">
          <p:childTnLst>
            <p:seq>
              <p:cTn id="1011" dur="indefinite" nodeType="mainSeq">
                <p:childTnLst>
                  <p:par>
                    <p:cTn id="1012" fill="hold">
                      <p:stCondLst>
                        <p:cond delay="0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18" dur="10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0" dur="4075" fill="hold"/>
                                        <p:tgtEl>
                                          <p:spTgt spid="3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500"/>
                            </p:stCondLst>
                            <p:childTnLst>
                              <p:par>
                                <p:cTn id="103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3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5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533520" y="17524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ِيهَا فَاكِهَةٌ وَالنَّخْلُ ذَاتُ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أَكْمَام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902280" y="3505320"/>
            <a:ext cx="14036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أَكْمَام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876920" y="3505320"/>
            <a:ext cx="1904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وعية الثم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895480" y="350532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ثمار البل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43680" y="3505320"/>
            <a:ext cx="2300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اوراق الكبي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0" dur="indefinite" restart="never" nodeType="tmRoot">
          <p:childTnLst>
            <p:seq>
              <p:cTn id="1051" dur="indefinite" nodeType="mainSeq">
                <p:childTnLst>
                  <p:par>
                    <p:cTn id="1052" fill="hold">
                      <p:stCondLst>
                        <p:cond delay="0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10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8" dur="10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0" dur="6270" fill="hold"/>
                                        <p:tgtEl>
                                          <p:spTgt spid="3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500"/>
                            </p:stCondLst>
                            <p:childTnLst>
                              <p:par>
                                <p:cTn id="10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0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1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2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fill="hold">
                            <p:stCondLst>
                              <p:cond delay="940"/>
                            </p:stCondLst>
                            <p:childTnLst>
                              <p:par>
                                <p:cTn id="107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8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7" dur="8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8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8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8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5" dur="8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8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8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1940"/>
                            </p:stCondLst>
                            <p:childTnLst>
                              <p:par>
                                <p:cTn id="109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0" dur="10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10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02" dur="10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4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5" dur="1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1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07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9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1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1066680" y="1676520"/>
            <a:ext cx="701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الْحَبُّ ذُو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ea typeface="Arial"/>
              </a:rPr>
              <a:t> الْعَصْفِ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الرَّيْحَانُ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934320" y="3276720"/>
            <a:ext cx="13348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عَصْف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895480" y="3276720"/>
            <a:ext cx="1710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قش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952880" y="3276720"/>
            <a:ext cx="1733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نوا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990720" y="3276720"/>
            <a:ext cx="1676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ألو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133720" y="4572000"/>
            <a:ext cx="420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أي ما هو كغلاف للحب وهو قشر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0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8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0" dur="3919" fill="hold"/>
                                        <p:tgtEl>
                                          <p:spTgt spid="3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1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9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3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147" dur="8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8" dur="8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9" dur="8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1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152" dur="8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3" dur="8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4" dur="8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fill="hold">
                            <p:stCondLst>
                              <p:cond delay="320"/>
                            </p:stCondLst>
                            <p:childTnLst>
                              <p:par>
                                <p:cTn id="11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533520" y="20574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خَلَقَ الْجَانَّ مِنْ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ارِجٍ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مِنْ نَار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858000" y="3809880"/>
            <a:ext cx="1365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ارِج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952880" y="3809880"/>
            <a:ext cx="16448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هب خال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971800" y="3809880"/>
            <a:ext cx="1751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خليط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143000" y="3809880"/>
            <a:ext cx="1652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صلصا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0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66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68" dur="8830" fill="hold"/>
                                        <p:tgtEl>
                                          <p:spTgt spid="3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3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5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9" dur="8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0" dur="8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1" dur="8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fill="hold">
                            <p:stCondLst>
                              <p:cond delay="1320"/>
                            </p:stCondLst>
                            <p:childTnLst>
                              <p:par>
                                <p:cTn id="1183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5" dur="8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6" dur="8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8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8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1" nodeType="with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3" dur="8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4" dur="8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8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8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9" fill="hold">
                            <p:stCondLst>
                              <p:cond delay="2320"/>
                            </p:stCondLst>
                            <p:childTnLst>
                              <p:par>
                                <p:cTn id="1200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209" dur="8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0" dur="8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1" dur="8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214" dur="8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5" dur="8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6" dur="8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8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219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0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1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609480" y="18288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رَج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الْبَحْرَيْنِ يَلْتَقِيَان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رحمن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9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53080" y="3657600"/>
            <a:ext cx="1436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رَج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666880" y="365760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خلي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572000" y="3657600"/>
            <a:ext cx="1630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اط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38080" y="3657600"/>
            <a:ext cx="1482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متدا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3" dur="indefinite" restart="never" nodeType="tmRoot">
          <p:childTnLst>
            <p:seq>
              <p:cTn id="1224" dur="indefinite" nodeType="mainSeq">
                <p:childTnLst>
                  <p:par>
                    <p:cTn id="1225" fill="hold">
                      <p:stCondLst>
                        <p:cond delay="0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31" dur="10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33" dur="4075" fill="hold"/>
                                        <p:tgtEl>
                                          <p:spTgt spid="3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9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457200" y="14479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بَيْنَهُمَا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بَرْزَخٌ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ا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يَبْغِيَان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0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934320" y="3048120"/>
            <a:ext cx="1328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بَرْزَخٌ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934320" y="396252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يَبْغِيَان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971800" y="3048120"/>
            <a:ext cx="1628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اج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952880" y="3048120"/>
            <a:ext cx="1704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ب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990720" y="30481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ر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952880" y="3962520"/>
            <a:ext cx="1692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تعديان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971800" y="3962520"/>
            <a:ext cx="1631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ظلم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990720" y="39625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فترق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85800" y="4648320"/>
            <a:ext cx="7559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مقصود أنه بينهما حاجز يمنع كل منهما من التعدي على الأخر لا البحر المالح يتعدى على البحر العذب فيغشيه ويبدله مالحاً وتبطل بذلك الحياة  ، ويحجز البحرالعذب أن يزيد في الإنصباب على البحر المالح فيبدله ماءً عذبا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فتبطل بذلك مصلحة ملوحته من تطهير الهواء وغيره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3"/>
          <a:stretch/>
        </p:blipFill>
        <p:spPr>
          <a:xfrm>
            <a:off x="4648320" y="2286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9" dur="indefinite" restart="never" nodeType="tmRoot">
          <p:childTnLst>
            <p:seq>
              <p:cTn id="1270" dur="indefinite" nodeType="mainSeq">
                <p:childTnLst>
                  <p:par>
                    <p:cTn id="1271" fill="hold">
                      <p:stCondLst>
                        <p:cond delay="0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5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7" dur="4494" fill="hold"/>
                                        <p:tgtEl>
                                          <p:spTgt spid="3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2" dur="8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3" dur="8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8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8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7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0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0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3" dur="10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10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15" dur="10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7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8" dur="10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10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20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2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3" dur="10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10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25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32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6" dur="8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7" dur="8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8" dur="8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9" fill="hold">
                            <p:stCondLst>
                              <p:cond delay="2320"/>
                            </p:stCondLst>
                            <p:childTnLst>
                              <p:par>
                                <p:cTn id="13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4" fill="hold">
                            <p:stCondLst>
                              <p:cond delay="2820"/>
                            </p:stCondLst>
                            <p:childTnLst>
                              <p:par>
                                <p:cTn id="13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9" fill="hold">
                            <p:stCondLst>
                              <p:cond delay="3320"/>
                            </p:stCondLst>
                            <p:childTnLst>
                              <p:par>
                                <p:cTn id="135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609480" y="1981080"/>
            <a:ext cx="769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لَهُ الْجَوَارِ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مُنْشَآتُ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فِي الْبَحْرِ كَالْأَعْلام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825600" y="3581280"/>
            <a:ext cx="1657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مُنْشَآتُ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90720" y="3581280"/>
            <a:ext cx="17730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صنوع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105520" y="3581280"/>
            <a:ext cx="1676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كبير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048120" y="3581280"/>
            <a:ext cx="17524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رفوع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8" dur="indefinite" restart="never" nodeType="tmRoot">
          <p:childTnLst>
            <p:seq>
              <p:cTn id="1369" dur="indefinite" nodeType="mainSeq">
                <p:childTnLst>
                  <p:par>
                    <p:cTn id="1370" fill="hold">
                      <p:stCondLst>
                        <p:cond delay="0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4" dur="1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1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6" dur="1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78" dur="6636" fill="hold"/>
                                        <p:tgtEl>
                                          <p:spTgt spid="3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4" fill="hold">
                            <p:stCondLst>
                              <p:cond delay="500"/>
                            </p:stCondLst>
                            <p:childTnLst>
                              <p:par>
                                <p:cTn id="138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3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6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0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fill="hold">
                      <p:stCondLst>
                        <p:cond delay="indefinite"/>
                      </p:stCondLst>
                      <p:childTnLst>
                        <p:par>
                          <p:cTn id="1407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9" dur="10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10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11" dur="10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3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4" dur="10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10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16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8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9" dur="10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10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2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609480" y="220968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يُرْسَلُ عَلَيْكُمَا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شُوَاظٌ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مِنْ نَارٍ وَنُحَاسٌ فَلا تَنْتَصِرَان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010280" y="4038480"/>
            <a:ext cx="12416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شُوَاظٌ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952880" y="4038480"/>
            <a:ext cx="1727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هب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819520" y="403848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دخان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838080" y="4038480"/>
            <a:ext cx="1633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مم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3" dur="indefinite" restart="never" nodeType="tmRoot">
          <p:childTnLst>
            <p:seq>
              <p:cTn id="1424" dur="indefinite" nodeType="mainSeq">
                <p:childTnLst>
                  <p:par>
                    <p:cTn id="1425" fill="hold">
                      <p:stCondLst>
                        <p:cond delay="0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9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32" dur="10502" fill="hold"/>
                                        <p:tgtEl>
                                          <p:spTgt spid="3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4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4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9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2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46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8" fill="hold">
                            <p:stCondLst>
                              <p:cond delay="500"/>
                            </p:stCondLst>
                            <p:childTnLst>
                              <p:par>
                                <p:cTn id="1469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70" dur="10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10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72" dur="10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5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76" dur="10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10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78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838080" y="1752480"/>
            <a:ext cx="746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إِذَا انْشَقَّتِ السَّمَاءُ فَكَانَتْ وَرْدَةً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كَالدِّهَان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797880" y="3505320"/>
            <a:ext cx="1506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كَالدِّهَان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105520" y="3505320"/>
            <a:ext cx="1546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الأدي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124080" y="3505320"/>
            <a:ext cx="1633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السوا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143000" y="3505320"/>
            <a:ext cx="1598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الدخ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425600" y="4572000"/>
            <a:ext cx="64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الدهان المراد به الأديم الأحمر وهو الجلد المصبو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80" dur="indefinite" restart="never" nodeType="tmRoot">
          <p:childTnLst>
            <p:seq>
              <p:cTn id="1481" dur="indefinite" nodeType="mainSeq">
                <p:childTnLst>
                  <p:par>
                    <p:cTn id="1482" fill="hold">
                      <p:stCondLst>
                        <p:cond delay="0"/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6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8" dur="1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90" dur="8830" fill="hold"/>
                                        <p:tgtEl>
                                          <p:spTgt spid="3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95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6" fill="hold">
                            <p:stCondLst>
                              <p:cond delay="500"/>
                            </p:stCondLst>
                            <p:childTnLst>
                              <p:par>
                                <p:cTn id="149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01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4" fill="hold">
                      <p:stCondLst>
                        <p:cond delay="indefinite"/>
                      </p:stCondLst>
                      <p:childTnLst>
                        <p:par>
                          <p:cTn id="1515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8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0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85800" y="18288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نْ هُوَ إِلَّا وَحْيٌ يُوحَى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عَلَّمَهُ شَدِيدُ الْقُوَى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ذُو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ِرَّةٍ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اسْتَوَى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نجم: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4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و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5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و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934320" y="3505320"/>
            <a:ext cx="1260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ِرَّة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876920" y="3505320"/>
            <a:ext cx="18079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دةٍ وحصافة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684160" y="3505320"/>
            <a:ext cx="2062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ضعفٍ وخوف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62120" y="3505320"/>
            <a:ext cx="1755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زنٍ وألم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38080" y="4495680"/>
            <a:ext cx="740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المراد بذو مرة جبريل (ع) والمعنى أنه ذوشدَّة في جنب الله وهو ذو حصافة في رأيه وعقله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4419720" y="1295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11338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500"/>
                            </p:stCondLst>
                            <p:childTnLst>
                              <p:par>
                                <p:cTn id="7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4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380880" y="175248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يُعْرَفُ الْمُجْرِمُونَ بِسِيمَاهُمْ فَيُؤْخَذُ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بِالنَّوَاصِي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الْأَقْدَام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670440" y="3581280"/>
            <a:ext cx="1680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بِالنَّوَاصِي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800600" y="3581280"/>
            <a:ext cx="1871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وج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315160" y="3581280"/>
            <a:ext cx="2754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عر مقدم الرأ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838080" y="3581280"/>
            <a:ext cx="1752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اطرا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3"/>
          <a:stretch/>
        </p:blipFill>
        <p:spPr>
          <a:xfrm>
            <a:off x="2971800" y="2362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4" dur="indefinite" restart="never" nodeType="tmRoot">
          <p:childTnLst>
            <p:seq>
              <p:cTn id="1525" dur="indefinite" nodeType="mainSeq">
                <p:childTnLst>
                  <p:par>
                    <p:cTn id="1526" fill="hold">
                      <p:stCondLst>
                        <p:cond delay="0"/>
                      </p:stCondLst>
                      <p:childTnLst>
                        <p:par>
                          <p:cTn id="1527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0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32" dur="8464" fill="hold"/>
                                        <p:tgtEl>
                                          <p:spTgt spid="3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39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3" dur="8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4" dur="8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5" dur="8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6" fill="hold">
                            <p:stCondLst>
                              <p:cond delay="1240"/>
                            </p:stCondLst>
                            <p:childTnLst>
                              <p:par>
                                <p:cTn id="154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4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0" fill="hold">
                            <p:stCondLst>
                              <p:cond delay="1740"/>
                            </p:stCondLst>
                            <p:childTnLst>
                              <p:par>
                                <p:cTn id="15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5" fill="hold">
                      <p:stCondLst>
                        <p:cond delay="indefinite"/>
                      </p:stCondLst>
                      <p:childTnLst>
                        <p:par>
                          <p:cTn id="1556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558" dur="8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9" dur="8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0" dur="8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2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563" dur="8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4" dur="8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5" dur="8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762120" y="1506600"/>
            <a:ext cx="74674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لِمَنْ خَافَ مَقَامَ رَبِّهِ جَنَّتَان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بِأَيِّ آَلَاءِ رَبِّكُمَا تُكَذِّبَان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ذَوَاتَا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أَفْنَان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رحمن: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46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47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4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934320" y="342900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أَفْنَان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990720" y="3429000"/>
            <a:ext cx="1612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نوا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029200" y="3429000"/>
            <a:ext cx="1577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ثما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71800" y="3429000"/>
            <a:ext cx="1728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نغا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3"/>
          <a:stretch/>
        </p:blipFill>
        <p:spPr>
          <a:xfrm>
            <a:off x="4419720" y="2666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67" dur="indefinite" restart="never" nodeType="tmRoot">
          <p:childTnLst>
            <p:seq>
              <p:cTn id="1568" dur="indefinite" nodeType="mainSeq">
                <p:childTnLst>
                  <p:par>
                    <p:cTn id="1569" fill="hold">
                      <p:stCondLst>
                        <p:cond delay="0"/>
                      </p:stCondLst>
                      <p:childTnLst>
                        <p:par>
                          <p:cTn id="1570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3" dur="8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4" dur="8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8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6" dur="8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1" dur="8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2" dur="8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3" dur="8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8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8" dur="16405" fill="hold"/>
                                        <p:tgtEl>
                                          <p:spTgt spid="3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fill="hold">
                      <p:stCondLst>
                        <p:cond delay="indefinite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7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1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2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3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4" fill="hold">
                            <p:stCondLst>
                              <p:cond delay="700"/>
                            </p:stCondLst>
                            <p:childTnLst>
                              <p:par>
                                <p:cTn id="1605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1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3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5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6" dur="5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7" fill="hold">
                            <p:stCondLst>
                              <p:cond delay="1200"/>
                            </p:stCondLst>
                            <p:childTnLst>
                              <p:par>
                                <p:cTn id="16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2" fill="hold">
                      <p:stCondLst>
                        <p:cond delay="indefinite"/>
                      </p:stCondLst>
                      <p:childTnLst>
                        <p:par>
                          <p:cTn id="1623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625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6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7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9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630" dur="8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1" dur="8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2" dur="8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4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635" dur="8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6" dur="8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7" dur="8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33520" y="137160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ِيهِنَّ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قَاصِرَاتُ الطَّرْفِ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لَمْ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يَطْمِثْهُنَّ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نْسٌ قَبْلَهُمْ وَلا جَانّ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781600" y="2743200"/>
            <a:ext cx="2750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قَاصِرَاتُ الطَّرْف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019920" y="5181480"/>
            <a:ext cx="2305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يَطْمِثْهُنّ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565360" y="5181480"/>
            <a:ext cx="1508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فضضهنّ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8480" y="51814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أخذهنّ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143000" y="51814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لمسهنّ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143000" y="3505320"/>
            <a:ext cx="4280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ساء لا يردن غير أزواجهنّ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143000" y="4316400"/>
            <a:ext cx="4297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ساء جميل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143000" y="2743200"/>
            <a:ext cx="4303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ور من الجن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9" dur="indefinite" restart="never" nodeType="tmRoot">
          <p:childTnLst>
            <p:seq>
              <p:cTn id="1640" dur="indefinite" nodeType="mainSeq">
                <p:childTnLst>
                  <p:par>
                    <p:cTn id="1641" fill="hold">
                      <p:stCondLst>
                        <p:cond delay="0"/>
                      </p:stCondLst>
                      <p:childTnLst>
                        <p:par>
                          <p:cTn id="1642" fill="hold">
                            <p:stCondLst>
                              <p:cond delay="0"/>
                            </p:stCondLst>
                            <p:childTnLst>
                              <p:par>
                                <p:cTn id="16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5" dur="10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6" dur="10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7" dur="10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49" dur="13009" fill="hold"/>
                                        <p:tgtEl>
                                          <p:spTgt spid="4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0" fill="hold">
                      <p:stCondLst>
                        <p:cond delay="indefinite"/>
                      </p:stCondLst>
                      <p:childTnLst>
                        <p:par>
                          <p:cTn id="1651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7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8" fill="hold">
                            <p:stCondLst>
                              <p:cond delay="500"/>
                            </p:stCondLst>
                            <p:childTnLst>
                              <p:par>
                                <p:cTn id="1659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5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7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8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0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74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6" nodeType="after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2" fill="hold">
                      <p:stCondLst>
                        <p:cond delay="indefinite"/>
                      </p:stCondLst>
                      <p:childTnLst>
                        <p:par>
                          <p:cTn id="1683" fill="hold">
                            <p:stCondLst>
                              <p:cond delay="0"/>
                            </p:stCondLst>
                            <p:childTnLst>
                              <p:par>
                                <p:cTn id="1684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685" dur="8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6" dur="8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7" dur="8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9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690" dur="8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1" dur="8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2" dur="8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4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695" dur="8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6" dur="8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7" dur="8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9" fill="hold">
                            <p:stCondLst>
                              <p:cond delay="440"/>
                            </p:stCondLst>
                            <p:childTnLst>
                              <p:par>
                                <p:cTn id="170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04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5" fill="hold">
                            <p:stCondLst>
                              <p:cond delay="1440"/>
                            </p:stCondLst>
                            <p:childTnLst>
                              <p:par>
                                <p:cTn id="170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2" fill="hold">
                            <p:stCondLst>
                              <p:cond delay="1940"/>
                            </p:stCondLst>
                            <p:childTnLst>
                              <p:par>
                                <p:cTn id="171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5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6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7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8" dur="5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9" fill="hold">
                            <p:stCondLst>
                              <p:cond delay="2440"/>
                            </p:stCondLst>
                            <p:childTnLst>
                              <p:par>
                                <p:cTn id="172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6" fill="hold">
                            <p:stCondLst>
                              <p:cond delay="2940"/>
                            </p:stCondLst>
                            <p:childTnLst>
                              <p:par>
                                <p:cTn id="17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0" fill="hold">
                      <p:stCondLst>
                        <p:cond delay="indefinite"/>
                      </p:stCondLst>
                      <p:childTnLst>
                        <p:par>
                          <p:cTn id="1731" fill="hold">
                            <p:stCondLst>
                              <p:cond delay="0"/>
                            </p:stCondLst>
                            <p:childTnLst>
                              <p:par>
                                <p:cTn id="17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838080" y="1278000"/>
            <a:ext cx="7315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مِنْ دُونِهِمَا جَنَّتَان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بِأَيِّ آَلَاءِ رَبِّكُمَا تُكَذِّبَان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دْهَامَّتَان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400800" y="2971800"/>
            <a:ext cx="16160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دْهَامَّتَان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447920" y="3886200"/>
            <a:ext cx="42656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ديدتا الخضرة المائلة للسوا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47920" y="3021120"/>
            <a:ext cx="4267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سعهما على مد النظ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447920" y="4800600"/>
            <a:ext cx="4297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ونهما أخضر من الر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3"/>
          <a:stretch/>
        </p:blipFill>
        <p:spPr>
          <a:xfrm>
            <a:off x="2209680" y="1981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8" dur="indefinite" restart="never" nodeType="tmRoot">
          <p:childTnLst>
            <p:seq>
              <p:cTn id="1739" dur="indefinite" nodeType="mainSeq">
                <p:childTnLst>
                  <p:par>
                    <p:cTn id="1740" fill="hold">
                      <p:stCondLst>
                        <p:cond delay="0"/>
                      </p:stCondLst>
                      <p:childTnLst>
                        <p:par>
                          <p:cTn id="1741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4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46" dur="15465" fill="hold"/>
                                        <p:tgtEl>
                                          <p:spTgt spid="4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7" fill="hold">
                      <p:stCondLst>
                        <p:cond delay="indefinite"/>
                      </p:stCondLst>
                      <p:childTnLst>
                        <p:par>
                          <p:cTn id="1748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5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2" fill="hold">
                            <p:stCondLst>
                              <p:cond delay="500"/>
                            </p:stCondLst>
                            <p:childTnLst>
                              <p:par>
                                <p:cTn id="175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5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6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8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6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3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6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70" dur="5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1" fill="hold">
                      <p:stCondLst>
                        <p:cond delay="indefinite"/>
                      </p:stCondLst>
                      <p:childTnLst>
                        <p:par>
                          <p:cTn id="1772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74" dur="1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5" dur="1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76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8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79" dur="10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0" dur="10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81" dur="10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3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4" dur="10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5" dur="10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86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/>
          <p:nvPr/>
        </p:nvSpPr>
        <p:spPr>
          <a:xfrm>
            <a:off x="609480" y="167652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ِيهِمَا عَيْنَانِ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ea typeface="Arial"/>
              </a:rPr>
              <a:t> نَضَّاخَتَان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705720" y="3505320"/>
            <a:ext cx="14587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نَضَّاخَتَان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895480" y="3505320"/>
            <a:ext cx="1533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فوارت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800600" y="3505320"/>
            <a:ext cx="1555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ا تجف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914400" y="3505320"/>
            <a:ext cx="1573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روي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3"/>
          <a:stretch/>
        </p:blipFill>
        <p:spPr>
          <a:xfrm>
            <a:off x="1371600" y="1905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8" dur="indefinite" restart="never" nodeType="tmRoot">
          <p:childTnLst>
            <p:seq>
              <p:cTn id="1789" dur="indefinite" nodeType="mainSeq">
                <p:childTnLst>
                  <p:par>
                    <p:cTn id="1790" fill="hold">
                      <p:stCondLst>
                        <p:cond delay="0"/>
                      </p:stCondLst>
                      <p:childTnLst>
                        <p:par>
                          <p:cTn id="1791" fill="hold">
                            <p:stCondLst>
                              <p:cond delay="0"/>
                            </p:stCondLst>
                            <p:childTnLst>
                              <p:par>
                                <p:cTn id="179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4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5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6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7" dur="5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99" dur="4285" fill="hold"/>
                                        <p:tgtEl>
                                          <p:spTgt spid="4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0" fill="hold">
                      <p:stCondLst>
                        <p:cond delay="indefinite"/>
                      </p:stCondLst>
                      <p:childTnLst>
                        <p:par>
                          <p:cTn id="1801" fill="hold">
                            <p:stCondLst>
                              <p:cond delay="0"/>
                            </p:stCondLst>
                            <p:childTnLst>
                              <p:par>
                                <p:cTn id="18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0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5" fill="hold">
                            <p:stCondLst>
                              <p:cond delay="500"/>
                            </p:stCondLst>
                            <p:childTnLst>
                              <p:par>
                                <p:cTn id="18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8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2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3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7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0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3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2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8" nodeType="with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32" dur="10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3" fill="hold">
                      <p:stCondLst>
                        <p:cond delay="indefinite"/>
                      </p:stCondLst>
                      <p:childTnLst>
                        <p:par>
                          <p:cTn id="1834" fill="hold">
                            <p:stCondLst>
                              <p:cond delay="0"/>
                            </p:stCondLst>
                            <p:childTnLst>
                              <p:par>
                                <p:cTn id="1835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9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/>
          <p:nvPr/>
        </p:nvSpPr>
        <p:spPr>
          <a:xfrm>
            <a:off x="609480" y="17524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حُورٌ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قْصُورَاتٌ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ِي الْخِيَام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7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496920" y="3429000"/>
            <a:ext cx="1844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قْصُورَاتٌ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648320" y="3429000"/>
            <a:ext cx="1896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صون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666880" y="3429000"/>
            <a:ext cx="1905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كرم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85800" y="3429000"/>
            <a:ext cx="1890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صير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43" dur="indefinite" restart="never" nodeType="tmRoot">
          <p:childTnLst>
            <p:seq>
              <p:cTn id="1844" dur="indefinite" nodeType="mainSeq">
                <p:childTnLst>
                  <p:par>
                    <p:cTn id="1845" fill="hold">
                      <p:stCondLst>
                        <p:cond delay="0"/>
                      </p:stCondLst>
                      <p:childTnLst>
                        <p:par>
                          <p:cTn id="1846" fill="hold">
                            <p:stCondLst>
                              <p:cond delay="0"/>
                            </p:stCondLst>
                            <p:childTnLst>
                              <p:par>
                                <p:cTn id="18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9" dur="10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0" dur="10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51" dur="10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53" dur="5382" fill="hold"/>
                                        <p:tgtEl>
                                          <p:spTgt spid="4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4" fill="hold">
                      <p:stCondLst>
                        <p:cond delay="indefinite"/>
                      </p:stCondLst>
                      <p:childTnLst>
                        <p:par>
                          <p:cTn id="1855" fill="hold">
                            <p:stCondLst>
                              <p:cond delay="0"/>
                            </p:stCondLst>
                            <p:childTnLst>
                              <p:par>
                                <p:cTn id="185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3" fill="hold">
                            <p:stCondLst>
                              <p:cond delay="500"/>
                            </p:stCondLst>
                            <p:childTnLst>
                              <p:par>
                                <p:cTn id="18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6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0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7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1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2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3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4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fill="hold">
                      <p:stCondLst>
                        <p:cond delay="indefinite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88" dur="100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9" dur="100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90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2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3" dur="10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4" dur="10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95" dur="10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7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8" dur="10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9" dur="10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00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/>
          <p:nvPr/>
        </p:nvSpPr>
        <p:spPr>
          <a:xfrm>
            <a:off x="609480" y="16765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مُتَّكِئِينَ عَلَى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رَفْرَفٍ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خُضْرٍ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وَعَبْقَرِيٍّ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حِسَان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7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828480" y="4267080"/>
            <a:ext cx="1524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وَعَبْقَرِيّ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71800" y="4267080"/>
            <a:ext cx="1785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ادر الوجو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890600" y="4267080"/>
            <a:ext cx="1861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ثوب موش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914400" y="4267080"/>
            <a:ext cx="18288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ُسطٍ  ملون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934320" y="3429000"/>
            <a:ext cx="12650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رَفْرَف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914400" y="342900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ُس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952880" y="3429000"/>
            <a:ext cx="1752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قاع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971800" y="3429000"/>
            <a:ext cx="1819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طبق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51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1143000" y="518148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مقصود أن كل ما ندر وجوده ولا يمكن وصفه والتعبير عنه يقال له عبقري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02" dur="indefinite" restart="never" nodeType="tmRoot">
          <p:childTnLst>
            <p:seq>
              <p:cTn id="1903" dur="indefinite" nodeType="mainSeq">
                <p:childTnLst>
                  <p:par>
                    <p:cTn id="1904" fill="hold">
                      <p:stCondLst>
                        <p:cond delay="0"/>
                      </p:stCondLst>
                      <p:childTnLst>
                        <p:par>
                          <p:cTn id="1905" fill="hold">
                            <p:stCondLst>
                              <p:cond delay="0"/>
                            </p:stCondLst>
                            <p:childTnLst>
                              <p:par>
                                <p:cTn id="190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08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10" dur="7889" fill="hold"/>
                                        <p:tgtEl>
                                          <p:spTgt spid="4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1" fill="hold">
                      <p:stCondLst>
                        <p:cond delay="indefinite"/>
                      </p:stCondLst>
                      <p:childTnLst>
                        <p:par>
                          <p:cTn id="1912" fill="hold">
                            <p:stCondLst>
                              <p:cond delay="0"/>
                            </p:stCondLst>
                            <p:childTnLst>
                              <p:par>
                                <p:cTn id="19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5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6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17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23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7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2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3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2" fill="hold">
                      <p:stCondLst>
                        <p:cond delay="indefinite"/>
                      </p:stCondLst>
                      <p:childTnLst>
                        <p:par>
                          <p:cTn id="1933" fill="hold">
                            <p:stCondLst>
                              <p:cond delay="0"/>
                            </p:stCondLst>
                            <p:childTnLst>
                              <p:par>
                                <p:cTn id="19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8" fill="hold">
                            <p:stCondLst>
                              <p:cond delay="0"/>
                            </p:stCondLst>
                            <p:childTnLst>
                              <p:par>
                                <p:cTn id="193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41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2" fill="hold">
                            <p:stCondLst>
                              <p:cond delay="500"/>
                            </p:stCondLst>
                            <p:childTnLst>
                              <p:par>
                                <p:cTn id="194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45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9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0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95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56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7" fill="hold">
                      <p:stCondLst>
                        <p:cond delay="indefinite"/>
                      </p:stCondLst>
                      <p:childTnLst>
                        <p:par>
                          <p:cTn id="1958" fill="hold">
                            <p:stCondLst>
                              <p:cond delay="0"/>
                            </p:stCondLst>
                            <p:childTnLst>
                              <p:par>
                                <p:cTn id="19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3" fill="hold">
                            <p:stCondLst>
                              <p:cond delay="0"/>
                            </p:stCondLst>
                            <p:childTnLst>
                              <p:par>
                                <p:cTn id="19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6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609480" y="1600200"/>
            <a:ext cx="74678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ذَا رُجَّتِ الْأَرْضُ رَجًّا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وَبُسَّتِ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الْجِبَالُ بَسّ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واقعة: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4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858000" y="3505320"/>
            <a:ext cx="13032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وَبُسَّت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895480" y="3505320"/>
            <a:ext cx="1698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فتَّ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952880" y="3505320"/>
            <a:ext cx="1646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دار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14400" y="3505320"/>
            <a:ext cx="1657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أخذ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3"/>
          <a:stretch/>
        </p:blipFill>
        <p:spPr>
          <a:xfrm>
            <a:off x="2819520" y="2057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67" dur="indefinite" restart="never" nodeType="tmRoot">
          <p:childTnLst>
            <p:seq>
              <p:cTn id="1968" dur="indefinite" nodeType="mainSeq">
                <p:childTnLst>
                  <p:par>
                    <p:cTn id="1969" fill="hold">
                      <p:stCondLst>
                        <p:cond delay="0"/>
                      </p:stCondLst>
                      <p:childTnLst>
                        <p:par>
                          <p:cTn id="1970" fill="hold">
                            <p:stCondLst>
                              <p:cond delay="0"/>
                            </p:stCondLst>
                            <p:childTnLst>
                              <p:par>
                                <p:cTn id="197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3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4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5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6" dur="5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9" dur="500" fill="hold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0" dur="500" fill="hold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1" dur="500" fill="hold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2" dur="500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4" dur="7001" fill="hold"/>
                                        <p:tgtEl>
                                          <p:spTgt spid="4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5" fill="hold">
                      <p:stCondLst>
                        <p:cond delay="indefinite"/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9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9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95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6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9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3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4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5" fill="hold">
                      <p:stCondLst>
                        <p:cond delay="indefinite"/>
                      </p:stCondLst>
                      <p:childTnLst>
                        <p:par>
                          <p:cTn id="2006" fill="hold">
                            <p:stCondLst>
                              <p:cond delay="0"/>
                            </p:stCondLst>
                            <p:childTnLst>
                              <p:par>
                                <p:cTn id="20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685800" y="19810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كَانَتْ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هَبَاءً مُنْبَثّ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781680" y="3276720"/>
            <a:ext cx="1322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هَبَاءً 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781680" y="4191120"/>
            <a:ext cx="1330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نْبَثّاً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066680" y="3276720"/>
            <a:ext cx="1633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غبار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971800" y="4191120"/>
            <a:ext cx="1644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جتمع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876920" y="3276720"/>
            <a:ext cx="1547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رابا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971800" y="3276720"/>
            <a:ext cx="1623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هدرا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066680" y="4191120"/>
            <a:ext cx="1635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نقلع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876920" y="4191120"/>
            <a:ext cx="1552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نتشر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74" name="" descr=""/>
          <p:cNvPicPr/>
          <p:nvPr/>
        </p:nvPicPr>
        <p:blipFill>
          <a:blip r:embed="rId3"/>
          <a:stretch/>
        </p:blipFill>
        <p:spPr>
          <a:xfrm>
            <a:off x="4267080" y="2895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11" dur="indefinite" restart="never" nodeType="tmRoot">
          <p:childTnLst>
            <p:seq>
              <p:cTn id="2012" dur="indefinite" nodeType="mainSeq">
                <p:childTnLst>
                  <p:par>
                    <p:cTn id="2013" fill="hold">
                      <p:stCondLst>
                        <p:cond delay="0"/>
                      </p:stCondLst>
                      <p:childTnLst>
                        <p:par>
                          <p:cTn id="2014" fill="hold">
                            <p:stCondLst>
                              <p:cond delay="0"/>
                            </p:stCondLst>
                            <p:childTnLst>
                              <p:par>
                                <p:cTn id="201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17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19" dur="5956" fill="hold"/>
                                        <p:tgtEl>
                                          <p:spTgt spid="4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0" fill="hold">
                      <p:stCondLst>
                        <p:cond delay="indefinite"/>
                      </p:stCondLst>
                      <p:childTnLst>
                        <p:par>
                          <p:cTn id="2021" fill="hold">
                            <p:stCondLst>
                              <p:cond delay="0"/>
                            </p:stCondLst>
                            <p:childTnLst>
                              <p:par>
                                <p:cTn id="202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26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0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2" fill="hold">
                            <p:stCondLst>
                              <p:cond delay="1500"/>
                            </p:stCondLst>
                            <p:childTnLst>
                              <p:par>
                                <p:cTn id="20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5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6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4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1" fill="hold">
                      <p:stCondLst>
                        <p:cond delay="indefinite"/>
                      </p:stCondLst>
                      <p:childTnLst>
                        <p:par>
                          <p:cTn id="2042" fill="hold">
                            <p:stCondLst>
                              <p:cond delay="0"/>
                            </p:stCondLst>
                            <p:childTnLst>
                              <p:par>
                                <p:cTn id="2043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44" dur="100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5" dur="100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46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8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49" dur="100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0" dur="100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51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58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2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4" fill="hold">
                            <p:stCondLst>
                              <p:cond delay="2500"/>
                            </p:stCondLst>
                            <p:childTnLst>
                              <p:par>
                                <p:cTn id="20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67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8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1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2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3" fill="hold">
                      <p:stCondLst>
                        <p:cond delay="indefinite"/>
                      </p:stCondLst>
                      <p:childTnLst>
                        <p:par>
                          <p:cTn id="2074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076" dur="8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7" dur="8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8" dur="8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081" dur="8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2" dur="8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3" dur="8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685800" y="19810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عَلَى سُرُرٍ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وْضُونَة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858000" y="3657600"/>
            <a:ext cx="14367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مَوْضُونَة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952880" y="3657600"/>
            <a:ext cx="1543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نسوج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048120" y="3657600"/>
            <a:ext cx="1639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رتب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219320" y="365760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زين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85" dur="indefinite" restart="never" nodeType="tmRoot">
          <p:childTnLst>
            <p:seq>
              <p:cTn id="2086" dur="indefinite" nodeType="mainSeq">
                <p:childTnLst>
                  <p:par>
                    <p:cTn id="2087" fill="hold">
                      <p:stCondLst>
                        <p:cond delay="0"/>
                      </p:stCondLst>
                      <p:childTnLst>
                        <p:par>
                          <p:cTn id="2088" fill="hold">
                            <p:stCondLst>
                              <p:cond delay="0"/>
                            </p:stCondLst>
                            <p:childTnLst>
                              <p:par>
                                <p:cTn id="208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91" dur="500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93" dur="3658" fill="hold"/>
                                        <p:tgtEl>
                                          <p:spTgt spid="4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4" fill="hold">
                      <p:stCondLst>
                        <p:cond delay="indefinite"/>
                      </p:stCondLst>
                      <p:childTnLst>
                        <p:par>
                          <p:cTn id="2095" fill="hold">
                            <p:stCondLst>
                              <p:cond delay="0"/>
                            </p:stCondLst>
                            <p:childTnLst>
                              <p:par>
                                <p:cTn id="20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98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2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8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9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0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3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4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5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6" dur="5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7" fill="hold">
                            <p:stCondLst>
                              <p:cond delay="1500"/>
                            </p:stCondLst>
                            <p:childTnLst>
                              <p:par>
                                <p:cTn id="211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0" dur="8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1" dur="8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2" dur="8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3" dur="8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6" fill="hold">
                      <p:stCondLst>
                        <p:cond delay="indefinite"/>
                      </p:stCondLst>
                      <p:childTnLst>
                        <p:par>
                          <p:cTn id="2127" fill="hold">
                            <p:stCondLst>
                              <p:cond delay="0"/>
                            </p:stCondLst>
                            <p:childTnLst>
                              <p:par>
                                <p:cTn id="21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85800" y="19051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أَفَتُمَارُونَهُ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عَلَى مَا يَرَى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نج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485760" y="3505320"/>
            <a:ext cx="1701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أَفَتُمَارُونَهُ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66880" y="3505320"/>
            <a:ext cx="1649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تجادلون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648320" y="3505320"/>
            <a:ext cx="1674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تكذبون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62120" y="3505320"/>
            <a:ext cx="1616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تصدقون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4285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/>
          <p:nvPr/>
        </p:nvSpPr>
        <p:spPr>
          <a:xfrm>
            <a:off x="533520" y="15238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ا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يُصَدَّعُون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عَنْهَا وَلا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يُنْزِفُون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9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759000" y="3200400"/>
            <a:ext cx="1626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يُصَدَّعُون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858000" y="4114800"/>
            <a:ext cx="1403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يُنْزِفُون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62120" y="3200400"/>
            <a:ext cx="19810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صيبهم صدا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876920" y="3200400"/>
            <a:ext cx="1904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تخل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895480" y="3200400"/>
            <a:ext cx="1822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فترق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876920" y="4114800"/>
            <a:ext cx="18558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ذهب عقوله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819520" y="4114800"/>
            <a:ext cx="1904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ُصيبهم أل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762120" y="4114800"/>
            <a:ext cx="1927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نته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3"/>
          <a:stretch/>
        </p:blipFill>
        <p:spPr>
          <a:xfrm>
            <a:off x="4191120" y="23623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34" dur="indefinite" restart="never" nodeType="tmRoot">
          <p:childTnLst>
            <p:seq>
              <p:cTn id="2135" dur="indefinite" nodeType="mainSeq">
                <p:childTnLst>
                  <p:par>
                    <p:cTn id="2136" fill="hold">
                      <p:stCondLst>
                        <p:cond delay="0"/>
                      </p:stCondLst>
                      <p:childTnLst>
                        <p:par>
                          <p:cTn id="2137" fill="hold">
                            <p:stCondLst>
                              <p:cond delay="0"/>
                            </p:stCondLst>
                            <p:childTnLst>
                              <p:par>
                                <p:cTn id="21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0" dur="10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1" dur="10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42" dur="100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44" dur="5956" fill="hold"/>
                                        <p:tgtEl>
                                          <p:spTgt spid="4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5" fill="hold">
                      <p:stCondLst>
                        <p:cond delay="indefinite"/>
                      </p:stCondLst>
                      <p:childTnLst>
                        <p:par>
                          <p:cTn id="2146" fill="hold">
                            <p:stCondLst>
                              <p:cond delay="0"/>
                            </p:stCondLst>
                            <p:childTnLst>
                              <p:par>
                                <p:cTn id="21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9" dur="80"/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0" dur="80"/>
                                        <p:tgtEl>
                                          <p:spTgt spid="4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1" dur="80"/>
                                        <p:tgtEl>
                                          <p:spTgt spid="4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2" fill="hold">
                            <p:stCondLst>
                              <p:cond delay="560"/>
                            </p:stCondLst>
                            <p:childTnLst>
                              <p:par>
                                <p:cTn id="2153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5" dur="8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6" dur="8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7" dur="8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8" dur="8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1" fill="hold">
                            <p:stCondLst>
                              <p:cond delay="1560"/>
                            </p:stCondLst>
                            <p:childTnLst>
                              <p:par>
                                <p:cTn id="2162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4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5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6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7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8" fill="hold">
                            <p:stCondLst>
                              <p:cond delay="2060"/>
                            </p:stCondLst>
                            <p:childTnLst>
                              <p:par>
                                <p:cTn id="21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1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2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3" fill="hold">
                      <p:stCondLst>
                        <p:cond delay="indefinite"/>
                      </p:stCondLst>
                      <p:childTnLst>
                        <p:par>
                          <p:cTn id="2174" fill="hold">
                            <p:stCondLst>
                              <p:cond delay="0"/>
                            </p:stCondLst>
                            <p:childTnLst>
                              <p:par>
                                <p:cTn id="2175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176" dur="80"/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77" dur="80"/>
                                        <p:tgtEl>
                                          <p:spTgt spid="4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8" dur="80"/>
                                        <p:tgtEl>
                                          <p:spTgt spid="4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181" dur="8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2" dur="8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3" dur="8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5" fill="hold">
                            <p:stCondLst>
                              <p:cond delay="320"/>
                            </p:stCondLst>
                            <p:childTnLst>
                              <p:par>
                                <p:cTn id="218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8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9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0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1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2" fill="hold">
                            <p:stCondLst>
                              <p:cond delay="820"/>
                            </p:stCondLst>
                            <p:childTnLst>
                              <p:par>
                                <p:cTn id="21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5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6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7" fill="hold">
                            <p:stCondLst>
                              <p:cond delay="1320"/>
                            </p:stCondLst>
                            <p:childTnLst>
                              <p:par>
                                <p:cTn id="219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0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1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2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3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4" fill="hold">
                            <p:stCondLst>
                              <p:cond delay="1820"/>
                            </p:stCondLst>
                            <p:childTnLst>
                              <p:par>
                                <p:cTn id="220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7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8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9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0" fill="hold">
                      <p:stCondLst>
                        <p:cond delay="indefinite"/>
                      </p:stCondLst>
                      <p:childTnLst>
                        <p:par>
                          <p:cTn id="2211" fill="hold">
                            <p:stCondLst>
                              <p:cond delay="0"/>
                            </p:stCondLst>
                            <p:childTnLst>
                              <p:par>
                                <p:cTn id="221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13" dur="1000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4" dur="1000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15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7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18" dur="100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9" dur="100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20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685800" y="19051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ِي سِدْرٍ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خْضُود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853320" y="3276720"/>
            <a:ext cx="1457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خْضُود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895480" y="3276720"/>
            <a:ext cx="18590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قطوع الشو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952880" y="3276720"/>
            <a:ext cx="16430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ثير الور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914400" y="3276720"/>
            <a:ext cx="17971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وكه صغ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3"/>
          <a:stretch/>
        </p:blipFill>
        <p:spPr>
          <a:xfrm>
            <a:off x="4419720" y="2743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22" dur="indefinite" restart="never" nodeType="tmRoot">
          <p:childTnLst>
            <p:seq>
              <p:cTn id="2223" dur="indefinite" nodeType="mainSeq">
                <p:childTnLst>
                  <p:par>
                    <p:cTn id="2224" fill="hold">
                      <p:stCondLst>
                        <p:cond delay="0"/>
                      </p:stCondLst>
                      <p:childTnLst>
                        <p:par>
                          <p:cTn id="2225" fill="hold">
                            <p:stCondLst>
                              <p:cond delay="0"/>
                            </p:stCondLst>
                            <p:childTnLst>
                              <p:par>
                                <p:cTn id="222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8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30" dur="3553" fill="hold"/>
                                        <p:tgtEl>
                                          <p:spTgt spid="5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1" fill="hold">
                      <p:stCondLst>
                        <p:cond delay="indefinite"/>
                      </p:stCondLst>
                      <p:childTnLst>
                        <p:par>
                          <p:cTn id="2232" fill="hold">
                            <p:stCondLst>
                              <p:cond delay="0"/>
                            </p:stCondLst>
                            <p:childTnLst>
                              <p:par>
                                <p:cTn id="22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35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237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9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0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1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3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5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6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7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8" dur="5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2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3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4" fill="hold">
                            <p:stCondLst>
                              <p:cond delay="1500"/>
                            </p:stCondLst>
                            <p:childTnLst>
                              <p:par>
                                <p:cTn id="225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5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8" fill="hold">
                      <p:stCondLst>
                        <p:cond delay="indefinite"/>
                      </p:stCondLst>
                      <p:childTnLst>
                        <p:par>
                          <p:cTn id="2259" fill="hold">
                            <p:stCondLst>
                              <p:cond delay="0"/>
                            </p:stCondLst>
                            <p:childTnLst>
                              <p:par>
                                <p:cTn id="2260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261" dur="8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2" dur="8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3" dur="8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5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266" dur="8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7" dur="8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8" dur="8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271" dur="80"/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72" dur="80"/>
                                        <p:tgtEl>
                                          <p:spTgt spid="5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3" dur="80"/>
                                        <p:tgtEl>
                                          <p:spTgt spid="5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/>
          <p:nvPr/>
        </p:nvSpPr>
        <p:spPr>
          <a:xfrm>
            <a:off x="533520" y="19051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وَطَلْحٍ مَنْضُود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9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934320" y="3352680"/>
            <a:ext cx="1239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وَطَلْحٍ 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863400" y="4191120"/>
            <a:ext cx="1335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نْضُود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971800" y="3352680"/>
            <a:ext cx="1727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و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952880" y="3352680"/>
            <a:ext cx="1673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لح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066680" y="335268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ن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066680" y="4191120"/>
            <a:ext cx="1685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رت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952880" y="4191120"/>
            <a:ext cx="1687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تو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971800" y="4191120"/>
            <a:ext cx="1747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نو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3"/>
          <a:stretch/>
        </p:blipFill>
        <p:spPr>
          <a:xfrm>
            <a:off x="4038480" y="2057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75" dur="indefinite" restart="never" nodeType="tmRoot">
          <p:childTnLst>
            <p:seq>
              <p:cTn id="2276" dur="indefinite" nodeType="mainSeq">
                <p:childTnLst>
                  <p:par>
                    <p:cTn id="2277" fill="hold">
                      <p:stCondLst>
                        <p:cond delay="0"/>
                      </p:stCondLst>
                      <p:childTnLst>
                        <p:par>
                          <p:cTn id="2278" fill="hold">
                            <p:stCondLst>
                              <p:cond delay="0"/>
                            </p:stCondLst>
                            <p:childTnLst>
                              <p:par>
                                <p:cTn id="22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1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2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83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85" dur="4128" fill="hold"/>
                                        <p:tgtEl>
                                          <p:spTgt spid="5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6" fill="hold">
                      <p:stCondLst>
                        <p:cond delay="indefinite"/>
                      </p:stCondLst>
                      <p:childTnLst>
                        <p:par>
                          <p:cTn id="2287" fill="hold">
                            <p:stCondLst>
                              <p:cond delay="0"/>
                            </p:stCondLst>
                            <p:childTnLst>
                              <p:par>
                                <p:cTn id="228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92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6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7" fill="hold">
                            <p:stCondLst>
                              <p:cond delay="1500"/>
                            </p:stCondLst>
                            <p:childTnLst>
                              <p:par>
                                <p:cTn id="22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0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1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5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6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7" fill="hold">
                      <p:stCondLst>
                        <p:cond delay="indefinite"/>
                      </p:stCondLst>
                      <p:childTnLst>
                        <p:par>
                          <p:cTn id="2308" fill="hold">
                            <p:stCondLst>
                              <p:cond delay="0"/>
                            </p:stCondLst>
                            <p:childTnLst>
                              <p:par>
                                <p:cTn id="23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3" fill="hold">
                            <p:stCondLst>
                              <p:cond delay="0"/>
                            </p:stCondLst>
                            <p:childTnLst>
                              <p:par>
                                <p:cTn id="23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16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7" fill="hold">
                            <p:stCondLst>
                              <p:cond delay="500"/>
                            </p:stCondLst>
                            <p:childTnLst>
                              <p:par>
                                <p:cTn id="23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0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1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5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6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7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8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9" fill="hold">
                            <p:stCondLst>
                              <p:cond delay="1500"/>
                            </p:stCondLst>
                            <p:childTnLst>
                              <p:par>
                                <p:cTn id="233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32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3" fill="hold">
                      <p:stCondLst>
                        <p:cond delay="indefinite"/>
                      </p:stCondLst>
                      <p:childTnLst>
                        <p:par>
                          <p:cTn id="2334" fill="hold">
                            <p:stCondLst>
                              <p:cond delay="0"/>
                            </p:stCondLst>
                            <p:childTnLst>
                              <p:par>
                                <p:cTn id="23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609480" y="16002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عُرُباً أَتْرَاب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010280" y="3352680"/>
            <a:ext cx="1224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عُرُباً 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010280" y="4267080"/>
            <a:ext cx="1193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أَتْرَاباً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510640" y="4267080"/>
            <a:ext cx="2520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تويات بالس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819520" y="3352680"/>
            <a:ext cx="1904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تغنج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105520" y="3352680"/>
            <a:ext cx="16761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هل الباد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838080" y="3352680"/>
            <a:ext cx="1687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ميل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5105520" y="4267080"/>
            <a:ext cx="1676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ا يكبر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838080" y="426708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خجول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31" name="" descr=""/>
          <p:cNvPicPr/>
          <p:nvPr/>
        </p:nvPicPr>
        <p:blipFill>
          <a:blip r:embed="rId3"/>
          <a:stretch/>
        </p:blipFill>
        <p:spPr>
          <a:xfrm>
            <a:off x="4191120" y="2590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39" dur="indefinite" restart="never" nodeType="tmRoot">
          <p:childTnLst>
            <p:seq>
              <p:cTn id="2340" dur="indefinite" nodeType="mainSeq">
                <p:childTnLst>
                  <p:par>
                    <p:cTn id="2341" fill="hold">
                      <p:stCondLst>
                        <p:cond delay="0"/>
                      </p:stCondLst>
                      <p:childTnLst>
                        <p:par>
                          <p:cTn id="2342" fill="hold">
                            <p:stCondLst>
                              <p:cond delay="0"/>
                            </p:stCondLst>
                            <p:childTnLst>
                              <p:par>
                                <p:cTn id="234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45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47" dur="3031" fill="hold"/>
                                        <p:tgtEl>
                                          <p:spTgt spid="5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8" fill="hold">
                      <p:stCondLst>
                        <p:cond delay="indefinite"/>
                      </p:stCondLst>
                      <p:childTnLst>
                        <p:par>
                          <p:cTn id="2349" fill="hold">
                            <p:stCondLst>
                              <p:cond delay="0"/>
                            </p:stCondLst>
                            <p:childTnLst>
                              <p:par>
                                <p:cTn id="23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52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3" fill="hold">
                            <p:stCondLst>
                              <p:cond delay="500"/>
                            </p:stCondLst>
                            <p:childTnLst>
                              <p:par>
                                <p:cTn id="23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6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7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58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1" dur="10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2" dur="10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3" dur="100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4" fill="hold">
                            <p:stCondLst>
                              <p:cond delay="1500"/>
                            </p:stCondLst>
                            <p:childTnLst>
                              <p:par>
                                <p:cTn id="23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6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1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2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3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4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5" fill="hold">
                      <p:stCondLst>
                        <p:cond delay="indefinite"/>
                      </p:stCondLst>
                      <p:childTnLst>
                        <p:par>
                          <p:cTn id="2376" fill="hold">
                            <p:stCondLst>
                              <p:cond delay="0"/>
                            </p:stCondLst>
                            <p:childTnLst>
                              <p:par>
                                <p:cTn id="23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3" fill="hold">
                            <p:stCondLst>
                              <p:cond delay="0"/>
                            </p:stCondLst>
                            <p:childTnLst>
                              <p:par>
                                <p:cTn id="238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88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92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3" fill="hold">
                            <p:stCondLst>
                              <p:cond delay="1500"/>
                            </p:stCondLst>
                            <p:childTnLst>
                              <p:par>
                                <p:cTn id="239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6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7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8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9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1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5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6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7" fill="hold">
                      <p:stCondLst>
                        <p:cond delay="indefinite"/>
                      </p:stCondLst>
                      <p:childTnLst>
                        <p:par>
                          <p:cTn id="2408" fill="hold">
                            <p:stCondLst>
                              <p:cond delay="0"/>
                            </p:stCondLst>
                            <p:childTnLst>
                              <p:par>
                                <p:cTn id="2409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410" dur="8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1" dur="8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2" dur="8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41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4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415" dur="8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6" dur="8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7" dur="8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41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33" name=""/>
          <p:cNvSpPr/>
          <p:nvPr/>
        </p:nvSpPr>
        <p:spPr>
          <a:xfrm>
            <a:off x="304920" y="198108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ظِلٍّ مِنْ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يَحْمُوم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3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858000" y="3429000"/>
            <a:ext cx="1386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يَحْمُوم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2743200" y="342900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دخان اسو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876920" y="3429000"/>
            <a:ext cx="1765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اء مغل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56920" y="3429000"/>
            <a:ext cx="2137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ديد الحرا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19" dur="indefinite" restart="never" nodeType="tmRoot">
          <p:childTnLst>
            <p:seq>
              <p:cTn id="2420" dur="indefinite" nodeType="mainSeq">
                <p:childTnLst>
                  <p:par>
                    <p:cTn id="2421" fill="hold">
                      <p:stCondLst>
                        <p:cond delay="0"/>
                      </p:stCondLst>
                      <p:childTnLst>
                        <p:par>
                          <p:cTn id="2422" fill="hold">
                            <p:stCondLst>
                              <p:cond delay="0"/>
                            </p:stCondLst>
                            <p:childTnLst>
                              <p:par>
                                <p:cTn id="242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27" dur="10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29" dur="4337" fill="hold"/>
                                        <p:tgtEl>
                                          <p:spTgt spid="5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0" fill="hold">
                      <p:stCondLst>
                        <p:cond delay="indefinite"/>
                      </p:stCondLst>
                      <p:childTnLst>
                        <p:par>
                          <p:cTn id="2431" fill="hold">
                            <p:stCondLst>
                              <p:cond delay="0"/>
                            </p:stCondLst>
                            <p:childTnLst>
                              <p:par>
                                <p:cTn id="24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34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5" fill="hold">
                            <p:stCondLst>
                              <p:cond delay="500"/>
                            </p:stCondLst>
                            <p:childTnLst>
                              <p:par>
                                <p:cTn id="243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9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0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45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6" fill="hold">
                            <p:stCondLst>
                              <p:cond delay="1500"/>
                            </p:stCondLst>
                            <p:childTnLst>
                              <p:par>
                                <p:cTn id="244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49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53" dur="5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4" fill="hold">
                      <p:stCondLst>
                        <p:cond delay="indefinite"/>
                      </p:stCondLst>
                      <p:childTnLst>
                        <p:par>
                          <p:cTn id="2455" fill="hold">
                            <p:stCondLst>
                              <p:cond delay="0"/>
                            </p:stCondLst>
                            <p:childTnLst>
                              <p:par>
                                <p:cTn id="245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57" dur="100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8" dur="100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59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1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62" dur="10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3" dur="10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64" dur="10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6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67" dur="100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8" dur="100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69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/>
          <p:nvPr/>
        </p:nvSpPr>
        <p:spPr>
          <a:xfrm>
            <a:off x="685800" y="17524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كَانُوا يُصِرُّونَ عَلَى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حِنْثِ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الْعَظِيم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934320" y="320040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حِنْث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952880" y="3200400"/>
            <a:ext cx="16383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قض العه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971800" y="3200400"/>
            <a:ext cx="1671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ذن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990720" y="3200400"/>
            <a:ext cx="1660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كف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"/>
          <p:cNvPicPr/>
          <p:nvPr/>
        </p:nvPicPr>
        <p:blipFill>
          <a:blip r:embed="rId3"/>
          <a:stretch/>
        </p:blipFill>
        <p:spPr>
          <a:xfrm>
            <a:off x="4038480" y="2362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71" dur="indefinite" restart="never" nodeType="tmRoot">
          <p:childTnLst>
            <p:seq>
              <p:cTn id="2472" dur="indefinite" nodeType="mainSeq">
                <p:childTnLst>
                  <p:par>
                    <p:cTn id="2473" fill="hold">
                      <p:stCondLst>
                        <p:cond delay="0"/>
                      </p:stCondLst>
                      <p:childTnLst>
                        <p:par>
                          <p:cTn id="2474" fill="hold">
                            <p:stCondLst>
                              <p:cond delay="0"/>
                            </p:stCondLst>
                            <p:childTnLst>
                              <p:par>
                                <p:cTn id="24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7" dur="10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8" dur="10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79" dur="10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81" dur="6583" fill="hold"/>
                                        <p:tgtEl>
                                          <p:spTgt spid="5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2" fill="hold">
                      <p:stCondLst>
                        <p:cond delay="indefinite"/>
                      </p:stCondLst>
                      <p:childTnLst>
                        <p:par>
                          <p:cTn id="2483" fill="hold">
                            <p:stCondLst>
                              <p:cond delay="0"/>
                            </p:stCondLst>
                            <p:childTnLst>
                              <p:par>
                                <p:cTn id="24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6" dur="8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7" dur="8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8" dur="8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9" dur="8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95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6" fill="hold">
                            <p:stCondLst>
                              <p:cond delay="1500"/>
                            </p:stCondLst>
                            <p:childTnLst>
                              <p:par>
                                <p:cTn id="249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99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4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8" dur="5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9" dur="5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0" fill="hold">
                      <p:stCondLst>
                        <p:cond delay="indefinite"/>
                      </p:stCondLst>
                      <p:childTnLst>
                        <p:par>
                          <p:cTn id="2511" fill="hold">
                            <p:stCondLst>
                              <p:cond delay="0"/>
                            </p:stCondLst>
                            <p:childTnLst>
                              <p:par>
                                <p:cTn id="251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13" dur="100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4" dur="100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15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7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18" dur="10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9" dur="10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20" dur="10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2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23" dur="10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4" dur="10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25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51" name=""/>
          <p:cNvSpPr/>
          <p:nvPr/>
        </p:nvSpPr>
        <p:spPr>
          <a:xfrm>
            <a:off x="685800" y="22096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َآكِلُونَ مِنْ شَجَرٍ مِنْ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زَقُّوم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629400" y="3505320"/>
            <a:ext cx="1619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زَقُّوم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600200" y="5029200"/>
            <a:ext cx="3944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ر وكريه الرائح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600200" y="4267080"/>
            <a:ext cx="3916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ا يحرق البط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600200" y="3505320"/>
            <a:ext cx="3924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جارة وحمي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5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27" dur="indefinite" restart="never" nodeType="tmRoot">
          <p:childTnLst>
            <p:seq>
              <p:cTn id="2528" dur="indefinite" nodeType="mainSeq">
                <p:childTnLst>
                  <p:par>
                    <p:cTn id="2529" fill="hold">
                      <p:stCondLst>
                        <p:cond delay="0"/>
                      </p:stCondLst>
                      <p:childTnLst>
                        <p:par>
                          <p:cTn id="2530" fill="hold">
                            <p:stCondLst>
                              <p:cond delay="0"/>
                            </p:stCondLst>
                            <p:childTnLst>
                              <p:par>
                                <p:cTn id="253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33" dur="5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35" dur="6949" fill="hold"/>
                                        <p:tgtEl>
                                          <p:spTgt spid="5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6" fill="hold">
                      <p:stCondLst>
                        <p:cond delay="indefinite"/>
                      </p:stCondLst>
                      <p:childTnLst>
                        <p:par>
                          <p:cTn id="2537" fill="hold">
                            <p:stCondLst>
                              <p:cond delay="0"/>
                            </p:stCondLst>
                            <p:childTnLst>
                              <p:par>
                                <p:cTn id="25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4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1" fill="hold">
                            <p:stCondLst>
                              <p:cond delay="500"/>
                            </p:stCondLst>
                            <p:childTnLst>
                              <p:par>
                                <p:cTn id="254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44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8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9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0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1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2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57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8" fill="hold">
                      <p:stCondLst>
                        <p:cond delay="indefinite"/>
                      </p:stCondLst>
                      <p:childTnLst>
                        <p:par>
                          <p:cTn id="2559" fill="hold">
                            <p:stCondLst>
                              <p:cond delay="0"/>
                            </p:stCondLst>
                            <p:childTnLst>
                              <p:par>
                                <p:cTn id="256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61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3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64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457200" y="16765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شَارِبُونَ شُرْبَ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هِيم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477120" y="2944800"/>
            <a:ext cx="1620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هِيم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828800" y="4800600"/>
            <a:ext cx="40384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أبل المصابة بمرض العُطاش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828800" y="2944800"/>
            <a:ext cx="4002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تائهون في الصحر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828800" y="3859200"/>
            <a:ext cx="3962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حيوانات الشارد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6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66" dur="indefinite" restart="never" nodeType="tmRoot">
          <p:childTnLst>
            <p:seq>
              <p:cTn id="2567" dur="indefinite" nodeType="mainSeq">
                <p:childTnLst>
                  <p:par>
                    <p:cTn id="2568" fill="hold">
                      <p:stCondLst>
                        <p:cond delay="0"/>
                      </p:stCondLst>
                      <p:childTnLst>
                        <p:par>
                          <p:cTn id="2569" fill="hold">
                            <p:stCondLst>
                              <p:cond delay="0"/>
                            </p:stCondLst>
                            <p:childTnLst>
                              <p:par>
                                <p:cTn id="257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72" dur="5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74" dur="3814" fill="hold"/>
                                        <p:tgtEl>
                                          <p:spTgt spid="5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5" fill="hold">
                      <p:stCondLst>
                        <p:cond delay="indefinite"/>
                      </p:stCondLst>
                      <p:childTnLst>
                        <p:par>
                          <p:cTn id="2576" fill="hold">
                            <p:stCondLst>
                              <p:cond delay="0"/>
                            </p:stCondLst>
                            <p:childTnLst>
                              <p:par>
                                <p:cTn id="257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9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0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1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2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3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4" fill="hold">
                            <p:stCondLst>
                              <p:cond delay="500"/>
                            </p:stCondLst>
                            <p:childTnLst>
                              <p:par>
                                <p:cTn id="2585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7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8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9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0" fill="hold">
                            <p:stCondLst>
                              <p:cond delay="1500"/>
                            </p:stCondLst>
                            <p:childTnLst>
                              <p:par>
                                <p:cTn id="25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93" dur="8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4" dur="8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5" dur="8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6" fill="hold">
                            <p:stCondLst>
                              <p:cond delay="2180"/>
                            </p:stCondLst>
                            <p:childTnLst>
                              <p:par>
                                <p:cTn id="259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01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2" fill="hold">
                      <p:stCondLst>
                        <p:cond delay="indefinite"/>
                      </p:stCondLst>
                      <p:childTnLst>
                        <p:par>
                          <p:cTn id="2603" fill="hold">
                            <p:stCondLst>
                              <p:cond delay="0"/>
                            </p:stCondLst>
                            <p:childTnLst>
                              <p:par>
                                <p:cTn id="2604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605" dur="8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06" dur="8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7" dur="8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60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9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610" dur="8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11" dur="8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2" dur="8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61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69" name=""/>
          <p:cNvSpPr/>
          <p:nvPr/>
        </p:nvSpPr>
        <p:spPr>
          <a:xfrm>
            <a:off x="533520" y="190512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لَوْ نَشَاءُ لَجَعَلْنَاهُ حُطَاماً فَظَلْتُمْ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تَفَكَّه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3505320"/>
            <a:ext cx="1573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تَفَكَّهُون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3505320"/>
            <a:ext cx="1582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تعجب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666880" y="3505320"/>
            <a:ext cx="1710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ندم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838080" y="3505320"/>
            <a:ext cx="1563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عرف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76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14" dur="indefinite" restart="never" nodeType="tmRoot">
          <p:childTnLst>
            <p:seq>
              <p:cTn id="2615" dur="indefinite" nodeType="mainSeq">
                <p:childTnLst>
                  <p:par>
                    <p:cTn id="2616" fill="hold">
                      <p:stCondLst>
                        <p:cond delay="0"/>
                      </p:stCondLst>
                      <p:childTnLst>
                        <p:par>
                          <p:cTn id="2617" fill="hold">
                            <p:stCondLst>
                              <p:cond delay="0"/>
                            </p:stCondLst>
                            <p:childTnLst>
                              <p:par>
                                <p:cTn id="261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20" dur="5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22" dur="9666" fill="hold"/>
                                        <p:tgtEl>
                                          <p:spTgt spid="5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3" fill="hold">
                      <p:stCondLst>
                        <p:cond delay="indefinite"/>
                      </p:stCondLst>
                      <p:childTnLst>
                        <p:par>
                          <p:cTn id="2624" fill="hold">
                            <p:stCondLst>
                              <p:cond delay="0"/>
                            </p:stCondLst>
                            <p:childTnLst>
                              <p:par>
                                <p:cTn id="26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27" dur="80"/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28" dur="80"/>
                                        <p:tgtEl>
                                          <p:spTgt spid="5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9" dur="80"/>
                                        <p:tgtEl>
                                          <p:spTgt spid="5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0" fill="hold">
                            <p:stCondLst>
                              <p:cond delay="560"/>
                            </p:stCondLst>
                            <p:childTnLst>
                              <p:par>
                                <p:cTn id="263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35" dur="1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6" fill="hold">
                            <p:stCondLst>
                              <p:cond delay="1560"/>
                            </p:stCondLst>
                            <p:childTnLst>
                              <p:par>
                                <p:cTn id="2637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9" dur="8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0" dur="8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1" dur="8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2" dur="8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5" fill="hold">
                            <p:stCondLst>
                              <p:cond delay="2560"/>
                            </p:stCondLst>
                            <p:childTnLst>
                              <p:par>
                                <p:cTn id="264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4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9" fill="hold">
                            <p:stCondLst>
                              <p:cond delay="3060"/>
                            </p:stCondLst>
                            <p:childTnLst>
                              <p:par>
                                <p:cTn id="265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52" dur="5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3" fill="hold">
                      <p:stCondLst>
                        <p:cond delay="indefinite"/>
                      </p:stCondLst>
                      <p:childTnLst>
                        <p:par>
                          <p:cTn id="2654" fill="hold">
                            <p:stCondLst>
                              <p:cond delay="0"/>
                            </p:stCondLst>
                            <p:childTnLst>
                              <p:par>
                                <p:cTn id="2655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656" dur="8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7" dur="8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8" dur="8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65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661" dur="8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62" dur="8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3" dur="8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66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5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666" dur="8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67" dur="8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8" dur="8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66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78" name=""/>
          <p:cNvSpPr/>
          <p:nvPr/>
        </p:nvSpPr>
        <p:spPr>
          <a:xfrm>
            <a:off x="914400" y="1905120"/>
            <a:ext cx="72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نَّا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ea typeface="Arial"/>
              </a:rPr>
              <a:t> لَمُغْرَمُون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بَلْ نَحْنُ مَحْرُوم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6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6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633360" y="3581280"/>
            <a:ext cx="1693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لَمُغْرَمُون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876920" y="3581280"/>
            <a:ext cx="1620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خاسر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971800" y="3581280"/>
            <a:ext cx="1611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محب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914400" y="3581280"/>
            <a:ext cx="1743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ملزم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8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70" dur="indefinite" restart="never" nodeType="tmRoot">
          <p:childTnLst>
            <p:seq>
              <p:cTn id="2671" dur="indefinite" nodeType="mainSeq">
                <p:childTnLst>
                  <p:par>
                    <p:cTn id="2672" fill="hold">
                      <p:stCondLst>
                        <p:cond delay="0"/>
                      </p:stCondLst>
                      <p:childTnLst>
                        <p:par>
                          <p:cTn id="2673" fill="hold">
                            <p:stCondLst>
                              <p:cond delay="0"/>
                            </p:stCondLst>
                            <p:childTnLst>
                              <p:par>
                                <p:cTn id="26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6" dur="10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7" dur="10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78" dur="10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80" dur="7628" fill="hold"/>
                                        <p:tgtEl>
                                          <p:spTgt spid="5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1" fill="hold">
                      <p:stCondLst>
                        <p:cond delay="indefinite"/>
                      </p:stCondLst>
                      <p:childTnLst>
                        <p:par>
                          <p:cTn id="2682" fill="hold">
                            <p:stCondLst>
                              <p:cond delay="0"/>
                            </p:stCondLst>
                            <p:childTnLst>
                              <p:par>
                                <p:cTn id="26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85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6" fill="hold">
                            <p:stCondLst>
                              <p:cond delay="500"/>
                            </p:stCondLst>
                            <p:childTnLst>
                              <p:par>
                                <p:cTn id="26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89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3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4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7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8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9" fill="hold">
                            <p:stCondLst>
                              <p:cond delay="1500"/>
                            </p:stCondLst>
                            <p:childTnLst>
                              <p:par>
                                <p:cTn id="270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02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05" dur="50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6" fill="hold">
                      <p:stCondLst>
                        <p:cond delay="indefinite"/>
                      </p:stCondLst>
                      <p:childTnLst>
                        <p:par>
                          <p:cTn id="2707" fill="hold">
                            <p:stCondLst>
                              <p:cond delay="0"/>
                            </p:stCondLst>
                            <p:childTnLst>
                              <p:par>
                                <p:cTn id="2708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709" dur="80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0" dur="80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1" dur="80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71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3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714" dur="8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5" dur="8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6" dur="8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71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8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719" dur="8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0" dur="8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1" dur="8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72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3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724" dur="80"/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5" dur="80"/>
                                        <p:tgtEl>
                                          <p:spTgt spid="5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6" dur="80"/>
                                        <p:tgtEl>
                                          <p:spTgt spid="5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72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143000" y="1523880"/>
            <a:ext cx="6858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لَقَدْ رَآَهُ نَزْلَةً أُخْرَى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عنْدَ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سِدْرَةِ الْمُنْتَهَى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نجم: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13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و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987160" y="3048120"/>
            <a:ext cx="2404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سِدْرَةِ الْمُنْتَهَى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52480" y="3048120"/>
            <a:ext cx="41054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جرة فوق السماء السابع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52480" y="3886200"/>
            <a:ext cx="4130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جرة في الجن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2480" y="4724280"/>
            <a:ext cx="4146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قام الأخير في الجن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419720" y="10666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3" dur="8307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880"/>
                            </p:stCondLst>
                            <p:childTnLst>
                              <p:par>
                                <p:cTn id="17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380"/>
                            </p:stCondLst>
                            <p:childTnLst>
                              <p:par>
                                <p:cTn id="17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880"/>
                            </p:stCondLst>
                            <p:childTnLst>
                              <p:par>
                                <p:cTn id="1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87" name=""/>
          <p:cNvSpPr/>
          <p:nvPr/>
        </p:nvSpPr>
        <p:spPr>
          <a:xfrm>
            <a:off x="685800" y="182880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أَأَنْتُمْ أَنْزَلْتُمُوهُ مِنَ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مُزْنِ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أَمْ نَحْنُ الْمُنْزِل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9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705720" y="3886200"/>
            <a:ext cx="1417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مُزْن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800600" y="388620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سم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2895480" y="388620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سحا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990720" y="3886200"/>
            <a:ext cx="1681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أعل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94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28" dur="indefinite" restart="never" nodeType="tmRoot">
          <p:childTnLst>
            <p:seq>
              <p:cTn id="2729" dur="indefinite" nodeType="mainSeq">
                <p:childTnLst>
                  <p:par>
                    <p:cTn id="2730" fill="hold">
                      <p:stCondLst>
                        <p:cond delay="0"/>
                      </p:stCondLst>
                      <p:childTnLst>
                        <p:par>
                          <p:cTn id="2731" fill="hold">
                            <p:stCondLst>
                              <p:cond delay="0"/>
                            </p:stCondLst>
                            <p:childTnLst>
                              <p:par>
                                <p:cTn id="27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4" dur="5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5" dur="5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37" dur="9875" fill="hold"/>
                                        <p:tgtEl>
                                          <p:spTgt spid="5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8" fill="hold">
                      <p:stCondLst>
                        <p:cond delay="indefinite"/>
                      </p:stCondLst>
                      <p:childTnLst>
                        <p:par>
                          <p:cTn id="2739" fill="hold">
                            <p:stCondLst>
                              <p:cond delay="0"/>
                            </p:stCondLst>
                            <p:childTnLst>
                              <p:par>
                                <p:cTn id="27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4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4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6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7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8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9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53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4" fill="hold">
                            <p:stCondLst>
                              <p:cond delay="1500"/>
                            </p:stCondLst>
                            <p:childTnLst>
                              <p:par>
                                <p:cTn id="27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7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8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9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2" dur="5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3" dur="5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4" fill="hold">
                      <p:stCondLst>
                        <p:cond delay="indefinite"/>
                      </p:stCondLst>
                      <p:childTnLst>
                        <p:par>
                          <p:cTn id="2765" fill="hold">
                            <p:stCondLst>
                              <p:cond delay="0"/>
                            </p:stCondLst>
                            <p:childTnLst>
                              <p:par>
                                <p:cTn id="2766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767" dur="80"/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68" dur="80"/>
                                        <p:tgtEl>
                                          <p:spTgt spid="5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9" dur="80"/>
                                        <p:tgtEl>
                                          <p:spTgt spid="5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77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1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772" dur="8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73" dur="8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4" dur="8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77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6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777" dur="8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78" dur="8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9" dur="8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78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96" name=""/>
          <p:cNvSpPr/>
          <p:nvPr/>
        </p:nvSpPr>
        <p:spPr>
          <a:xfrm>
            <a:off x="762120" y="182880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أَفَرَأَيْتُمُ النَّارَ الَّتِي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تُور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7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950520" y="3352680"/>
            <a:ext cx="1265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تُورُون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5105520" y="3352680"/>
            <a:ext cx="1603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دخل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200400" y="3352680"/>
            <a:ext cx="155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قدح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1219320" y="3352680"/>
            <a:ext cx="1622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ر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03" name="" descr=""/>
          <p:cNvPicPr/>
          <p:nvPr/>
        </p:nvPicPr>
        <p:blipFill>
          <a:blip r:embed="rId3"/>
          <a:stretch/>
        </p:blipFill>
        <p:spPr>
          <a:xfrm>
            <a:off x="4267080" y="2743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81" dur="indefinite" restart="never" nodeType="tmRoot">
          <p:childTnLst>
            <p:seq>
              <p:cTn id="2782" dur="indefinite" nodeType="mainSeq">
                <p:childTnLst>
                  <p:par>
                    <p:cTn id="2783" fill="hold">
                      <p:stCondLst>
                        <p:cond delay="0"/>
                      </p:stCondLst>
                      <p:childTnLst>
                        <p:par>
                          <p:cTn id="2784" fill="hold">
                            <p:stCondLst>
                              <p:cond delay="0"/>
                            </p:stCondLst>
                            <p:childTnLst>
                              <p:par>
                                <p:cTn id="278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7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8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9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0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1" dur="500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93" dur="5956" fill="hold"/>
                                        <p:tgtEl>
                                          <p:spTgt spid="6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4" fill="hold">
                      <p:stCondLst>
                        <p:cond delay="indefinite"/>
                      </p:stCondLst>
                      <p:childTnLst>
                        <p:par>
                          <p:cTn id="2795" fill="hold">
                            <p:stCondLst>
                              <p:cond delay="0"/>
                            </p:stCondLst>
                            <p:childTnLst>
                              <p:par>
                                <p:cTn id="27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8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04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5" fill="hold">
                            <p:stCondLst>
                              <p:cond delay="1500"/>
                            </p:stCondLst>
                            <p:childTnLst>
                              <p:par>
                                <p:cTn id="280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08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12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3" fill="hold">
                      <p:stCondLst>
                        <p:cond delay="indefinite"/>
                      </p:stCondLst>
                      <p:childTnLst>
                        <p:par>
                          <p:cTn id="2814" fill="hold">
                            <p:stCondLst>
                              <p:cond delay="0"/>
                            </p:stCondLst>
                            <p:childTnLst>
                              <p:par>
                                <p:cTn id="28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05" name=""/>
          <p:cNvSpPr/>
          <p:nvPr/>
        </p:nvSpPr>
        <p:spPr>
          <a:xfrm>
            <a:off x="533520" y="160020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نَحْنُ جَعَلْنَاهَا تَذْكِرَةً وَمَتَاعاً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لِلْمُقْوِي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 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73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6477120" y="3352680"/>
            <a:ext cx="15033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لِلْمُقْوِين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828800" y="4267080"/>
            <a:ext cx="3809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سافرين بأرض قف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828800" y="3352680"/>
            <a:ext cx="3809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ذين لا يخافون شيئ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828800" y="5181480"/>
            <a:ext cx="3821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سافرين الأقوي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12" name="" descr=""/>
          <p:cNvPicPr/>
          <p:nvPr/>
        </p:nvPicPr>
        <p:blipFill>
          <a:blip r:embed="rId3"/>
          <a:stretch/>
        </p:blipFill>
        <p:spPr>
          <a:xfrm>
            <a:off x="4267080" y="2590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19" dur="indefinite" restart="never" nodeType="tmRoot">
          <p:childTnLst>
            <p:seq>
              <p:cTn id="2820" dur="indefinite" nodeType="mainSeq">
                <p:childTnLst>
                  <p:par>
                    <p:cTn id="2821" fill="hold">
                      <p:stCondLst>
                        <p:cond delay="0"/>
                      </p:stCondLst>
                      <p:childTnLst>
                        <p:par>
                          <p:cTn id="2822" fill="hold">
                            <p:stCondLst>
                              <p:cond delay="0"/>
                            </p:stCondLst>
                            <p:childTnLst>
                              <p:par>
                                <p:cTn id="282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27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29" dur="8098" fill="hold"/>
                                        <p:tgtEl>
                                          <p:spTgt spid="6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0" fill="hold">
                      <p:stCondLst>
                        <p:cond delay="indefinite"/>
                      </p:stCondLst>
                      <p:childTnLst>
                        <p:par>
                          <p:cTn id="2831" fill="hold">
                            <p:stCondLst>
                              <p:cond delay="0"/>
                            </p:stCondLst>
                            <p:childTnLst>
                              <p:par>
                                <p:cTn id="28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36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40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1" fill="hold">
                            <p:stCondLst>
                              <p:cond delay="1500"/>
                            </p:stCondLst>
                            <p:childTnLst>
                              <p:par>
                                <p:cTn id="28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44" dur="80"/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5" dur="80"/>
                                        <p:tgtEl>
                                          <p:spTgt spid="6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6" dur="80"/>
                                        <p:tgtEl>
                                          <p:spTgt spid="6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7" fill="hold">
                            <p:stCondLst>
                              <p:cond delay="2180"/>
                            </p:stCondLst>
                            <p:childTnLst>
                              <p:par>
                                <p:cTn id="28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0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1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4" dur="5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5" dur="5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6" fill="hold">
                      <p:stCondLst>
                        <p:cond delay="indefinite"/>
                      </p:stCondLst>
                      <p:childTnLst>
                        <p:par>
                          <p:cTn id="2857" fill="hold">
                            <p:stCondLst>
                              <p:cond delay="0"/>
                            </p:stCondLst>
                            <p:childTnLst>
                              <p:par>
                                <p:cTn id="28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14" name=""/>
          <p:cNvSpPr/>
          <p:nvPr/>
        </p:nvSpPr>
        <p:spPr>
          <a:xfrm>
            <a:off x="685800" y="17524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َفَبِهَذَا الْحَدِيثِ أَنْتُمْ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دْهِن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8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6705720" y="3581280"/>
            <a:ext cx="14684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دْهِنُون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124080" y="3581280"/>
            <a:ext cx="1528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تهاون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876920" y="3581280"/>
            <a:ext cx="1546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افر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1219320" y="3581280"/>
            <a:ext cx="1646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مزح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21" name="" descr=""/>
          <p:cNvPicPr/>
          <p:nvPr/>
        </p:nvPicPr>
        <p:blipFill>
          <a:blip r:embed="rId3"/>
          <a:stretch/>
        </p:blipFill>
        <p:spPr>
          <a:xfrm>
            <a:off x="3962520" y="2438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64" dur="indefinite" restart="never" nodeType="tmRoot">
          <p:childTnLst>
            <p:seq>
              <p:cTn id="2865" dur="indefinite" nodeType="mainSeq">
                <p:childTnLst>
                  <p:par>
                    <p:cTn id="2866" fill="hold">
                      <p:stCondLst>
                        <p:cond delay="0"/>
                      </p:stCondLst>
                      <p:childTnLst>
                        <p:par>
                          <p:cTn id="2867" fill="hold">
                            <p:stCondLst>
                              <p:cond delay="0"/>
                            </p:stCondLst>
                            <p:childTnLst>
                              <p:par>
                                <p:cTn id="28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0" dur="10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1" dur="10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72" dur="1000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74" dur="6949" fill="hold"/>
                                        <p:tgtEl>
                                          <p:spTgt spid="6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5" fill="hold">
                      <p:stCondLst>
                        <p:cond delay="indefinite"/>
                      </p:stCondLst>
                      <p:childTnLst>
                        <p:par>
                          <p:cTn id="2876" fill="hold">
                            <p:stCondLst>
                              <p:cond delay="0"/>
                            </p:stCondLst>
                            <p:childTnLst>
                              <p:par>
                                <p:cTn id="28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79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8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83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7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8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9" fill="hold">
                            <p:stCondLst>
                              <p:cond delay="1500"/>
                            </p:stCondLst>
                            <p:childTnLst>
                              <p:par>
                                <p:cTn id="289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2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3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4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5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6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7" fill="hold">
                      <p:stCondLst>
                        <p:cond delay="indefinite"/>
                      </p:stCondLst>
                      <p:childTnLst>
                        <p:par>
                          <p:cTn id="2898" fill="hold">
                            <p:stCondLst>
                              <p:cond delay="0"/>
                            </p:stCondLst>
                            <p:childTnLst>
                              <p:par>
                                <p:cTn id="28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838080" y="1752480"/>
            <a:ext cx="723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فَلَوْلا إِنْ كُنْتُمْ غَيْرَ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دِينِين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8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781680" y="3505320"/>
            <a:ext cx="1405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دِينِين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990720" y="3505320"/>
            <a:ext cx="1590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جزي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4800600" y="350532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حاسب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2895480" y="3505320"/>
            <a:ext cx="1611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بالين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30" name="" descr=""/>
          <p:cNvPicPr/>
          <p:nvPr/>
        </p:nvPicPr>
        <p:blipFill>
          <a:blip r:embed="rId3"/>
          <a:stretch/>
        </p:blipFill>
        <p:spPr>
          <a:xfrm>
            <a:off x="4038480" y="2514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03" dur="indefinite" restart="never" nodeType="tmRoot">
          <p:childTnLst>
            <p:seq>
              <p:cTn id="2904" dur="indefinite" nodeType="mainSeq">
                <p:childTnLst>
                  <p:par>
                    <p:cTn id="2905" fill="hold">
                      <p:stCondLst>
                        <p:cond delay="0"/>
                      </p:stCondLst>
                      <p:childTnLst>
                        <p:par>
                          <p:cTn id="2906" fill="hold">
                            <p:stCondLst>
                              <p:cond delay="0"/>
                            </p:stCondLst>
                            <p:childTnLst>
                              <p:par>
                                <p:cTn id="290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9" dur="5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0" dur="5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1" dur="5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2" dur="5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3" dur="500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15" dur="7889" fill="hold"/>
                                        <p:tgtEl>
                                          <p:spTgt spid="6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6" fill="hold">
                      <p:stCondLst>
                        <p:cond delay="indefinite"/>
                      </p:stCondLst>
                      <p:childTnLst>
                        <p:par>
                          <p:cTn id="2917" fill="hold">
                            <p:stCondLst>
                              <p:cond delay="0"/>
                            </p:stCondLst>
                            <p:childTnLst>
                              <p:par>
                                <p:cTn id="291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0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1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2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3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4" fill="hold">
                            <p:stCondLst>
                              <p:cond delay="500"/>
                            </p:stCondLst>
                            <p:childTnLst>
                              <p:par>
                                <p:cTn id="29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27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9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33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4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37" dur="80"/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38" dur="80"/>
                                        <p:tgtEl>
                                          <p:spTgt spid="6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9" dur="80"/>
                                        <p:tgtEl>
                                          <p:spTgt spid="6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0" fill="hold">
                      <p:stCondLst>
                        <p:cond delay="indefinite"/>
                      </p:stCondLst>
                      <p:childTnLst>
                        <p:par>
                          <p:cTn id="2941" fill="hold">
                            <p:stCondLst>
                              <p:cond delay="0"/>
                            </p:stCondLst>
                            <p:childTnLst>
                              <p:par>
                                <p:cTn id="2942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943" dur="80"/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44" dur="80"/>
                                        <p:tgtEl>
                                          <p:spTgt spid="6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5" dur="80"/>
                                        <p:tgtEl>
                                          <p:spTgt spid="6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94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7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948" dur="8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49" dur="8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0" dur="8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95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32" name=""/>
          <p:cNvSpPr/>
          <p:nvPr/>
        </p:nvSpPr>
        <p:spPr>
          <a:xfrm>
            <a:off x="609480" y="1219320"/>
            <a:ext cx="784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ثُمَّ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قَفَّيْنَ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عَلَى آثَارِهِمْ بِرُسُلِنَا وَقَفَّيْنَا بِعِيسَى ابْنِ مَرْيَمَ وَآتَيْنَاهُ الْأِنْجِيلَ وَجَعَلْنَا فِي قُلُوبِ الَّذِينَ اتَّبَعُوهُ رَأْفَةً وَرَحْمَةً وَرَهْبَانِيَّةً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بْتَدَعُوهَا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مَا كَتَبْنَاهَا عَلَيْهِمْ إِلَّا ابْتِغَاءَ رِضْوَانِ اللَّهِ فَمَا رَعَوْهَا حَقَّ رِعَايَتِهَا فَآتَيْنَا الَّذِينَ آمَنُوا مِنْهُمْ أَجْرَهُمْ وَكَثِيرٌ مِنْهُمْ فَاسِق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حديد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6934320" y="36576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قَفَّيْنَا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6934320" y="4572000"/>
            <a:ext cx="13413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بْتَدَعُوهَا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105520" y="3657600"/>
            <a:ext cx="1587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تبعن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200400" y="3657600"/>
            <a:ext cx="1590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عثن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219320" y="36576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رسلن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200400" y="4572000"/>
            <a:ext cx="1603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خترعو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105520" y="4572000"/>
            <a:ext cx="1628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صدقو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1219320" y="4572000"/>
            <a:ext cx="1619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خلقو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sp>
        <p:nvSpPr>
          <p:cNvPr id="643" name=""/>
          <p:cNvSpPr/>
          <p:nvPr/>
        </p:nvSpPr>
        <p:spPr>
          <a:xfrm>
            <a:off x="1101960" y="5410080"/>
            <a:ext cx="750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400" spc="-1" strike="noStrike">
                <a:solidFill>
                  <a:srgbClr val="010199"/>
                </a:solidFill>
                <a:latin typeface="Arial"/>
                <a:cs typeface="Arial"/>
              </a:rPr>
              <a:t>الابتداع هو إتيان ما لم يسبق إليه في دين أو سنة أو صنعة</a:t>
            </a:r>
            <a:r>
              <a:rPr b="0" lang="ar-SA" sz="2400" spc="-1" strike="noStrike">
                <a:solidFill>
                  <a:srgbClr val="010199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4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52" dur="indefinite" restart="never" nodeType="tmRoot">
          <p:childTnLst>
            <p:seq>
              <p:cTn id="2953" dur="indefinite" nodeType="mainSeq">
                <p:childTnLst>
                  <p:par>
                    <p:cTn id="2954" fill="hold">
                      <p:stCondLst>
                        <p:cond delay="0"/>
                      </p:stCondLst>
                      <p:childTnLst>
                        <p:par>
                          <p:cTn id="2955" fill="hold">
                            <p:stCondLst>
                              <p:cond delay="0"/>
                            </p:stCondLst>
                            <p:childTnLst>
                              <p:par>
                                <p:cTn id="295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58" dur="500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60" dur="67971" fill="hold"/>
                                        <p:tgtEl>
                                          <p:spTgt spid="6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1" fill="hold">
                      <p:stCondLst>
                        <p:cond delay="indefinite"/>
                      </p:stCondLst>
                      <p:childTnLst>
                        <p:par>
                          <p:cTn id="2962" fill="hold">
                            <p:stCondLst>
                              <p:cond delay="0"/>
                            </p:stCondLst>
                            <p:childTnLst>
                              <p:par>
                                <p:cTn id="296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67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1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2" fill="hold">
                            <p:stCondLst>
                              <p:cond delay="1500"/>
                            </p:stCondLst>
                            <p:childTnLst>
                              <p:par>
                                <p:cTn id="297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75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9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0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1" fill="hold">
                      <p:stCondLst>
                        <p:cond delay="indefinite"/>
                      </p:stCondLst>
                      <p:childTnLst>
                        <p:par>
                          <p:cTn id="2982" fill="hold">
                            <p:stCondLst>
                              <p:cond delay="0"/>
                            </p:stCondLst>
                            <p:childTnLst>
                              <p:par>
                                <p:cTn id="29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7" fill="hold">
                            <p:stCondLst>
                              <p:cond delay="0"/>
                            </p:stCondLst>
                            <p:childTnLst>
                              <p:par>
                                <p:cTn id="298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90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4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5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99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0" fill="hold">
                            <p:stCondLst>
                              <p:cond delay="1500"/>
                            </p:stCondLst>
                            <p:childTnLst>
                              <p:par>
                                <p:cTn id="30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3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4" fill="hold">
                      <p:stCondLst>
                        <p:cond delay="indefinite"/>
                      </p:stCondLst>
                      <p:childTnLst>
                        <p:par>
                          <p:cTn id="3005" fill="hold">
                            <p:stCondLst>
                              <p:cond delay="0"/>
                            </p:stCondLst>
                            <p:childTnLst>
                              <p:par>
                                <p:cTn id="30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0" fill="hold">
                            <p:stCondLst>
                              <p:cond delay="0"/>
                            </p:stCondLst>
                            <p:childTnLst>
                              <p:par>
                                <p:cTn id="30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" descr=""/>
          <p:cNvPicPr/>
          <p:nvPr/>
        </p:nvPicPr>
        <p:blipFill>
          <a:blip r:embed="rId1"/>
          <a:stretch/>
        </p:blipFill>
        <p:spPr>
          <a:xfrm>
            <a:off x="-304920" y="-7632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46" name=""/>
          <p:cNvSpPr/>
          <p:nvPr/>
        </p:nvSpPr>
        <p:spPr>
          <a:xfrm>
            <a:off x="762120" y="167652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َصْحَابُ الْجَنَّةِ يَوْمَئِذٍ خَيْرٌ مُسْتَقَرّاً وَأَحْسَنُ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مَقِيل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فرقا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7238880" y="3352680"/>
            <a:ext cx="10782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مَقِيلاً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2819520" y="3352680"/>
            <a:ext cx="21715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كان الإستراح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5105520" y="3352680"/>
            <a:ext cx="2000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كلاً ومقام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762120" y="3352680"/>
            <a:ext cx="1904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ثواباً ومقام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762120" y="487692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مقيل إسم مكان الاستقرار ومعناه ظاهر من القيلولة اي الاستراحة في منتصف النهار سواء معها نوم أم لا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54" name="" descr=""/>
          <p:cNvPicPr/>
          <p:nvPr/>
        </p:nvPicPr>
        <p:blipFill>
          <a:blip r:embed="rId3"/>
          <a:stretch/>
        </p:blipFill>
        <p:spPr>
          <a:xfrm>
            <a:off x="3429000" y="2362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14" dur="indefinite" restart="never" nodeType="tmRoot">
          <p:childTnLst>
            <p:seq>
              <p:cTn id="3015" dur="indefinite" nodeType="mainSeq">
                <p:childTnLst>
                  <p:par>
                    <p:cTn id="3016" fill="hold">
                      <p:stCondLst>
                        <p:cond delay="0"/>
                      </p:stCondLst>
                      <p:childTnLst>
                        <p:par>
                          <p:cTn id="3017" fill="hold">
                            <p:stCondLst>
                              <p:cond delay="0"/>
                            </p:stCondLst>
                            <p:childTnLst>
                              <p:par>
                                <p:cTn id="30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0" dur="1000" fill="hold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1" dur="1000" fill="hold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22" dur="1000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24" dur="9405" fill="hold"/>
                                        <p:tgtEl>
                                          <p:spTgt spid="6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5" fill="hold">
                      <p:stCondLst>
                        <p:cond delay="indefinite"/>
                      </p:stCondLst>
                      <p:childTnLst>
                        <p:par>
                          <p:cTn id="3026" fill="hold">
                            <p:stCondLst>
                              <p:cond delay="0"/>
                            </p:stCondLst>
                            <p:childTnLst>
                              <p:par>
                                <p:cTn id="302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31" dur="1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35" dur="8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6" dur="8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37" dur="8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40" dur="80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41" dur="80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2" dur="80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3" fill="hold">
                            <p:stCondLst>
                              <p:cond delay="1520"/>
                            </p:stCondLst>
                            <p:childTnLst>
                              <p:par>
                                <p:cTn id="304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6" dur="8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7" dur="8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8" dur="8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9" dur="8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2" fill="hold">
                            <p:stCondLst>
                              <p:cond delay="2520"/>
                            </p:stCondLst>
                            <p:childTnLst>
                              <p:par>
                                <p:cTn id="305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55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6" fill="hold">
                      <p:stCondLst>
                        <p:cond delay="indefinite"/>
                      </p:stCondLst>
                      <p:childTnLst>
                        <p:par>
                          <p:cTn id="3057" fill="hold">
                            <p:stCondLst>
                              <p:cond delay="0"/>
                            </p:stCondLst>
                            <p:childTnLst>
                              <p:par>
                                <p:cTn id="3058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059" dur="80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60" dur="80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1" dur="80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06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3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064" dur="8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65" dur="8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6" dur="8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06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8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069" dur="80"/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70" dur="80"/>
                                        <p:tgtEl>
                                          <p:spTgt spid="6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1" dur="80"/>
                                        <p:tgtEl>
                                          <p:spTgt spid="6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07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3" fill="hold">
                            <p:stCondLst>
                              <p:cond delay="560"/>
                            </p:stCondLst>
                            <p:childTnLst>
                              <p:par>
                                <p:cTn id="30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6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56" name=""/>
          <p:cNvSpPr/>
          <p:nvPr/>
        </p:nvSpPr>
        <p:spPr>
          <a:xfrm>
            <a:off x="838080" y="15238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عَاداً وَثَمُودَا وَأَصْحَابَ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الرَّسِّ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قُرُوناً بَيْنَ ذَلِكَ كَثِير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فرقا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6858000" y="34290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الرَّسِّ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2819520" y="342900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قر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4876920" y="3429000"/>
            <a:ext cx="1676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بئ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838080" y="342900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أر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6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77" dur="indefinite" restart="never" nodeType="tmRoot">
          <p:childTnLst>
            <p:seq>
              <p:cTn id="3078" dur="indefinite" nodeType="mainSeq">
                <p:childTnLst>
                  <p:par>
                    <p:cTn id="3079" fill="hold">
                      <p:stCondLst>
                        <p:cond delay="0"/>
                      </p:stCondLst>
                      <p:childTnLst>
                        <p:par>
                          <p:cTn id="3080" fill="hold">
                            <p:stCondLst>
                              <p:cond delay="0"/>
                            </p:stCondLst>
                            <p:childTnLst>
                              <p:par>
                                <p:cTn id="308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83" dur="500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85" dur="9405" fill="hold"/>
                                        <p:tgtEl>
                                          <p:spTgt spid="6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6" fill="hold">
                      <p:stCondLst>
                        <p:cond delay="indefinite"/>
                      </p:stCondLst>
                      <p:childTnLst>
                        <p:par>
                          <p:cTn id="3087" fill="hold">
                            <p:stCondLst>
                              <p:cond delay="0"/>
                            </p:stCondLst>
                            <p:childTnLst>
                              <p:par>
                                <p:cTn id="30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90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1" fill="hold">
                            <p:stCondLst>
                              <p:cond delay="500"/>
                            </p:stCondLst>
                            <p:childTnLst>
                              <p:par>
                                <p:cTn id="30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4" dur="80"/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95" dur="80"/>
                                        <p:tgtEl>
                                          <p:spTgt spid="6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6" dur="80"/>
                                        <p:tgtEl>
                                          <p:spTgt spid="6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7" fill="hold">
                            <p:stCondLst>
                              <p:cond delay="740"/>
                            </p:stCondLst>
                            <p:childTnLst>
                              <p:par>
                                <p:cTn id="309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3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8" fill="hold">
                            <p:stCondLst>
                              <p:cond delay="1740"/>
                            </p:stCondLst>
                            <p:childTnLst>
                              <p:par>
                                <p:cTn id="3109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4" dur="1000" fill="hold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9" fill="hold">
                            <p:stCondLst>
                              <p:cond delay="2740"/>
                            </p:stCondLst>
                            <p:childTnLst>
                              <p:par>
                                <p:cTn id="3120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2" dur="8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3" dur="8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4" dur="8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5" dur="8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8" fill="hold">
                      <p:stCondLst>
                        <p:cond delay="indefinite"/>
                      </p:stCondLst>
                      <p:childTnLst>
                        <p:par>
                          <p:cTn id="3129" fill="hold">
                            <p:stCondLst>
                              <p:cond delay="0"/>
                            </p:stCondLst>
                            <p:childTnLst>
                              <p:par>
                                <p:cTn id="3130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131" dur="80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32" dur="80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3" dur="80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13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5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136" dur="80"/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37" dur="80"/>
                                        <p:tgtEl>
                                          <p:spTgt spid="6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8" dur="80"/>
                                        <p:tgtEl>
                                          <p:spTgt spid="6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13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141" dur="80"/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42" dur="80"/>
                                        <p:tgtEl>
                                          <p:spTgt spid="6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3" dur="80"/>
                                        <p:tgtEl>
                                          <p:spTgt spid="6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14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4" name="" descr=""/>
          <p:cNvPicPr/>
          <p:nvPr/>
        </p:nvPicPr>
        <p:blipFill>
          <a:blip r:embed="rId1"/>
          <a:stretch/>
        </p:blipFill>
        <p:spPr>
          <a:xfrm>
            <a:off x="-457200" y="0"/>
            <a:ext cx="9906120" cy="7315200"/>
          </a:xfrm>
          <a:prstGeom prst="rect">
            <a:avLst/>
          </a:prstGeom>
          <a:ln w="0">
            <a:noFill/>
          </a:ln>
        </p:spPr>
      </p:pic>
      <p:sp>
        <p:nvSpPr>
          <p:cNvPr id="665" name=""/>
          <p:cNvSpPr/>
          <p:nvPr/>
        </p:nvSpPr>
        <p:spPr>
          <a:xfrm>
            <a:off x="838080" y="175248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كُلّاً ضَرَبْنَا لَهُ الْأَمْثَالَ وَكُلّاً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تَبَّرْنَا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تَتْبِير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فرقا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9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6705720" y="3657600"/>
            <a:ext cx="1400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تَبَّرْنَا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2819520" y="365760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هلكن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4724280" y="3657600"/>
            <a:ext cx="1586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ضربن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990720" y="3657600"/>
            <a:ext cx="1447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اسبن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7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45" dur="indefinite" restart="never" nodeType="tmRoot">
          <p:childTnLst>
            <p:seq>
              <p:cTn id="3146" dur="indefinite" nodeType="mainSeq">
                <p:childTnLst>
                  <p:par>
                    <p:cTn id="3147" fill="hold">
                      <p:stCondLst>
                        <p:cond delay="0"/>
                      </p:stCondLst>
                      <p:childTnLst>
                        <p:par>
                          <p:cTn id="3148" fill="hold">
                            <p:stCondLst>
                              <p:cond delay="0"/>
                            </p:stCondLst>
                            <p:childTnLst>
                              <p:par>
                                <p:cTn id="314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53" dur="1000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55" dur="9561" fill="hold"/>
                                        <p:tgtEl>
                                          <p:spTgt spid="6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6" fill="hold">
                      <p:stCondLst>
                        <p:cond delay="indefinite"/>
                      </p:stCondLst>
                      <p:childTnLst>
                        <p:par>
                          <p:cTn id="3157" fill="hold">
                            <p:stCondLst>
                              <p:cond delay="0"/>
                            </p:stCondLst>
                            <p:childTnLst>
                              <p:par>
                                <p:cTn id="315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0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1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2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3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4" fill="hold">
                            <p:stCondLst>
                              <p:cond delay="500"/>
                            </p:stCondLst>
                            <p:childTnLst>
                              <p:par>
                                <p:cTn id="31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67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0" dur="500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4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5" fill="hold">
                            <p:stCondLst>
                              <p:cond delay="1500"/>
                            </p:stCondLst>
                            <p:childTnLst>
                              <p:par>
                                <p:cTn id="31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8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9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0" fill="hold">
                      <p:stCondLst>
                        <p:cond delay="indefinite"/>
                      </p:stCondLst>
                      <p:childTnLst>
                        <p:par>
                          <p:cTn id="3181" fill="hold">
                            <p:stCondLst>
                              <p:cond delay="0"/>
                            </p:stCondLst>
                            <p:childTnLst>
                              <p:par>
                                <p:cTn id="31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74" name=""/>
          <p:cNvSpPr/>
          <p:nvPr/>
        </p:nvSpPr>
        <p:spPr>
          <a:xfrm>
            <a:off x="990720" y="1447920"/>
            <a:ext cx="716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الَّذِينَ يَقُولُونَ رَبَّنَا اصْرِفْ عَنَّا عَذَابَ جَهَنَّمَ إِنَّ عَذَابَهَا كَانَ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غَرَام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فرقا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6858000" y="3200400"/>
            <a:ext cx="1349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غَرَاماً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952880" y="3200400"/>
            <a:ext cx="1543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ازم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971800" y="3200400"/>
            <a:ext cx="1622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ديد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990720" y="32004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وجع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609480" y="468792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غرام  ما ينوب الانسان من شدة أو مصيبة فيلازمه لا يفارقه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8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88" dur="indefinite" restart="never" nodeType="tmRoot">
          <p:childTnLst>
            <p:seq>
              <p:cTn id="3189" dur="indefinite" nodeType="mainSeq">
                <p:childTnLst>
                  <p:par>
                    <p:cTn id="3190" fill="hold">
                      <p:stCondLst>
                        <p:cond delay="0"/>
                      </p:stCondLst>
                      <p:childTnLst>
                        <p:par>
                          <p:cTn id="3191" fill="hold">
                            <p:stCondLst>
                              <p:cond delay="0"/>
                            </p:stCondLst>
                            <p:childTnLst>
                              <p:par>
                                <p:cTn id="319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94" dur="500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96" dur="12591" fill="hold"/>
                                        <p:tgtEl>
                                          <p:spTgt spid="6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7" fill="hold">
                      <p:stCondLst>
                        <p:cond delay="indefinite"/>
                      </p:stCondLst>
                      <p:childTnLst>
                        <p:par>
                          <p:cTn id="3198" fill="hold">
                            <p:stCondLst>
                              <p:cond delay="0"/>
                            </p:stCondLst>
                            <p:childTnLst>
                              <p:par>
                                <p:cTn id="31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01" dur="80"/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2" dur="80"/>
                                        <p:tgtEl>
                                          <p:spTgt spid="6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3" dur="80"/>
                                        <p:tgtEl>
                                          <p:spTgt spid="6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4" fill="hold">
                            <p:stCondLst>
                              <p:cond delay="400"/>
                            </p:stCondLst>
                            <p:childTnLst>
                              <p:par>
                                <p:cTn id="320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0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5" fill="hold">
                            <p:stCondLst>
                              <p:cond delay="1400"/>
                            </p:stCondLst>
                            <p:childTnLst>
                              <p:par>
                                <p:cTn id="3216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8" dur="8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9" dur="8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0" dur="8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1" dur="8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4" nodeType="with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6" dur="800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7" dur="800" fill="hold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8" dur="800" fill="hold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9" dur="800" fill="hold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2" fill="hold">
                            <p:stCondLst>
                              <p:cond delay="2400"/>
                            </p:stCondLst>
                            <p:childTnLst>
                              <p:par>
                                <p:cTn id="3233" nodeType="after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5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6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7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8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9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0" fill="hold">
                      <p:stCondLst>
                        <p:cond delay="indefinite"/>
                      </p:stCondLst>
                      <p:childTnLst>
                        <p:par>
                          <p:cTn id="3241" fill="hold">
                            <p:stCondLst>
                              <p:cond delay="0"/>
                            </p:stCondLst>
                            <p:childTnLst>
                              <p:par>
                                <p:cTn id="3242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243" dur="80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44" dur="80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45" dur="80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24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7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248" dur="80"/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49" dur="80"/>
                                        <p:tgtEl>
                                          <p:spTgt spid="6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0" dur="80"/>
                                        <p:tgtEl>
                                          <p:spTgt spid="6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25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2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253" dur="80"/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54" dur="80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5" dur="80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25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7" fill="hold">
                            <p:stCondLst>
                              <p:cond delay="280"/>
                            </p:stCondLst>
                            <p:childTnLst>
                              <p:par>
                                <p:cTn id="32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0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066680" y="1523880"/>
            <a:ext cx="70106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َلَكُمُ الذَّكَرُ وَلَهُ الْأُنْثَى </a:t>
            </a:r>
            <a:r>
              <a:rPr b="0" lang="ar-SA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تِلْكَ إِذاً قِسْمَةٌ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ضِيزَى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نجم: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21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705720" y="3429000"/>
            <a:ext cx="1407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ضِيزَى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971800" y="3429000"/>
            <a:ext cx="1585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ائ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1504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زائف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3429000"/>
            <a:ext cx="1525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اطل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4419720" y="10666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9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2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4" dur="8673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0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500"/>
                            </p:stCondLst>
                            <p:childTnLst>
                              <p:par>
                                <p:cTn id="2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xit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84" name=""/>
          <p:cNvSpPr/>
          <p:nvPr/>
        </p:nvSpPr>
        <p:spPr>
          <a:xfrm>
            <a:off x="838080" y="160020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ُولَئِكَ يُجْزَوْنَ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ea typeface="Arial"/>
              </a:rPr>
              <a:t> الْغُرْفَةَ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بِمَا صَبَرُوا وَيُلَقَّوْنَ فِيهَا تَحِيَّةً وَسَلام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فرقا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7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858000" y="3657600"/>
            <a:ext cx="1382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الْغُرْفَةَ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838080" y="3657600"/>
            <a:ext cx="19051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درجة العال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4876920" y="3657600"/>
            <a:ext cx="1812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قصو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2895480" y="365760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حو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91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61" dur="indefinite" restart="never" nodeType="tmRoot">
          <p:childTnLst>
            <p:seq>
              <p:cTn id="3262" dur="indefinite" nodeType="mainSeq">
                <p:childTnLst>
                  <p:par>
                    <p:cTn id="3263" fill="hold">
                      <p:stCondLst>
                        <p:cond delay="0"/>
                      </p:stCondLst>
                      <p:childTnLst>
                        <p:par>
                          <p:cTn id="3264" fill="hold">
                            <p:stCondLst>
                              <p:cond delay="0"/>
                            </p:stCondLst>
                            <p:childTnLst>
                              <p:par>
                                <p:cTn id="32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7" dur="1000" fill="hold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8" dur="1000" fill="hold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69" dur="1000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71" dur="11651" fill="hold"/>
                                        <p:tgtEl>
                                          <p:spTgt spid="6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2" fill="hold">
                      <p:stCondLst>
                        <p:cond delay="indefinite"/>
                      </p:stCondLst>
                      <p:childTnLst>
                        <p:par>
                          <p:cTn id="3273" fill="hold">
                            <p:stCondLst>
                              <p:cond delay="0"/>
                            </p:stCondLst>
                            <p:childTnLst>
                              <p:par>
                                <p:cTn id="327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6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7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8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9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0" fill="hold">
                            <p:stCondLst>
                              <p:cond delay="500"/>
                            </p:stCondLst>
                            <p:childTnLst>
                              <p:par>
                                <p:cTn id="328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3" dur="8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4" dur="8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5" dur="8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6" dur="8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9" fill="hold">
                            <p:stCondLst>
                              <p:cond delay="1500"/>
                            </p:stCondLst>
                            <p:childTnLst>
                              <p:par>
                                <p:cTn id="3290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2" dur="800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3" dur="800" fill="hold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4" dur="800" fill="hold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5" dur="800" fill="hold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8" fill="hold">
                            <p:stCondLst>
                              <p:cond delay="2500"/>
                            </p:stCondLst>
                            <p:childTnLst>
                              <p:par>
                                <p:cTn id="32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01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5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6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7" fill="hold">
                      <p:stCondLst>
                        <p:cond delay="indefinite"/>
                      </p:stCondLst>
                      <p:childTnLst>
                        <p:par>
                          <p:cTn id="3308" fill="hold">
                            <p:stCondLst>
                              <p:cond delay="0"/>
                            </p:stCondLst>
                            <p:childTnLst>
                              <p:par>
                                <p:cTn id="3309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310" dur="80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11" dur="80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2" dur="80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31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4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315" dur="80"/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16" dur="80"/>
                                        <p:tgtEl>
                                          <p:spTgt spid="6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7" dur="80"/>
                                        <p:tgtEl>
                                          <p:spTgt spid="6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31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9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320" dur="80"/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21" dur="80"/>
                                        <p:tgtEl>
                                          <p:spTgt spid="6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2" dur="80"/>
                                        <p:tgtEl>
                                          <p:spTgt spid="6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32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93" name=""/>
          <p:cNvSpPr/>
          <p:nvPr/>
        </p:nvSpPr>
        <p:spPr>
          <a:xfrm>
            <a:off x="685800" y="16765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فَكُبْكِبُوا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ِيهَا هُمْ وَ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الْغَاوُونَ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شعراء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9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6934320" y="3200400"/>
            <a:ext cx="13190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فَكُبْكِبُوا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47120" y="5486400"/>
            <a:ext cx="1779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َالْغَاوُونَ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5029200" y="5486400"/>
            <a:ext cx="1822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ضال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2895480" y="5486400"/>
            <a:ext cx="1752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عرض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990720" y="5486400"/>
            <a:ext cx="16002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فسد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1828800" y="3200400"/>
            <a:ext cx="4405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فألقوا على وجوهه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828800" y="3962520"/>
            <a:ext cx="4443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فتعذبوا في النا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1828800" y="4724280"/>
            <a:ext cx="4486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فأسقطوا في جهن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04" name="" descr=""/>
          <p:cNvPicPr/>
          <p:nvPr/>
        </p:nvPicPr>
        <p:blipFill>
          <a:blip r:embed="rId3"/>
          <a:stretch/>
        </p:blipFill>
        <p:spPr>
          <a:xfrm>
            <a:off x="2133720" y="2133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24" dur="indefinite" restart="never" nodeType="tmRoot">
          <p:childTnLst>
            <p:seq>
              <p:cTn id="3325" dur="indefinite" nodeType="mainSeq">
                <p:childTnLst>
                  <p:par>
                    <p:cTn id="3326" fill="hold">
                      <p:stCondLst>
                        <p:cond delay="0"/>
                      </p:stCondLst>
                      <p:childTnLst>
                        <p:par>
                          <p:cTn id="3327" fill="hold">
                            <p:stCondLst>
                              <p:cond delay="0"/>
                            </p:stCondLst>
                            <p:childTnLst>
                              <p:par>
                                <p:cTn id="332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0" dur="800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1" dur="80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2" dur="80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3" dur="80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37" dur="4337" fill="hold"/>
                                        <p:tgtEl>
                                          <p:spTgt spid="7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8" fill="hold">
                      <p:stCondLst>
                        <p:cond delay="indefinite"/>
                      </p:stCondLst>
                      <p:childTnLst>
                        <p:par>
                          <p:cTn id="3339" fill="hold">
                            <p:stCondLst>
                              <p:cond delay="0"/>
                            </p:stCondLst>
                            <p:childTnLst>
                              <p:par>
                                <p:cTn id="334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2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3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4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5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6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3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50" dur="80"/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51" dur="80"/>
                                        <p:tgtEl>
                                          <p:spTgt spid="6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2" dur="80"/>
                                        <p:tgtEl>
                                          <p:spTgt spid="6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3" fill="hold">
                            <p:stCondLst>
                              <p:cond delay="1140"/>
                            </p:stCondLst>
                            <p:childTnLst>
                              <p:par>
                                <p:cTn id="33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56" dur="8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57" dur="8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8" dur="8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61" dur="8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62" dur="8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3" dur="8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4" fill="hold">
                            <p:stCondLst>
                              <p:cond delay="1740"/>
                            </p:stCondLst>
                            <p:childTnLst>
                              <p:par>
                                <p:cTn id="33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67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8" fill="hold">
                      <p:stCondLst>
                        <p:cond delay="indefinite"/>
                      </p:stCondLst>
                      <p:childTnLst>
                        <p:par>
                          <p:cTn id="3369" fill="hold">
                            <p:stCondLst>
                              <p:cond delay="0"/>
                            </p:stCondLst>
                            <p:childTnLst>
                              <p:par>
                                <p:cTn id="3370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371" dur="8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72" dur="8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3" dur="8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37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5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376" dur="8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77" dur="8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8" dur="8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37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0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81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3" fill="hold">
                            <p:stCondLst>
                              <p:cond delay="600"/>
                            </p:stCondLst>
                            <p:childTnLst>
                              <p:par>
                                <p:cTn id="33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86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7" fill="hold">
                            <p:stCondLst>
                              <p:cond delay="1100"/>
                            </p:stCondLst>
                            <p:childTnLst>
                              <p:par>
                                <p:cTn id="33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0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1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2" fill="hold">
                            <p:stCondLst>
                              <p:cond delay="1600"/>
                            </p:stCondLst>
                            <p:childTnLst>
                              <p:par>
                                <p:cTn id="339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5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6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7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8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1" dur="5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2" dur="5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3" dur="5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4" dur="5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5" fill="hold">
                            <p:stCondLst>
                              <p:cond delay="2100"/>
                            </p:stCondLst>
                            <p:childTnLst>
                              <p:par>
                                <p:cTn id="340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8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9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0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1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2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3" fill="hold">
                      <p:stCondLst>
                        <p:cond delay="indefinite"/>
                      </p:stCondLst>
                      <p:childTnLst>
                        <p:par>
                          <p:cTn id="3414" fill="hold">
                            <p:stCondLst>
                              <p:cond delay="0"/>
                            </p:stCondLst>
                            <p:childTnLst>
                              <p:par>
                                <p:cTn id="341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16" dur="10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7" dur="10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18" dur="10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0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21" dur="1000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2" dur="1000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23" dur="1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5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26" dur="1000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7" dur="1000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28" dur="1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06" name=""/>
          <p:cNvSpPr/>
          <p:nvPr/>
        </p:nvSpPr>
        <p:spPr>
          <a:xfrm>
            <a:off x="533520" y="19051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َتَبْنُونَ بِكُلِّ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رِيعٍ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آيَةً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تَعْبَثُون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شعراء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2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7010280" y="3124080"/>
            <a:ext cx="1192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رِيعٍ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7000920" y="5410080"/>
            <a:ext cx="1305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تَعْبَثُونَ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1676520" y="3809880"/>
            <a:ext cx="4833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كان المرتف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1676520" y="3124080"/>
            <a:ext cx="4806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ارض الخضر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676520" y="4495680"/>
            <a:ext cx="4809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كان فيه م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3505320" y="541008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له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5257800" y="541008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خرب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1784520" y="5410080"/>
            <a:ext cx="1415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ضيّع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17" name="" descr=""/>
          <p:cNvPicPr/>
          <p:nvPr/>
        </p:nvPicPr>
        <p:blipFill>
          <a:blip r:embed="rId3"/>
          <a:stretch/>
        </p:blipFill>
        <p:spPr>
          <a:xfrm>
            <a:off x="2971800" y="2209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30" dur="indefinite" restart="never" nodeType="tmRoot">
          <p:childTnLst>
            <p:seq>
              <p:cTn id="3431" dur="indefinite" nodeType="mainSeq">
                <p:childTnLst>
                  <p:par>
                    <p:cTn id="3432" fill="hold">
                      <p:stCondLst>
                        <p:cond delay="0"/>
                      </p:stCondLst>
                      <p:childTnLst>
                        <p:par>
                          <p:cTn id="3433" fill="hold">
                            <p:stCondLst>
                              <p:cond delay="0"/>
                            </p:stCondLst>
                            <p:childTnLst>
                              <p:par>
                                <p:cTn id="34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6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7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38" dur="1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40" dur="5956" fill="hold"/>
                                        <p:tgtEl>
                                          <p:spTgt spid="7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1" fill="hold">
                      <p:stCondLst>
                        <p:cond delay="indefinite"/>
                      </p:stCondLst>
                      <p:childTnLst>
                        <p:par>
                          <p:cTn id="3442" fill="hold">
                            <p:stCondLst>
                              <p:cond delay="0"/>
                            </p:stCondLst>
                            <p:childTnLst>
                              <p:par>
                                <p:cTn id="34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45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6" fill="hold">
                            <p:stCondLst>
                              <p:cond delay="500"/>
                            </p:stCondLst>
                            <p:childTnLst>
                              <p:par>
                                <p:cTn id="34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49" dur="80"/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50" dur="80"/>
                                        <p:tgtEl>
                                          <p:spTgt spid="7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1" dur="80"/>
                                        <p:tgtEl>
                                          <p:spTgt spid="7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2" fill="hold">
                            <p:stCondLst>
                              <p:cond delay="1020"/>
                            </p:stCondLst>
                            <p:childTnLst>
                              <p:par>
                                <p:cTn id="345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57" dur="1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8" fill="hold">
                            <p:stCondLst>
                              <p:cond delay="2020"/>
                            </p:stCondLst>
                            <p:childTnLst>
                              <p:par>
                                <p:cTn id="345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1" dur="8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2" dur="8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3" dur="8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4" dur="8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7" fill="hold">
                      <p:stCondLst>
                        <p:cond delay="indefinite"/>
                      </p:stCondLst>
                      <p:childTnLst>
                        <p:par>
                          <p:cTn id="3468" fill="hold">
                            <p:stCondLst>
                              <p:cond delay="0"/>
                            </p:stCondLst>
                            <p:childTnLst>
                              <p:par>
                                <p:cTn id="3469" nodeType="click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470" dur="1000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1" dur="1000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72" dur="1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4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75" dur="1000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6" dur="1000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77" dur="1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48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2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3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4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5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6" fill="hold">
                            <p:stCondLst>
                              <p:cond delay="1500"/>
                            </p:stCondLst>
                            <p:childTnLst>
                              <p:par>
                                <p:cTn id="34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9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0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3" dur="500" fill="hold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4" dur="500" fill="hold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5" fill="hold">
                            <p:stCondLst>
                              <p:cond delay="2000"/>
                            </p:stCondLst>
                            <p:childTnLst>
                              <p:par>
                                <p:cTn id="349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8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9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0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1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2" fill="hold">
                            <p:stCondLst>
                              <p:cond delay="2500"/>
                            </p:stCondLst>
                            <p:childTnLst>
                              <p:par>
                                <p:cTn id="350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5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6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7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8" fill="hold">
                            <p:stCondLst>
                              <p:cond delay="3500"/>
                            </p:stCondLst>
                            <p:childTnLst>
                              <p:par>
                                <p:cTn id="350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1" dur="1000" fill="hold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2" dur="1000" fill="hold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3" dur="1000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4" fill="hold">
                      <p:stCondLst>
                        <p:cond delay="indefinite"/>
                      </p:stCondLst>
                      <p:childTnLst>
                        <p:par>
                          <p:cTn id="3515" fill="hold">
                            <p:stCondLst>
                              <p:cond delay="0"/>
                            </p:stCondLst>
                            <p:childTnLst>
                              <p:par>
                                <p:cTn id="35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19" name=""/>
          <p:cNvSpPr/>
          <p:nvPr/>
        </p:nvSpPr>
        <p:spPr>
          <a:xfrm>
            <a:off x="838080" y="18288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تَنْحِتُونَ مِنَ الْجِبَالِ بُيُوتاً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فَارِهِي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شعراء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49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6901920" y="3429000"/>
            <a:ext cx="1392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فَارِهِينَ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200400" y="3429000"/>
            <a:ext cx="1544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طر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029200" y="3429000"/>
            <a:ext cx="1679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فارغ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1371600" y="3429000"/>
            <a:ext cx="1582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ال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26" name="" descr=""/>
          <p:cNvPicPr/>
          <p:nvPr/>
        </p:nvPicPr>
        <p:blipFill>
          <a:blip r:embed="rId3"/>
          <a:stretch/>
        </p:blipFill>
        <p:spPr>
          <a:xfrm>
            <a:off x="2438280" y="2286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24" dur="indefinite" restart="never" nodeType="tmRoot">
          <p:childTnLst>
            <p:seq>
              <p:cTn id="3525" dur="indefinite" nodeType="mainSeq">
                <p:childTnLst>
                  <p:par>
                    <p:cTn id="3526" fill="hold">
                      <p:stCondLst>
                        <p:cond delay="0"/>
                      </p:stCondLst>
                      <p:childTnLst>
                        <p:par>
                          <p:cTn id="3527" fill="hold">
                            <p:stCondLst>
                              <p:cond delay="0"/>
                            </p:stCondLst>
                            <p:childTnLst>
                              <p:par>
                                <p:cTn id="35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0" dur="1000" fill="hold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1" dur="1000" fill="hold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32" dur="1000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34" dur="5956" fill="hold"/>
                                        <p:tgtEl>
                                          <p:spTgt spid="7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5" fill="hold">
                      <p:stCondLst>
                        <p:cond delay="indefinite"/>
                      </p:stCondLst>
                      <p:childTnLst>
                        <p:par>
                          <p:cTn id="3536" fill="hold">
                            <p:stCondLst>
                              <p:cond delay="0"/>
                            </p:stCondLst>
                            <p:childTnLst>
                              <p:par>
                                <p:cTn id="35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39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0" fill="hold">
                            <p:stCondLst>
                              <p:cond delay="500"/>
                            </p:stCondLst>
                            <p:childTnLst>
                              <p:par>
                                <p:cTn id="35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43" dur="80"/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44" dur="80"/>
                                        <p:tgtEl>
                                          <p:spTgt spid="7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5" dur="80"/>
                                        <p:tgtEl>
                                          <p:spTgt spid="7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6" fill="hold">
                            <p:stCondLst>
                              <p:cond delay="780"/>
                            </p:stCondLst>
                            <p:childTnLst>
                              <p:par>
                                <p:cTn id="354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9" dur="8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0" dur="8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1" dur="8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2" dur="8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5" fill="hold">
                            <p:stCondLst>
                              <p:cond delay="1780"/>
                            </p:stCondLst>
                            <p:childTnLst>
                              <p:par>
                                <p:cTn id="355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58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9" fill="hold">
                            <p:stCondLst>
                              <p:cond delay="2280"/>
                            </p:stCondLst>
                            <p:childTnLst>
                              <p:par>
                                <p:cTn id="356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62" dur="500"/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3" fill="hold">
                      <p:stCondLst>
                        <p:cond delay="indefinite"/>
                      </p:stCondLst>
                      <p:childTnLst>
                        <p:par>
                          <p:cTn id="3564" fill="hold">
                            <p:stCondLst>
                              <p:cond delay="0"/>
                            </p:stCondLst>
                            <p:childTnLst>
                              <p:par>
                                <p:cTn id="3565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566" dur="80"/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67" dur="80"/>
                                        <p:tgtEl>
                                          <p:spTgt spid="7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8" dur="80"/>
                                        <p:tgtEl>
                                          <p:spTgt spid="7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56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571" dur="80"/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72" dur="80"/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3" dur="80"/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57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5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576" dur="80"/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77" dur="80"/>
                                        <p:tgtEl>
                                          <p:spTgt spid="7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8" dur="80"/>
                                        <p:tgtEl>
                                          <p:spTgt spid="7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57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28" name=""/>
          <p:cNvSpPr/>
          <p:nvPr/>
        </p:nvSpPr>
        <p:spPr>
          <a:xfrm>
            <a:off x="762120" y="1600200"/>
            <a:ext cx="761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َلَّا يَسْجُدُوا لِلَّهِ الَّذِي يُخْرِجُ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الْخَبْءَ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ِي السَّمَاوَاتِ وَالْأَرْضِ وَيَعْلَمُ مَا تُخْفُونَ وَمَا تُعْلِن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نمل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6781680" y="3276720"/>
            <a:ext cx="1354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الْخَبْءَ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2819520" y="3276720"/>
            <a:ext cx="1676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ستو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4800600" y="3276720"/>
            <a:ext cx="1735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أمطا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914400" y="32767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أسرا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914400" y="4622760"/>
            <a:ext cx="739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خبء استعارة كأن الأشياء مخبأة مستورة تحت أطباق العدم ،فيخرجها الله تعالى من العدم إلى الوجود واحداً بعد الآخر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36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80" dur="indefinite" restart="never" nodeType="tmRoot">
          <p:childTnLst>
            <p:seq>
              <p:cTn id="3581" dur="indefinite" nodeType="mainSeq">
                <p:childTnLst>
                  <p:par>
                    <p:cTn id="3582" fill="hold">
                      <p:stCondLst>
                        <p:cond delay="0"/>
                      </p:stCondLst>
                      <p:childTnLst>
                        <p:par>
                          <p:cTn id="3583" fill="hold">
                            <p:stCondLst>
                              <p:cond delay="0"/>
                            </p:stCondLst>
                            <p:childTnLst>
                              <p:par>
                                <p:cTn id="35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6" dur="1000" fill="hold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7" dur="1000" fill="hold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88" dur="1000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90" dur="13218" fill="hold"/>
                                        <p:tgtEl>
                                          <p:spTgt spid="7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1" fill="hold">
                      <p:stCondLst>
                        <p:cond delay="indefinite"/>
                      </p:stCondLst>
                      <p:childTnLst>
                        <p:par>
                          <p:cTn id="3592" fill="hold">
                            <p:stCondLst>
                              <p:cond delay="0"/>
                            </p:stCondLst>
                            <p:childTnLst>
                              <p:par>
                                <p:cTn id="359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97" dur="1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8" fill="hold">
                            <p:stCondLst>
                              <p:cond delay="1000"/>
                            </p:stCondLst>
                            <p:childTnLst>
                              <p:par>
                                <p:cTn id="35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01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2" fill="hold">
                            <p:stCondLst>
                              <p:cond delay="1500"/>
                            </p:stCondLst>
                            <p:childTnLst>
                              <p:par>
                                <p:cTn id="360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05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6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9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0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1" fill="hold">
                      <p:stCondLst>
                        <p:cond delay="indefinite"/>
                      </p:stCondLst>
                      <p:childTnLst>
                        <p:par>
                          <p:cTn id="3612" fill="hold">
                            <p:stCondLst>
                              <p:cond delay="0"/>
                            </p:stCondLst>
                            <p:childTnLst>
                              <p:par>
                                <p:cTn id="361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5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7" fill="hold">
                            <p:stCondLst>
                              <p:cond delay="0"/>
                            </p:stCondLst>
                            <p:childTnLst>
                              <p:par>
                                <p:cTn id="36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0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7" name="" descr=""/>
          <p:cNvPicPr/>
          <p:nvPr/>
        </p:nvPicPr>
        <p:blipFill>
          <a:blip r:embed="rId1"/>
          <a:stretch/>
        </p:blipFill>
        <p:spPr>
          <a:xfrm>
            <a:off x="-457200" y="-15228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738" name=""/>
          <p:cNvSpPr/>
          <p:nvPr/>
        </p:nvSpPr>
        <p:spPr>
          <a:xfrm>
            <a:off x="838080" y="1143000"/>
            <a:ext cx="7239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قِيلَ لَهَا ادْخُلِي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الصَّرْح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فَلَمَّا رَأَتْهُ حَسِبَتْهُ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لُجَّةً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كَشَفَتْ عَنْ سَاقَيْهَا قَالَ إِنَّهُ صَرْحٌ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مُمَرَّدٌ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مِنْ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قَوَارِير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قَالَتْ رَبِّ إِنِّي ظَلَمْتُ نَفْسِي وَأَسْلَمْتُ مَعَ سُلَيْمَانَ لِلَّهِ رَبِّ الْعَالَمِي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نمل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7011000" y="5410080"/>
            <a:ext cx="1297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قَوَارِير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7086600" y="3886200"/>
            <a:ext cx="1166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لُجَّةً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7086600" y="4648320"/>
            <a:ext cx="11430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مُمَرَّدٌ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7032960" y="3124080"/>
            <a:ext cx="1319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الصَّرْحَ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2743200" y="3124080"/>
            <a:ext cx="1946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بناء العال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4876920" y="3124080"/>
            <a:ext cx="19969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بناء في الجب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762120" y="3124080"/>
            <a:ext cx="18288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بيت الكب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4876920" y="3886200"/>
            <a:ext cx="2008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اء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2743200" y="3886200"/>
            <a:ext cx="1941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خيال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762120" y="3886200"/>
            <a:ext cx="1850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بلل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4876920" y="4648320"/>
            <a:ext cx="1981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مل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2743200" y="4648320"/>
            <a:ext cx="1962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كو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762120" y="464832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تو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876920" y="5410080"/>
            <a:ext cx="1995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نابي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2743200" y="5410080"/>
            <a:ext cx="1903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زجا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762120" y="5410080"/>
            <a:ext cx="1782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وامي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5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21" dur="indefinite" restart="never" nodeType="tmRoot">
          <p:childTnLst>
            <p:seq>
              <p:cTn id="3622" dur="indefinite" nodeType="mainSeq">
                <p:childTnLst>
                  <p:par>
                    <p:cTn id="3623" fill="hold">
                      <p:stCondLst>
                        <p:cond delay="0"/>
                      </p:stCondLst>
                      <p:childTnLst>
                        <p:par>
                          <p:cTn id="3624" fill="hold">
                            <p:stCondLst>
                              <p:cond delay="0"/>
                            </p:stCondLst>
                            <p:childTnLst>
                              <p:par>
                                <p:cTn id="36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7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8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30" dur="32235" fill="hold"/>
                                        <p:tgtEl>
                                          <p:spTgt spid="7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1" fill="hold">
                      <p:stCondLst>
                        <p:cond delay="indefinite"/>
                      </p:stCondLst>
                      <p:childTnLst>
                        <p:par>
                          <p:cTn id="3632" fill="hold">
                            <p:stCondLst>
                              <p:cond delay="0"/>
                            </p:stCondLst>
                            <p:childTnLst>
                              <p:par>
                                <p:cTn id="36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8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64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6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7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8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9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3" dur="1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4" dur="1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55" dur="1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6" fill="hold">
                            <p:stCondLst>
                              <p:cond delay="2500"/>
                            </p:stCondLst>
                            <p:childTnLst>
                              <p:par>
                                <p:cTn id="36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9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0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1" fill="hold">
                      <p:stCondLst>
                        <p:cond delay="indefinite"/>
                      </p:stCondLst>
                      <p:childTnLst>
                        <p:par>
                          <p:cTn id="3662" fill="hold">
                            <p:stCondLst>
                              <p:cond delay="0"/>
                            </p:stCondLst>
                            <p:childTnLst>
                              <p:par>
                                <p:cTn id="36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7" fill="hold">
                            <p:stCondLst>
                              <p:cond delay="0"/>
                            </p:stCondLst>
                            <p:childTnLst>
                              <p:par>
                                <p:cTn id="366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70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1" fill="hold">
                            <p:stCondLst>
                              <p:cond delay="500"/>
                            </p:stCondLst>
                            <p:childTnLst>
                              <p:par>
                                <p:cTn id="36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4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5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6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2" dur="1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90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1" fill="hold">
                      <p:stCondLst>
                        <p:cond delay="indefinite"/>
                      </p:stCondLst>
                      <p:childTnLst>
                        <p:par>
                          <p:cTn id="3692" fill="hold">
                            <p:stCondLst>
                              <p:cond delay="0"/>
                            </p:stCondLst>
                            <p:childTnLst>
                              <p:par>
                                <p:cTn id="36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7" fill="hold">
                            <p:stCondLst>
                              <p:cond delay="0"/>
                            </p:stCondLst>
                            <p:childTnLst>
                              <p:par>
                                <p:cTn id="369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0" dur="8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1" dur="8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2" dur="8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3" dur="8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9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0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1" fill="hold">
                            <p:stCondLst>
                              <p:cond delay="1500"/>
                            </p:stCondLst>
                            <p:childTnLst>
                              <p:par>
                                <p:cTn id="37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4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5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1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9" dur="8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0" dur="8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1" dur="8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2" dur="8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5" fill="hold">
                      <p:stCondLst>
                        <p:cond delay="indefinite"/>
                      </p:stCondLst>
                      <p:childTnLst>
                        <p:par>
                          <p:cTn id="3726" fill="hold">
                            <p:stCondLst>
                              <p:cond delay="0"/>
                            </p:stCondLst>
                            <p:childTnLst>
                              <p:par>
                                <p:cTn id="37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1" fill="hold">
                            <p:stCondLst>
                              <p:cond delay="0"/>
                            </p:stCondLst>
                            <p:childTnLst>
                              <p:par>
                                <p:cTn id="37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4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5" fill="hold">
                            <p:stCondLst>
                              <p:cond delay="500"/>
                            </p:stCondLst>
                            <p:childTnLst>
                              <p:par>
                                <p:cTn id="373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8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9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0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1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2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5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6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7" fill="hold">
                            <p:stCondLst>
                              <p:cond delay="1500"/>
                            </p:stCondLst>
                            <p:childTnLst>
                              <p:par>
                                <p:cTn id="374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50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1" fill="hold">
                      <p:stCondLst>
                        <p:cond delay="indefinite"/>
                      </p:stCondLst>
                      <p:childTnLst>
                        <p:par>
                          <p:cTn id="3752" fill="hold">
                            <p:stCondLst>
                              <p:cond delay="0"/>
                            </p:stCondLst>
                            <p:childTnLst>
                              <p:par>
                                <p:cTn id="37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8" name="" descr=""/>
          <p:cNvPicPr/>
          <p:nvPr/>
        </p:nvPicPr>
        <p:blipFill>
          <a:blip r:embed="rId1"/>
          <a:stretch/>
        </p:blipFill>
        <p:spPr>
          <a:xfrm>
            <a:off x="-304920" y="-4572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59" name=""/>
          <p:cNvSpPr/>
          <p:nvPr/>
        </p:nvSpPr>
        <p:spPr>
          <a:xfrm>
            <a:off x="609480" y="914400"/>
            <a:ext cx="7620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مَا كَانَ لِنَبِيٍّ أَنْ يَكُونَ لَهُ أَسْرَى حَتَّى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ea typeface="Arial"/>
              </a:rPr>
              <a:t> يُثْخِن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فِي الْأَرْضِ تُرِيدُونَ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عَرَض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الدُّنْيَا وَاللَّهُ يُرِيدُ الْآخِرَةَ وَاللَّهُ عَزِيزٌ حَكِيم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لأنفال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7086600" y="2057400"/>
            <a:ext cx="1170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يُثْخِنَ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3048120" y="2057400"/>
            <a:ext cx="1676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غل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5105520" y="2057400"/>
            <a:ext cx="1633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حك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990720" y="2057400"/>
            <a:ext cx="1676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حار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7010280" y="3352680"/>
            <a:ext cx="1217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عَرَضَ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2362320" y="3962520"/>
            <a:ext cx="3581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ا ينخدع به الانس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2362320" y="3352680"/>
            <a:ext cx="3581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ا يطرأ ويزو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2362320" y="4572000"/>
            <a:ext cx="3581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ا نراه على غير حقيقت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990720" y="2590920"/>
            <a:ext cx="7331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0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000" spc="-1" strike="noStrike">
                <a:solidFill>
                  <a:srgbClr val="010199"/>
                </a:solidFill>
                <a:latin typeface="Arial"/>
                <a:cs typeface="Arial"/>
              </a:rPr>
              <a:t>يثخن : المراد استقرار دينه بين الناس كأنه شيء غليظ فتجمد وثبت بعد أن كان رقيقاً سائلاً مخشي الزوال بالسيلان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1219320" y="5181480"/>
            <a:ext cx="694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0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000" spc="-1" strike="noStrike">
                <a:solidFill>
                  <a:srgbClr val="010199"/>
                </a:solidFill>
                <a:latin typeface="Arial"/>
                <a:cs typeface="Arial"/>
              </a:rPr>
              <a:t>عرض : أي ما يطرأ على الشيء ويسرع فيه الزوال ، ولذلك سمي به متاع الدنيا لدثوره وزواله عما قليل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72" name="" descr=""/>
          <p:cNvPicPr/>
          <p:nvPr/>
        </p:nvPicPr>
        <p:blipFill>
          <a:blip r:embed="rId3"/>
          <a:stretch/>
        </p:blipFill>
        <p:spPr>
          <a:xfrm>
            <a:off x="685800" y="1600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57" dur="indefinite" restart="never" nodeType="tmRoot">
          <p:childTnLst>
            <p:seq>
              <p:cTn id="3758" dur="indefinite" nodeType="mainSeq">
                <p:childTnLst>
                  <p:par>
                    <p:cTn id="3759" fill="hold">
                      <p:stCondLst>
                        <p:cond delay="0"/>
                      </p:stCondLst>
                      <p:childTnLst>
                        <p:par>
                          <p:cTn id="3760" fill="hold">
                            <p:stCondLst>
                              <p:cond delay="0"/>
                            </p:stCondLst>
                            <p:childTnLst>
                              <p:par>
                                <p:cTn id="37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3" dur="1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4" dur="1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65" dur="1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67" dur="23929" fill="hold"/>
                                        <p:tgtEl>
                                          <p:spTgt spid="7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8" fill="hold">
                      <p:stCondLst>
                        <p:cond delay="indefinite"/>
                      </p:stCondLst>
                      <p:childTnLst>
                        <p:par>
                          <p:cTn id="3769" fill="hold">
                            <p:stCondLst>
                              <p:cond delay="0"/>
                            </p:stCondLst>
                            <p:childTnLst>
                              <p:par>
                                <p:cTn id="377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74" dur="1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8" dur="1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9" dur="1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80" dur="1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8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84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5" fill="hold">
                            <p:stCondLst>
                              <p:cond delay="2500"/>
                            </p:stCondLst>
                            <p:childTnLst>
                              <p:par>
                                <p:cTn id="37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88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9" fill="hold">
                      <p:stCondLst>
                        <p:cond delay="indefinite"/>
                      </p:stCondLst>
                      <p:childTnLst>
                        <p:par>
                          <p:cTn id="3790" fill="hold">
                            <p:stCondLst>
                              <p:cond delay="0"/>
                            </p:stCondLst>
                            <p:childTnLst>
                              <p:par>
                                <p:cTn id="3791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3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5" fill="hold">
                            <p:stCondLst>
                              <p:cond delay="0"/>
                            </p:stCondLst>
                            <p:childTnLst>
                              <p:par>
                                <p:cTn id="37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8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9" fill="hold">
                      <p:stCondLst>
                        <p:cond delay="indefinite"/>
                      </p:stCondLst>
                      <p:childTnLst>
                        <p:par>
                          <p:cTn id="3800" fill="hold">
                            <p:stCondLst>
                              <p:cond delay="0"/>
                            </p:stCondLst>
                            <p:childTnLst>
                              <p:par>
                                <p:cTn id="380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3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4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5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6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7" fill="hold">
                            <p:stCondLst>
                              <p:cond delay="500"/>
                            </p:stCondLst>
                            <p:childTnLst>
                              <p:par>
                                <p:cTn id="380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12" dur="1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3" fill="hold">
                            <p:stCondLst>
                              <p:cond delay="1500"/>
                            </p:stCondLst>
                            <p:childTnLst>
                              <p:par>
                                <p:cTn id="381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6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7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8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1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2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3" fill="hold">
                      <p:stCondLst>
                        <p:cond delay="indefinite"/>
                      </p:stCondLst>
                      <p:childTnLst>
                        <p:par>
                          <p:cTn id="3824" fill="hold">
                            <p:stCondLst>
                              <p:cond delay="0"/>
                            </p:stCondLst>
                            <p:childTnLst>
                              <p:par>
                                <p:cTn id="38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9" fill="hold">
                            <p:stCondLst>
                              <p:cond delay="0"/>
                            </p:stCondLst>
                            <p:childTnLst>
                              <p:par>
                                <p:cTn id="38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2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74" name=""/>
          <p:cNvSpPr/>
          <p:nvPr/>
        </p:nvSpPr>
        <p:spPr>
          <a:xfrm>
            <a:off x="457200" y="1523880"/>
            <a:ext cx="7924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كَيْفَ وَإِنْ يَظْهَرُوا عَلَيْكُمْ لا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يَرْقُبُو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فِيكُمْ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إِلّاً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لا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ذِمَّةً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يُرْضُونَكُمْ بِأَفْوَاهِهِمْ وَتَأْبَى قُلُوبُهُمْ وَأَكْثَرُهُمْ فَاسِق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توب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6934320" y="3200400"/>
            <a:ext cx="128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يَرْقُبُوا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6934320" y="4038480"/>
            <a:ext cx="1303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إِلّاً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6934320" y="4876920"/>
            <a:ext cx="1317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ذِمَّةً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4952880" y="3200400"/>
            <a:ext cx="1606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حفظ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2971800" y="320040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شاهد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914400" y="320040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غدر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971800" y="403848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راب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4952880" y="403848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يرة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914400" y="403848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صحب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4952880" y="48769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هد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2971800" y="487692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ول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914400" y="487692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ضمير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89" name="" descr=""/>
          <p:cNvPicPr/>
          <p:nvPr/>
        </p:nvPicPr>
        <p:blipFill>
          <a:blip r:embed="rId3"/>
          <a:stretch/>
        </p:blipFill>
        <p:spPr>
          <a:xfrm>
            <a:off x="2743200" y="2362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33" dur="indefinite" restart="never" nodeType="tmRoot">
          <p:childTnLst>
            <p:seq>
              <p:cTn id="3834" dur="indefinite" nodeType="mainSeq">
                <p:childTnLst>
                  <p:par>
                    <p:cTn id="3835" fill="hold">
                      <p:stCondLst>
                        <p:cond delay="0"/>
                      </p:stCondLst>
                      <p:childTnLst>
                        <p:par>
                          <p:cTn id="3836" fill="hold">
                            <p:stCondLst>
                              <p:cond delay="0"/>
                            </p:stCondLst>
                            <p:childTnLst>
                              <p:par>
                                <p:cTn id="38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9" dur="1000" fill="hold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0" dur="1000" fill="hold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41" dur="1000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43" dur="19018" fill="hold"/>
                                        <p:tgtEl>
                                          <p:spTgt spid="7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4" fill="hold">
                      <p:stCondLst>
                        <p:cond delay="indefinite"/>
                      </p:stCondLst>
                      <p:childTnLst>
                        <p:par>
                          <p:cTn id="3845" fill="hold">
                            <p:stCondLst>
                              <p:cond delay="0"/>
                            </p:stCondLst>
                            <p:childTnLst>
                              <p:par>
                                <p:cTn id="384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50" dur="10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4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5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56" dur="1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5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0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1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2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3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4" fill="hold">
                            <p:stCondLst>
                              <p:cond delay="2500"/>
                            </p:stCondLst>
                            <p:childTnLst>
                              <p:par>
                                <p:cTn id="386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7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8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9" fill="hold">
                      <p:stCondLst>
                        <p:cond delay="indefinite"/>
                      </p:stCondLst>
                      <p:childTnLst>
                        <p:par>
                          <p:cTn id="3870" fill="hold">
                            <p:stCondLst>
                              <p:cond delay="0"/>
                            </p:stCondLst>
                            <p:childTnLst>
                              <p:par>
                                <p:cTn id="38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5" fill="hold">
                            <p:stCondLst>
                              <p:cond delay="0"/>
                            </p:stCondLst>
                            <p:childTnLst>
                              <p:par>
                                <p:cTn id="38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8" dur="1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9" dur="1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80" dur="1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1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4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5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6" fill="hold">
                            <p:stCondLst>
                              <p:cond delay="1500"/>
                            </p:stCondLst>
                            <p:childTnLst>
                              <p:par>
                                <p:cTn id="38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89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0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93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4" fill="hold">
                      <p:stCondLst>
                        <p:cond delay="indefinite"/>
                      </p:stCondLst>
                      <p:childTnLst>
                        <p:par>
                          <p:cTn id="3895" fill="hold">
                            <p:stCondLst>
                              <p:cond delay="0"/>
                            </p:stCondLst>
                            <p:childTnLst>
                              <p:par>
                                <p:cTn id="38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0" fill="hold">
                            <p:stCondLst>
                              <p:cond delay="0"/>
                            </p:stCondLst>
                            <p:childTnLst>
                              <p:par>
                                <p:cTn id="390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03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4" fill="hold">
                            <p:stCondLst>
                              <p:cond delay="500"/>
                            </p:stCondLst>
                            <p:childTnLst>
                              <p:par>
                                <p:cTn id="39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7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0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13" dur="1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4" fill="hold">
                            <p:stCondLst>
                              <p:cond delay="2000"/>
                            </p:stCondLst>
                            <p:childTnLst>
                              <p:par>
                                <p:cTn id="39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7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8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9" fill="hold">
                      <p:stCondLst>
                        <p:cond delay="indefinite"/>
                      </p:stCondLst>
                      <p:childTnLst>
                        <p:par>
                          <p:cTn id="3920" fill="hold">
                            <p:stCondLst>
                              <p:cond delay="0"/>
                            </p:stCondLst>
                            <p:childTnLst>
                              <p:par>
                                <p:cTn id="39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91" name=""/>
          <p:cNvSpPr/>
          <p:nvPr/>
        </p:nvSpPr>
        <p:spPr>
          <a:xfrm>
            <a:off x="762120" y="1523880"/>
            <a:ext cx="7467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َمْ حَسِبْتُمْ أَنْ تُتْرَكُوا وَلَمَّا يَعْلَمِ اللَّهُ الَّذِينَ جَاهَدُوا مِنْكُمْ وَلَمْ يَتَّخِذُوا مِنْ دُونِ اللَّهِ وَلا رَسُولِهِ وَلا الْمُؤْمِنِينَ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وَلِيجَةً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اللَّهُ خَبِيرٌ بِمَا تَعْمَلُونَ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توب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6934320" y="3657600"/>
            <a:ext cx="1331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وَلِيجَةً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52880" y="3657600"/>
            <a:ext cx="1695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دخلا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2895480" y="3657600"/>
            <a:ext cx="1752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جة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838080" y="3657600"/>
            <a:ext cx="1752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طريق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1003680" y="4800600"/>
            <a:ext cx="711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وليجة :أي  ما يتخذه الانسان معتمداً عليه وليس من أهل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99" name="" descr=""/>
          <p:cNvPicPr/>
          <p:nvPr/>
        </p:nvPicPr>
        <p:blipFill>
          <a:blip r:embed="rId3"/>
          <a:stretch/>
        </p:blipFill>
        <p:spPr>
          <a:xfrm>
            <a:off x="2819520" y="2514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25" dur="indefinite" restart="never" nodeType="tmRoot">
          <p:childTnLst>
            <p:seq>
              <p:cTn id="3926" dur="indefinite" nodeType="mainSeq">
                <p:childTnLst>
                  <p:par>
                    <p:cTn id="3927" fill="hold">
                      <p:stCondLst>
                        <p:cond delay="0"/>
                      </p:stCondLst>
                      <p:childTnLst>
                        <p:par>
                          <p:cTn id="3928" fill="hold">
                            <p:stCondLst>
                              <p:cond delay="0"/>
                            </p:stCondLst>
                            <p:childTnLst>
                              <p:par>
                                <p:cTn id="39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1" dur="1000" fill="hold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2" dur="1000" fill="hold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33" dur="1000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35" dur="23876" fill="hold"/>
                                        <p:tgtEl>
                                          <p:spTgt spid="7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6" fill="hold">
                      <p:stCondLst>
                        <p:cond delay="indefinite"/>
                      </p:stCondLst>
                      <p:childTnLst>
                        <p:par>
                          <p:cTn id="3937" fill="hold">
                            <p:stCondLst>
                              <p:cond delay="0"/>
                            </p:stCondLst>
                            <p:childTnLst>
                              <p:par>
                                <p:cTn id="393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0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1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2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3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4" fill="hold">
                            <p:stCondLst>
                              <p:cond delay="500"/>
                            </p:stCondLst>
                            <p:childTnLst>
                              <p:par>
                                <p:cTn id="394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7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8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52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3" fill="hold">
                            <p:stCondLst>
                              <p:cond delay="1500"/>
                            </p:stCondLst>
                            <p:childTnLst>
                              <p:par>
                                <p:cTn id="395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6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7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8" fill="hold">
                      <p:stCondLst>
                        <p:cond delay="indefinite"/>
                      </p:stCondLst>
                      <p:childTnLst>
                        <p:par>
                          <p:cTn id="3959" fill="hold">
                            <p:stCondLst>
                              <p:cond delay="0"/>
                            </p:stCondLst>
                            <p:childTnLst>
                              <p:par>
                                <p:cTn id="39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61" dur="500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2" dur="500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6" fill="hold">
                            <p:stCondLst>
                              <p:cond delay="500"/>
                            </p:stCondLst>
                            <p:childTnLst>
                              <p:par>
                                <p:cTn id="39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9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01" name=""/>
          <p:cNvSpPr/>
          <p:nvPr/>
        </p:nvSpPr>
        <p:spPr>
          <a:xfrm>
            <a:off x="685800" y="1295280"/>
            <a:ext cx="7772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قَالَتِ الْيَهُودُ عُزَيْرٌ ابْنُ اللَّهِ وَقَالَتِ النَّصَارَى الْمَسِيحُ ابْنُ اللَّهِ ذَلِكَ قَوْلُهُمْ بِأَفْوَاهِهِمْ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يُضَاهِئُون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قَوْلَ الَّذِينَ كَفَرُوا مِنْ قَبْلُ قَاتَلَهُمُ اللَّهُ أَنَّى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يُؤْفَك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توب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0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6766920" y="3429000"/>
            <a:ext cx="1631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يُضَاهِئُونَ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6858000" y="4343400"/>
            <a:ext cx="14367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يُؤْفَكُونَ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2666880" y="342900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شابه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4800600" y="342900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أخذ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685800" y="342900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صدق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4800600" y="434340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ُصرف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2666880" y="434340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نته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685800" y="434340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خاف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12" name="" descr=""/>
          <p:cNvPicPr/>
          <p:nvPr/>
        </p:nvPicPr>
        <p:blipFill>
          <a:blip r:embed="rId3"/>
          <a:stretch/>
        </p:blipFill>
        <p:spPr>
          <a:xfrm>
            <a:off x="2590920" y="22096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70" dur="indefinite" restart="never" nodeType="tmRoot">
          <p:childTnLst>
            <p:seq>
              <p:cTn id="3971" dur="indefinite" nodeType="mainSeq">
                <p:childTnLst>
                  <p:par>
                    <p:cTn id="3972" fill="hold">
                      <p:stCondLst>
                        <p:cond delay="0"/>
                      </p:stCondLst>
                      <p:childTnLst>
                        <p:par>
                          <p:cTn id="3973" fill="hold">
                            <p:stCondLst>
                              <p:cond delay="0"/>
                            </p:stCondLst>
                            <p:childTnLst>
                              <p:par>
                                <p:cTn id="397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76" dur="500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78" dur="27429" fill="hold"/>
                                        <p:tgtEl>
                                          <p:spTgt spid="8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9" fill="hold">
                      <p:stCondLst>
                        <p:cond delay="indefinite"/>
                      </p:stCondLst>
                      <p:childTnLst>
                        <p:par>
                          <p:cTn id="3980" fill="hold">
                            <p:stCondLst>
                              <p:cond delay="0"/>
                            </p:stCondLst>
                            <p:childTnLst>
                              <p:par>
                                <p:cTn id="398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85" dur="1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6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89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0" fill="hold">
                            <p:stCondLst>
                              <p:cond delay="1500"/>
                            </p:stCondLst>
                            <p:childTnLst>
                              <p:par>
                                <p:cTn id="399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93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4" fill="hold">
                            <p:stCondLst>
                              <p:cond delay="2000"/>
                            </p:stCondLst>
                            <p:childTnLst>
                              <p:par>
                                <p:cTn id="39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7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8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9" fill="hold">
                      <p:stCondLst>
                        <p:cond delay="indefinite"/>
                      </p:stCondLst>
                      <p:childTnLst>
                        <p:par>
                          <p:cTn id="4000" fill="hold">
                            <p:stCondLst>
                              <p:cond delay="0"/>
                            </p:stCondLst>
                            <p:childTnLst>
                              <p:par>
                                <p:cTn id="40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5" fill="hold">
                            <p:stCondLst>
                              <p:cond delay="0"/>
                            </p:stCondLst>
                            <p:childTnLst>
                              <p:par>
                                <p:cTn id="400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8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9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0" fill="hold">
                            <p:stCondLst>
                              <p:cond delay="500"/>
                            </p:stCondLst>
                            <p:childTnLst>
                              <p:par>
                                <p:cTn id="401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13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4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7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8" fill="hold">
                            <p:stCondLst>
                              <p:cond delay="1500"/>
                            </p:stCondLst>
                            <p:childTnLst>
                              <p:par>
                                <p:cTn id="40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1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2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3" fill="hold">
                      <p:stCondLst>
                        <p:cond delay="indefinite"/>
                      </p:stCondLst>
                      <p:childTnLst>
                        <p:par>
                          <p:cTn id="4024" fill="hold">
                            <p:stCondLst>
                              <p:cond delay="0"/>
                            </p:stCondLst>
                            <p:childTnLst>
                              <p:par>
                                <p:cTn id="40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762120" y="160020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الَّذِينَ يَجْتَنِبُونَ كَبَائِرَ الْأِثْمِ وَالْفَوَاحِشَ إِلَّا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لَّمَم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إِنَّ رَبَّكَ وَاسِعُ الْمَغْفِرَةِ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...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نج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0" y="3657600"/>
            <a:ext cx="1251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لَّمَم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800600" y="3657600"/>
            <a:ext cx="1697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عاصي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743200" y="3657600"/>
            <a:ext cx="1701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صغائ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38080" y="36576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كبائ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458080" y="4876920"/>
            <a:ext cx="503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مقصود من اللمم  المعاصي الصغير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1" dur="14078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820"/>
                            </p:stCondLst>
                            <p:childTnLst>
                              <p:par>
                                <p:cTn id="26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320"/>
                            </p:stCondLst>
                            <p:childTnLst>
                              <p:par>
                                <p:cTn id="26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14" name=""/>
          <p:cNvSpPr/>
          <p:nvPr/>
        </p:nvSpPr>
        <p:spPr>
          <a:xfrm>
            <a:off x="685800" y="1219320"/>
            <a:ext cx="7543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نَّمَا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النَّسِيءُ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زِيَادَةٌ فِي الْكُفْرِ يُضَلُّ بِهِ الَّذِينَ كَفَرُوا يُحِلُّونَهُ عَاماً وَيُحَرِّمُونَهُ عَاماً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لِيُوَاطِئُوا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عِدَّةَ مَا حَرَّمَ اللَّهُ فَيُحِلُّوا مَا حَرَّمَ اللَّهُ زُيِّنَ لَهُمْ سُوءُ أَعْمَالِهِمْ وَاللَّهُ لا يَهْدِي الْقَوْمَ الْكَافِرِي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توب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6781680" y="3124080"/>
            <a:ext cx="13971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النَّسِيءُ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6858000" y="4876920"/>
            <a:ext cx="13748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لِيُوَاطِئُوا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4952880" y="312408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تأخ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2895480" y="312408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نسي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914400" y="312408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كذ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2971800" y="4876920"/>
            <a:ext cx="1682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يوافق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5029200" y="4876920"/>
            <a:ext cx="1533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يقدم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914400" y="4876920"/>
            <a:ext cx="1757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يحرِّم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914400" y="3886200"/>
            <a:ext cx="733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مقصود أنهم كانوا يأخرون حرمة شهر حرام إلى بعض الشهور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غير المحرمة التي بعده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26" name="" descr=""/>
          <p:cNvPicPr/>
          <p:nvPr/>
        </p:nvPicPr>
        <p:blipFill>
          <a:blip r:embed="rId3"/>
          <a:stretch/>
        </p:blipFill>
        <p:spPr>
          <a:xfrm>
            <a:off x="1676520" y="2514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29" dur="indefinite" restart="never" nodeType="tmRoot">
          <p:childTnLst>
            <p:seq>
              <p:cTn id="4030" dur="indefinite" nodeType="mainSeq">
                <p:childTnLst>
                  <p:par>
                    <p:cTn id="4031" fill="hold">
                      <p:stCondLst>
                        <p:cond delay="0"/>
                      </p:stCondLst>
                      <p:childTnLst>
                        <p:par>
                          <p:cTn id="4032" fill="hold">
                            <p:stCondLst>
                              <p:cond delay="0"/>
                            </p:stCondLst>
                            <p:childTnLst>
                              <p:par>
                                <p:cTn id="40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5" dur="500" fill="hold"/>
                                        <p:tgtEl>
                                          <p:spTgt spid="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6" dur="500" fill="hold"/>
                                        <p:tgtEl>
                                          <p:spTgt spid="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38" dur="36154" fill="hold"/>
                                        <p:tgtEl>
                                          <p:spTgt spid="8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9" fill="hold">
                      <p:stCondLst>
                        <p:cond delay="indefinite"/>
                      </p:stCondLst>
                      <p:childTnLst>
                        <p:par>
                          <p:cTn id="4040" fill="hold">
                            <p:stCondLst>
                              <p:cond delay="0"/>
                            </p:stCondLst>
                            <p:childTnLst>
                              <p:par>
                                <p:cTn id="404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45" dur="10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49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0" fill="hold">
                            <p:stCondLst>
                              <p:cond delay="1500"/>
                            </p:stCondLst>
                            <p:childTnLst>
                              <p:par>
                                <p:cTn id="405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53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4" fill="hold">
                            <p:stCondLst>
                              <p:cond delay="2000"/>
                            </p:stCondLst>
                            <p:childTnLst>
                              <p:par>
                                <p:cTn id="405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57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8" fill="hold">
                      <p:stCondLst>
                        <p:cond delay="indefinite"/>
                      </p:stCondLst>
                      <p:childTnLst>
                        <p:par>
                          <p:cTn id="4059" fill="hold">
                            <p:stCondLst>
                              <p:cond delay="0"/>
                            </p:stCondLst>
                            <p:childTnLst>
                              <p:par>
                                <p:cTn id="40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4" fill="hold">
                            <p:stCondLst>
                              <p:cond delay="0"/>
                            </p:stCondLst>
                            <p:childTnLst>
                              <p:par>
                                <p:cTn id="40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7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8" fill="hold">
                            <p:stCondLst>
                              <p:cond delay="500"/>
                            </p:stCondLst>
                            <p:childTnLst>
                              <p:par>
                                <p:cTn id="406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73" dur="1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4" fill="hold">
                            <p:stCondLst>
                              <p:cond delay="1500"/>
                            </p:stCondLst>
                            <p:childTnLst>
                              <p:par>
                                <p:cTn id="407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77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8" fill="hold">
                            <p:stCondLst>
                              <p:cond delay="2000"/>
                            </p:stCondLst>
                            <p:childTnLst>
                              <p:par>
                                <p:cTn id="40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1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2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3" fill="hold">
                            <p:stCondLst>
                              <p:cond delay="2500"/>
                            </p:stCondLst>
                            <p:childTnLst>
                              <p:par>
                                <p:cTn id="408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6" dur="10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7" dur="10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88" dur="1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9" fill="hold">
                      <p:stCondLst>
                        <p:cond delay="indefinite"/>
                      </p:stCondLst>
                      <p:childTnLst>
                        <p:par>
                          <p:cTn id="4090" fill="hold">
                            <p:stCondLst>
                              <p:cond delay="0"/>
                            </p:stCondLst>
                            <p:childTnLst>
                              <p:par>
                                <p:cTn id="40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28" name=""/>
          <p:cNvSpPr/>
          <p:nvPr/>
        </p:nvSpPr>
        <p:spPr>
          <a:xfrm>
            <a:off x="685800" y="17524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انْفِرُو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خِفَافاً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وَثِقَالاً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جَاهِدُوا بِأَمْوَالِكُمْ وَأَنْفُسِكُمْ فِي سَبِيلِ اللَّهِ ذَلِكُمْ خَيْرٌ لَكُمْ إِنْ كُنْتُمْ تَعْلَمُونَ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توب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58000" y="3200400"/>
            <a:ext cx="1273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انْفِرُوا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6858000" y="403848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خِفَافاً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6858000" y="487692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وَثِقَالاً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990720" y="32004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خرج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4952880" y="3200400"/>
            <a:ext cx="1589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هرب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2971800" y="320040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قدم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4952880" y="403848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بان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2971800" y="4038480"/>
            <a:ext cx="15238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جموع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990720" y="403848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ساء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2971800" y="48769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يوخ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4952880" y="48769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رض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990720" y="48769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ولاد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43" name="" descr=""/>
          <p:cNvPicPr/>
          <p:nvPr/>
        </p:nvPicPr>
        <p:blipFill>
          <a:blip r:embed="rId3"/>
          <a:stretch/>
        </p:blipFill>
        <p:spPr>
          <a:xfrm>
            <a:off x="1828800" y="2286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95" dur="indefinite" restart="never" nodeType="tmRoot">
          <p:childTnLst>
            <p:seq>
              <p:cTn id="4096" dur="indefinite" nodeType="mainSeq">
                <p:childTnLst>
                  <p:par>
                    <p:cTn id="4097" fill="hold">
                      <p:stCondLst>
                        <p:cond delay="0"/>
                      </p:stCondLst>
                      <p:childTnLst>
                        <p:par>
                          <p:cTn id="4098" fill="hold">
                            <p:stCondLst>
                              <p:cond delay="0"/>
                            </p:stCondLst>
                            <p:childTnLst>
                              <p:par>
                                <p:cTn id="409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03" dur="10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05" dur="17868" fill="hold"/>
                                        <p:tgtEl>
                                          <p:spTgt spid="8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6" fill="hold">
                      <p:stCondLst>
                        <p:cond delay="indefinite"/>
                      </p:stCondLst>
                      <p:childTnLst>
                        <p:par>
                          <p:cTn id="4107" fill="hold">
                            <p:stCondLst>
                              <p:cond delay="0"/>
                            </p:stCondLst>
                            <p:childTnLst>
                              <p:par>
                                <p:cTn id="41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0" dur="10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1" dur="10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12" dur="10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411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16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7" fill="hold">
                            <p:stCondLst>
                              <p:cond delay="1500"/>
                            </p:stCondLst>
                            <p:childTnLst>
                              <p:par>
                                <p:cTn id="41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0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1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25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6" fill="hold">
                      <p:stCondLst>
                        <p:cond delay="indefinite"/>
                      </p:stCondLst>
                      <p:childTnLst>
                        <p:par>
                          <p:cTn id="4127" fill="hold">
                            <p:stCondLst>
                              <p:cond delay="0"/>
                            </p:stCondLst>
                            <p:childTnLst>
                              <p:par>
                                <p:cTn id="41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2" fill="hold">
                            <p:stCondLst>
                              <p:cond delay="0"/>
                            </p:stCondLst>
                            <p:childTnLst>
                              <p:par>
                                <p:cTn id="41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5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6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37" dur="1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41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14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45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9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0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1" fill="hold">
                      <p:stCondLst>
                        <p:cond delay="indefinite"/>
                      </p:stCondLst>
                      <p:childTnLst>
                        <p:par>
                          <p:cTn id="4152" fill="hold">
                            <p:stCondLst>
                              <p:cond delay="0"/>
                            </p:stCondLst>
                            <p:childTnLst>
                              <p:par>
                                <p:cTn id="41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7" fill="hold">
                            <p:stCondLst>
                              <p:cond delay="0"/>
                            </p:stCondLst>
                            <p:childTnLst>
                              <p:par>
                                <p:cTn id="4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0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1" fill="hold">
                            <p:stCondLst>
                              <p:cond delay="500"/>
                            </p:stCondLst>
                            <p:childTnLst>
                              <p:par>
                                <p:cTn id="416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64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416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8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9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0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1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2" fill="hold">
                            <p:stCondLst>
                              <p:cond delay="1500"/>
                            </p:stCondLst>
                            <p:childTnLst>
                              <p:par>
                                <p:cTn id="417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75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6" fill="hold">
                      <p:stCondLst>
                        <p:cond delay="indefinite"/>
                      </p:stCondLst>
                      <p:childTnLst>
                        <p:par>
                          <p:cTn id="4177" fill="hold">
                            <p:stCondLst>
                              <p:cond delay="0"/>
                            </p:stCondLst>
                            <p:childTnLst>
                              <p:par>
                                <p:cTn id="41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45" name=""/>
          <p:cNvSpPr/>
          <p:nvPr/>
        </p:nvSpPr>
        <p:spPr>
          <a:xfrm>
            <a:off x="609480" y="1371600"/>
            <a:ext cx="7772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لَوْ كَانَ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عَرَضاً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قَرِيباً وَسَفَراً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قَاصِداً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َاتَّبَعُوكَ وَلَكِنْ بَعُدَتْ عَلَيْهِمُ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الشُّقَّةُ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سَيَحْلِفُونَ بِاللَّهِ لَوِ اسْتَطَعْنَا لَخَرَجْنَا مَعَكُمْ يُهْلِكُونَ أَنْفُسَهُمْ وَاللَّهُ يَعْلَمُ إِنَّهُمْ لَكَاذِب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توب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6477120" y="3276720"/>
            <a:ext cx="1666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عَرَضاً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6477120" y="4191120"/>
            <a:ext cx="1671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قَاصِداً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6477120" y="5105520"/>
            <a:ext cx="1638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الشُّقَّةُ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4572000" y="3276720"/>
            <a:ext cx="1697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طلب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2743200" y="32767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ال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838080" y="32767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كافأة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4572000" y="419112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هل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2743200" y="41911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رغوب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838080" y="41911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ربح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4572000" y="510552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قد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838080" y="51055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ساف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2743200" y="51055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ك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60" name="" descr=""/>
          <p:cNvPicPr/>
          <p:nvPr/>
        </p:nvPicPr>
        <p:blipFill>
          <a:blip r:embed="rId3"/>
          <a:stretch/>
        </p:blipFill>
        <p:spPr>
          <a:xfrm>
            <a:off x="1828800" y="2286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82" dur="indefinite" restart="never" nodeType="tmRoot">
          <p:childTnLst>
            <p:seq>
              <p:cTn id="4183" dur="indefinite" nodeType="mainSeq">
                <p:childTnLst>
                  <p:par>
                    <p:cTn id="4184" fill="hold">
                      <p:stCondLst>
                        <p:cond delay="0"/>
                      </p:stCondLst>
                      <p:childTnLst>
                        <p:par>
                          <p:cTn id="4185" fill="hold">
                            <p:stCondLst>
                              <p:cond delay="0"/>
                            </p:stCondLst>
                            <p:childTnLst>
                              <p:par>
                                <p:cTn id="418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8" dur="1000" fill="hold"/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9" dur="1000" fill="hold"/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90" dur="1000"/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92" dur="28526" fill="hold"/>
                                        <p:tgtEl>
                                          <p:spTgt spid="8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3" fill="hold">
                      <p:stCondLst>
                        <p:cond delay="indefinite"/>
                      </p:stCondLst>
                      <p:childTnLst>
                        <p:par>
                          <p:cTn id="4194" fill="hold">
                            <p:stCondLst>
                              <p:cond delay="0"/>
                            </p:stCondLst>
                            <p:childTnLst>
                              <p:par>
                                <p:cTn id="4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7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8" fill="hold">
                            <p:stCondLst>
                              <p:cond delay="500"/>
                            </p:stCondLst>
                            <p:childTnLst>
                              <p:par>
                                <p:cTn id="4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1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5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6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7" fill="hold">
                            <p:stCondLst>
                              <p:cond delay="1500"/>
                            </p:stCondLst>
                            <p:childTnLst>
                              <p:par>
                                <p:cTn id="420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10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1" fill="hold">
                      <p:stCondLst>
                        <p:cond delay="indefinite"/>
                      </p:stCondLst>
                      <p:childTnLst>
                        <p:par>
                          <p:cTn id="4212" fill="hold">
                            <p:stCondLst>
                              <p:cond delay="0"/>
                            </p:stCondLst>
                            <p:childTnLst>
                              <p:par>
                                <p:cTn id="42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7" fill="hold">
                            <p:stCondLst>
                              <p:cond delay="0"/>
                            </p:stCondLst>
                            <p:childTnLst>
                              <p:par>
                                <p:cTn id="421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22" dur="10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422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26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7" fill="hold">
                            <p:stCondLst>
                              <p:cond delay="1500"/>
                            </p:stCondLst>
                            <p:childTnLst>
                              <p:par>
                                <p:cTn id="42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0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1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42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6" fill="hold">
                      <p:stCondLst>
                        <p:cond delay="indefinite"/>
                      </p:stCondLst>
                      <p:childTnLst>
                        <p:par>
                          <p:cTn id="4237" fill="hold">
                            <p:stCondLst>
                              <p:cond delay="0"/>
                            </p:stCondLst>
                            <p:childTnLst>
                              <p:par>
                                <p:cTn id="42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2" fill="hold">
                            <p:stCondLst>
                              <p:cond delay="0"/>
                            </p:stCondLst>
                            <p:childTnLst>
                              <p:par>
                                <p:cTn id="424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45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6" fill="hold">
                            <p:stCondLst>
                              <p:cond delay="500"/>
                            </p:stCondLst>
                            <p:childTnLst>
                              <p:par>
                                <p:cTn id="424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3" fill="hold">
                            <p:stCondLst>
                              <p:cond delay="1500"/>
                            </p:stCondLst>
                            <p:childTnLst>
                              <p:par>
                                <p:cTn id="425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56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425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60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1" fill="hold">
                      <p:stCondLst>
                        <p:cond delay="indefinite"/>
                      </p:stCondLst>
                      <p:childTnLst>
                        <p:par>
                          <p:cTn id="4262" fill="hold">
                            <p:stCondLst>
                              <p:cond delay="0"/>
                            </p:stCondLst>
                            <p:childTnLst>
                              <p:par>
                                <p:cTn id="42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62" name=""/>
          <p:cNvSpPr/>
          <p:nvPr/>
        </p:nvSpPr>
        <p:spPr>
          <a:xfrm>
            <a:off x="457200" y="16765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َوْ يَجِدُونَ مَلْجَأً أَوْ مَغَارَاتٍ أَوْ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مُدَّخَلاً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لَوَلَّوْا إِلَيْهِ وَهُمْ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يَجْمَح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توب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086600" y="335268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مُدَّخَلاً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7086600" y="4343400"/>
            <a:ext cx="13366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يَجْمَحُونَ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4800600" y="3352680"/>
            <a:ext cx="22096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لكاً في الار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2666880" y="3352680"/>
            <a:ext cx="2057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كاناً خفي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685800" y="3352680"/>
            <a:ext cx="1905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بلاً عالي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4876920" y="4343400"/>
            <a:ext cx="2141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سرع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2666880" y="4343400"/>
            <a:ext cx="2151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ختبئ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685800" y="4343400"/>
            <a:ext cx="1876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مش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73" name="" descr=""/>
          <p:cNvPicPr/>
          <p:nvPr/>
        </p:nvPicPr>
        <p:blipFill>
          <a:blip r:embed="rId3"/>
          <a:stretch/>
        </p:blipFill>
        <p:spPr>
          <a:xfrm>
            <a:off x="2971800" y="2286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67" dur="indefinite" restart="never" nodeType="tmRoot">
          <p:childTnLst>
            <p:seq>
              <p:cTn id="4268" dur="indefinite" nodeType="mainSeq">
                <p:childTnLst>
                  <p:par>
                    <p:cTn id="4269" fill="hold">
                      <p:stCondLst>
                        <p:cond delay="0"/>
                      </p:stCondLst>
                      <p:childTnLst>
                        <p:par>
                          <p:cTn id="4270" fill="hold">
                            <p:stCondLst>
                              <p:cond delay="0"/>
                            </p:stCondLst>
                            <p:childTnLst>
                              <p:par>
                                <p:cTn id="427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75" dur="1000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77" dur="11599" fill="hold"/>
                                        <p:tgtEl>
                                          <p:spTgt spid="8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8" fill="hold">
                      <p:stCondLst>
                        <p:cond delay="indefinite"/>
                      </p:stCondLst>
                      <p:childTnLst>
                        <p:par>
                          <p:cTn id="4279" fill="hold">
                            <p:stCondLst>
                              <p:cond delay="0"/>
                            </p:stCondLst>
                            <p:childTnLst>
                              <p:par>
                                <p:cTn id="4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2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3" fill="hold">
                            <p:stCondLst>
                              <p:cond delay="500"/>
                            </p:stCondLst>
                            <p:childTnLst>
                              <p:par>
                                <p:cTn id="42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6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7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91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2" fill="hold">
                            <p:stCondLst>
                              <p:cond delay="1500"/>
                            </p:stCondLst>
                            <p:childTnLst>
                              <p:par>
                                <p:cTn id="42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5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6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7" fill="hold">
                      <p:stCondLst>
                        <p:cond delay="indefinite"/>
                      </p:stCondLst>
                      <p:childTnLst>
                        <p:par>
                          <p:cTn id="4298" fill="hold">
                            <p:stCondLst>
                              <p:cond delay="0"/>
                            </p:stCondLst>
                            <p:childTnLst>
                              <p:par>
                                <p:cTn id="42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3" fill="hold">
                            <p:stCondLst>
                              <p:cond delay="0"/>
                            </p:stCondLst>
                            <p:childTnLst>
                              <p:par>
                                <p:cTn id="43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06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7" fill="hold">
                            <p:stCondLst>
                              <p:cond delay="500"/>
                            </p:stCondLst>
                            <p:childTnLst>
                              <p:par>
                                <p:cTn id="430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10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4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5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6" fill="hold">
                            <p:stCondLst>
                              <p:cond delay="1500"/>
                            </p:stCondLst>
                            <p:childTnLst>
                              <p:par>
                                <p:cTn id="43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9" dur="10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0" dur="10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21" dur="10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2" fill="hold">
                      <p:stCondLst>
                        <p:cond delay="indefinite"/>
                      </p:stCondLst>
                      <p:childTnLst>
                        <p:par>
                          <p:cTn id="4323" fill="hold">
                            <p:stCondLst>
                              <p:cond delay="0"/>
                            </p:stCondLst>
                            <p:childTnLst>
                              <p:par>
                                <p:cTn id="43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75" name=""/>
          <p:cNvSpPr/>
          <p:nvPr/>
        </p:nvSpPr>
        <p:spPr>
          <a:xfrm>
            <a:off x="533520" y="1600200"/>
            <a:ext cx="784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مِنْهُمْ مَنْ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يَلْمِزُك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فِي الصَّدَقَاتِ فَإِنْ أُعْطُوا مِنْهَا رَضُوا وَإِنْ لَمْ يُعْطَوْا مِنْهَا إِذَا هُمْ يَسْخَطُونَ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توب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6781680" y="3352680"/>
            <a:ext cx="1382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يَلْمِزُكَ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2895480" y="3352680"/>
            <a:ext cx="1571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عيب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4800600" y="335268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غمز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990720" y="3352680"/>
            <a:ext cx="1541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طالب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838080" y="4648320"/>
            <a:ext cx="754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010199"/>
              </a:buClr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000" spc="-1" strike="noStrike">
                <a:solidFill>
                  <a:srgbClr val="010199"/>
                </a:solidFill>
                <a:latin typeface="Arial"/>
                <a:cs typeface="Arial"/>
              </a:rPr>
              <a:t>يلمزك : المقصود أنهم  كانوا يعيبونك في قسمتها إذا لم تعطهم منها لعدم إستحقاقهم ذلك أو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000" spc="-1" strike="noStrike">
                <a:solidFill>
                  <a:srgbClr val="010199"/>
                </a:solidFill>
                <a:latin typeface="Arial"/>
                <a:cs typeface="Arial"/>
              </a:rPr>
              <a:t>لأسباب أخرى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83" name="" descr=""/>
          <p:cNvPicPr/>
          <p:nvPr/>
        </p:nvPicPr>
        <p:blipFill>
          <a:blip r:embed="rId3"/>
          <a:stretch/>
        </p:blipFill>
        <p:spPr>
          <a:xfrm>
            <a:off x="1523880" y="2209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28" dur="indefinite" restart="never" nodeType="tmRoot">
          <p:childTnLst>
            <p:seq>
              <p:cTn id="4329" dur="indefinite" nodeType="mainSeq">
                <p:childTnLst>
                  <p:par>
                    <p:cTn id="4330" fill="hold">
                      <p:stCondLst>
                        <p:cond delay="0"/>
                      </p:stCondLst>
                      <p:childTnLst>
                        <p:par>
                          <p:cTn id="4331" fill="hold">
                            <p:stCondLst>
                              <p:cond delay="0"/>
                            </p:stCondLst>
                            <p:childTnLst>
                              <p:par>
                                <p:cTn id="43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4" dur="500" fill="hold"/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5" dur="500" fill="hold"/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37" dur="16562" fill="hold"/>
                                        <p:tgtEl>
                                          <p:spTgt spid="8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8" fill="hold">
                      <p:stCondLst>
                        <p:cond delay="indefinite"/>
                      </p:stCondLst>
                      <p:childTnLst>
                        <p:par>
                          <p:cTn id="4339" fill="hold">
                            <p:stCondLst>
                              <p:cond delay="0"/>
                            </p:stCondLst>
                            <p:childTnLst>
                              <p:par>
                                <p:cTn id="434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44" dur="1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34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48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9" fill="hold">
                            <p:stCondLst>
                              <p:cond delay="1500"/>
                            </p:stCondLst>
                            <p:childTnLst>
                              <p:par>
                                <p:cTn id="435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52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3" fill="hold">
                            <p:stCondLst>
                              <p:cond delay="2000"/>
                            </p:stCondLst>
                            <p:childTnLst>
                              <p:par>
                                <p:cTn id="43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6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7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8" fill="hold">
                      <p:stCondLst>
                        <p:cond delay="indefinite"/>
                      </p:stCondLst>
                      <p:childTnLst>
                        <p:par>
                          <p:cTn id="4359" fill="hold">
                            <p:stCondLst>
                              <p:cond delay="0"/>
                            </p:stCondLst>
                            <p:childTnLst>
                              <p:par>
                                <p:cTn id="43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4" fill="hold">
                            <p:stCondLst>
                              <p:cond delay="0"/>
                            </p:stCondLst>
                            <p:childTnLst>
                              <p:par>
                                <p:cTn id="43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7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85" name=""/>
          <p:cNvSpPr/>
          <p:nvPr/>
        </p:nvSpPr>
        <p:spPr>
          <a:xfrm>
            <a:off x="685800" y="914400"/>
            <a:ext cx="7696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نَّمَا الصَّدَقَاتُ لِلْفُقَرَاءِ وَالْمَسَاكِينِ وَالْعَامِلِينَ عَلَيْهَا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وَالْمُؤَلَّفَةِ قُلُوبُهُمْ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فِي الرِّقَابِ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وَالْغَارِمِين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فِي سَبِيلِ اللَّهِ وَابْنِ السَّبِيلِ فَرِيضَةً مِنَ اللَّهِ وَاللَّهُ عَلِيمٌ حَكِيم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توب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0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5928840" y="2514600"/>
            <a:ext cx="2692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وَالْمُؤَلَّفَةِ قُلُوبُهُمْ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439560" y="3200400"/>
            <a:ext cx="6107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وم وحدوا الله ولم تدخل المعرفة قلوبه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1219320" y="2514600"/>
            <a:ext cx="45226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وم يخشون الله قلوبهم رقيق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219320" y="3886200"/>
            <a:ext cx="4552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وم ليس في قلوبهم إيم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6324480" y="4572000"/>
            <a:ext cx="202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وَالْغَارِمِينَ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4263120" y="4572000"/>
            <a:ext cx="1649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هاجر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4572000"/>
            <a:ext cx="13460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ديون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2819520" y="4572000"/>
            <a:ext cx="1365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فقر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1143000" y="5257800"/>
            <a:ext cx="678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مقصود بالغارمين الناس الذين تراكمت عليهم الديون  من أعمال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قاموا بها في غير معصية الله تعالى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97" name="" descr=""/>
          <p:cNvPicPr/>
          <p:nvPr/>
        </p:nvPicPr>
        <p:blipFill>
          <a:blip r:embed="rId3"/>
          <a:stretch/>
        </p:blipFill>
        <p:spPr>
          <a:xfrm>
            <a:off x="2133720" y="2133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68" dur="indefinite" restart="never" nodeType="tmRoot">
          <p:childTnLst>
            <p:seq>
              <p:cTn id="4369" dur="indefinite" nodeType="mainSeq">
                <p:childTnLst>
                  <p:par>
                    <p:cTn id="4370" fill="hold">
                      <p:stCondLst>
                        <p:cond delay="0"/>
                      </p:stCondLst>
                      <p:childTnLst>
                        <p:par>
                          <p:cTn id="4371" fill="hold">
                            <p:stCondLst>
                              <p:cond delay="0"/>
                            </p:stCondLst>
                            <p:childTnLst>
                              <p:par>
                                <p:cTn id="43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4" dur="500" fill="hold"/>
                                        <p:tgtEl>
                                          <p:spTgt spid="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5" dur="500" fill="hold"/>
                                        <p:tgtEl>
                                          <p:spTgt spid="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77" dur="30929" fill="hold"/>
                                        <p:tgtEl>
                                          <p:spTgt spid="8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8" fill="hold">
                      <p:stCondLst>
                        <p:cond delay="indefinite"/>
                      </p:stCondLst>
                      <p:childTnLst>
                        <p:par>
                          <p:cTn id="4379" fill="hold">
                            <p:stCondLst>
                              <p:cond delay="0"/>
                            </p:stCondLst>
                            <p:childTnLst>
                              <p:par>
                                <p:cTn id="43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82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3" fill="hold">
                            <p:stCondLst>
                              <p:cond delay="500"/>
                            </p:stCondLst>
                            <p:childTnLst>
                              <p:par>
                                <p:cTn id="43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6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7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8" fill="hold">
                            <p:stCondLst>
                              <p:cond delay="1000"/>
                            </p:stCondLst>
                            <p:childTnLst>
                              <p:par>
                                <p:cTn id="43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1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2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3" fill="hold">
                            <p:stCondLst>
                              <p:cond delay="1500"/>
                            </p:stCondLst>
                            <p:childTnLst>
                              <p:par>
                                <p:cTn id="439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6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7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8" fill="hold">
                      <p:stCondLst>
                        <p:cond delay="indefinite"/>
                      </p:stCondLst>
                      <p:childTnLst>
                        <p:par>
                          <p:cTn id="4399" fill="hold">
                            <p:stCondLst>
                              <p:cond delay="0"/>
                            </p:stCondLst>
                            <p:childTnLst>
                              <p:par>
                                <p:cTn id="44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4" fill="hold">
                            <p:stCondLst>
                              <p:cond delay="0"/>
                            </p:stCondLst>
                            <p:childTnLst>
                              <p:par>
                                <p:cTn id="440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1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16" dur="10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0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1" fill="hold">
                            <p:stCondLst>
                              <p:cond delay="2500"/>
                            </p:stCondLst>
                            <p:childTnLst>
                              <p:par>
                                <p:cTn id="44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4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5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6" fill="hold">
                      <p:stCondLst>
                        <p:cond delay="indefinite"/>
                      </p:stCondLst>
                      <p:childTnLst>
                        <p:par>
                          <p:cTn id="4427" fill="hold">
                            <p:stCondLst>
                              <p:cond delay="0"/>
                            </p:stCondLst>
                            <p:childTnLst>
                              <p:par>
                                <p:cTn id="44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2" fill="hold">
                            <p:stCondLst>
                              <p:cond delay="0"/>
                            </p:stCondLst>
                            <p:childTnLst>
                              <p:par>
                                <p:cTn id="44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5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99" name=""/>
          <p:cNvSpPr/>
          <p:nvPr/>
        </p:nvSpPr>
        <p:spPr>
          <a:xfrm>
            <a:off x="838080" y="1371600"/>
            <a:ext cx="7467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مِنْهُمُ الَّذِينَ يُؤْذُونَ النَّبِيَّ وَيَقُولُونَ هُوَ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أُذُنٌ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قُلْ أُذُنُ خَيْرٍ لَكُمْ يُؤْمِنُ بِاللَّهِ وَيُؤْمِنُ لِلْمُؤْمِنِينَ وَرَحْمَةٌ لِلَّذِينَ آمَنُوا مِنْكُمْ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...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توب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2992320" y="3429000"/>
            <a:ext cx="2108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ارحة السم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7238880" y="3429000"/>
            <a:ext cx="1076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أُذُنٌ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5115960" y="3429000"/>
            <a:ext cx="1857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عطي الإذ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1295280" y="3429000"/>
            <a:ext cx="14781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معه قو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762120" y="4724280"/>
            <a:ext cx="754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سميَّ (ص) بها إشارة إلى أنه يصغي ويستمع إلى كل ما يقال ويذكر له،للإساءة إليه (ص) ، لكنه سماع لما فيه خيركم  ومصلحتكم وليس لما يضركم ولا ينفعك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36" dur="indefinite" restart="never" nodeType="tmRoot">
          <p:childTnLst>
            <p:seq>
              <p:cTn id="4437" dur="indefinite" nodeType="mainSeq">
                <p:childTnLst>
                  <p:par>
                    <p:cTn id="4438" fill="hold">
                      <p:stCondLst>
                        <p:cond delay="0"/>
                      </p:stCondLst>
                      <p:childTnLst>
                        <p:par>
                          <p:cTn id="4439" fill="hold">
                            <p:stCondLst>
                              <p:cond delay="0"/>
                            </p:stCondLst>
                            <p:childTnLst>
                              <p:par>
                                <p:cTn id="44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2" dur="10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3" dur="10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44" dur="10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46" dur="24033" fill="hold"/>
                                        <p:tgtEl>
                                          <p:spTgt spid="9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7" fill="hold">
                      <p:stCondLst>
                        <p:cond delay="indefinite"/>
                      </p:stCondLst>
                      <p:childTnLst>
                        <p:par>
                          <p:cTn id="4448" fill="hold">
                            <p:stCondLst>
                              <p:cond delay="0"/>
                            </p:stCondLst>
                            <p:childTnLst>
                              <p:par>
                                <p:cTn id="44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51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2" fill="hold">
                            <p:stCondLst>
                              <p:cond delay="500"/>
                            </p:stCondLst>
                            <p:childTnLst>
                              <p:par>
                                <p:cTn id="445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55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6" fill="hold">
                            <p:stCondLst>
                              <p:cond delay="1000"/>
                            </p:stCondLst>
                            <p:childTnLst>
                              <p:par>
                                <p:cTn id="44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9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0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1" fill="hold">
                            <p:stCondLst>
                              <p:cond delay="1500"/>
                            </p:stCondLst>
                            <p:childTnLst>
                              <p:par>
                                <p:cTn id="446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64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5" fill="hold">
                      <p:stCondLst>
                        <p:cond delay="indefinite"/>
                      </p:stCondLst>
                      <p:childTnLst>
                        <p:par>
                          <p:cTn id="4466" fill="hold">
                            <p:stCondLst>
                              <p:cond delay="0"/>
                            </p:stCondLst>
                            <p:childTnLst>
                              <p:par>
                                <p:cTn id="44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1" fill="hold">
                            <p:stCondLst>
                              <p:cond delay="0"/>
                            </p:stCondLst>
                            <p:childTnLst>
                              <p:par>
                                <p:cTn id="44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4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09" name=""/>
          <p:cNvSpPr/>
          <p:nvPr/>
        </p:nvSpPr>
        <p:spPr>
          <a:xfrm>
            <a:off x="609480" y="1295280"/>
            <a:ext cx="7772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َلَمْ يَأْتِهِمْ نَبَأُ الَّذِينَ مِنْ قَبْلِهِمْ قَوْمِ نُوحٍ وَعَادٍ وَثَمُودَ وَقَوْمِ إِبْرَاهِيمَ وَأَصْحَابِ مَدْيَنَ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وَالْمُؤْتَفِكَاتِ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أَتَتْهُمْ رُسُلُهُمْ بِالْبَيِّنَاتِ فَمَا كَانَ اللَّهُ لِيَظْلِمَهُمْ وَلَكِنْ كَانُوا أَنْفُسَهُمْ يَظْلِم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توب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70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6417360" y="3429000"/>
            <a:ext cx="206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وَالْمُؤْتَفِكَاتِ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914400" y="3429000"/>
            <a:ext cx="14605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نقلب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4648320" y="3429000"/>
            <a:ext cx="156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ؤمن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2743200" y="3429000"/>
            <a:ext cx="14270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صالح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223920" y="4648320"/>
            <a:ext cx="89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المقصود بالمؤتفكات قوم لوط الذين إنقلبت بهم قراهم عاليها سافلها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917" name="" descr=""/>
          <p:cNvPicPr/>
          <p:nvPr/>
        </p:nvPicPr>
        <p:blipFill>
          <a:blip r:embed="rId3"/>
          <a:stretch/>
        </p:blipFill>
        <p:spPr>
          <a:xfrm>
            <a:off x="1371600" y="2209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75" dur="indefinite" restart="never" nodeType="tmRoot">
          <p:childTnLst>
            <p:seq>
              <p:cTn id="4476" dur="indefinite" nodeType="mainSeq">
                <p:childTnLst>
                  <p:par>
                    <p:cTn id="4477" fill="hold">
                      <p:stCondLst>
                        <p:cond delay="0"/>
                      </p:stCondLst>
                      <p:childTnLst>
                        <p:par>
                          <p:cTn id="4478" fill="hold">
                            <p:stCondLst>
                              <p:cond delay="0"/>
                            </p:stCondLst>
                            <p:childTnLst>
                              <p:par>
                                <p:cTn id="447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1" dur="500" fill="hold"/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2" dur="500" fill="hold"/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3" dur="500" fill="hold"/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4" dur="500"/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86" dur="35840" fill="hold"/>
                                        <p:tgtEl>
                                          <p:spTgt spid="9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7" fill="hold">
                      <p:stCondLst>
                        <p:cond delay="indefinite"/>
                      </p:stCondLst>
                      <p:childTnLst>
                        <p:par>
                          <p:cTn id="4488" fill="hold">
                            <p:stCondLst>
                              <p:cond delay="0"/>
                            </p:stCondLst>
                            <p:childTnLst>
                              <p:par>
                                <p:cTn id="448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93" dur="10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4" fill="hold">
                            <p:stCondLst>
                              <p:cond delay="1000"/>
                            </p:stCondLst>
                            <p:childTnLst>
                              <p:par>
                                <p:cTn id="44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7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8" fill="hold">
                            <p:stCondLst>
                              <p:cond delay="1500"/>
                            </p:stCondLst>
                            <p:childTnLst>
                              <p:par>
                                <p:cTn id="44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01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2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5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6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7" fill="hold">
                      <p:stCondLst>
                        <p:cond delay="indefinite"/>
                      </p:stCondLst>
                      <p:childTnLst>
                        <p:par>
                          <p:cTn id="4508" fill="hold">
                            <p:stCondLst>
                              <p:cond delay="0"/>
                            </p:stCondLst>
                            <p:childTnLst>
                              <p:par>
                                <p:cTn id="45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3" fill="hold">
                            <p:stCondLst>
                              <p:cond delay="0"/>
                            </p:stCondLst>
                            <p:childTnLst>
                              <p:par>
                                <p:cTn id="45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6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19" name=""/>
          <p:cNvSpPr/>
          <p:nvPr/>
        </p:nvSpPr>
        <p:spPr>
          <a:xfrm>
            <a:off x="533520" y="167652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رَضُوا بِأَنْ يَكُونُوا مَعَ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الْخَوَالِفِ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طُبِعَ عَلَى قُلُوبِهِمْ فَهُمْ لا يَفْقَه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توب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8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801480" y="3352680"/>
            <a:ext cx="1572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الْخَوَالِفِ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2895480" y="3352680"/>
            <a:ext cx="1730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تخلف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4952880" y="3352680"/>
            <a:ext cx="1739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خائف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838080" y="3352680"/>
            <a:ext cx="1694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هارب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838080" y="457200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خوالف المقصود بهم الذين عُذِروا عن المشاركة في الجهاد من النساء والعجائز والأطفال والمرضى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927" name="" descr=""/>
          <p:cNvPicPr/>
          <p:nvPr/>
        </p:nvPicPr>
        <p:blipFill>
          <a:blip r:embed="rId3"/>
          <a:stretch/>
        </p:blipFill>
        <p:spPr>
          <a:xfrm>
            <a:off x="3276720" y="2286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17" dur="indefinite" restart="never" nodeType="tmRoot">
          <p:childTnLst>
            <p:seq>
              <p:cTn id="4518" dur="indefinite" nodeType="mainSeq">
                <p:childTnLst>
                  <p:par>
                    <p:cTn id="4519" fill="hold">
                      <p:stCondLst>
                        <p:cond delay="0"/>
                      </p:stCondLst>
                      <p:childTnLst>
                        <p:par>
                          <p:cTn id="4520" fill="hold">
                            <p:stCondLst>
                              <p:cond delay="0"/>
                            </p:stCondLst>
                            <p:childTnLst>
                              <p:par>
                                <p:cTn id="452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23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25" dur="11912" fill="hold"/>
                                        <p:tgtEl>
                                          <p:spTgt spid="9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6" fill="hold">
                      <p:stCondLst>
                        <p:cond delay="indefinite"/>
                      </p:stCondLst>
                      <p:childTnLst>
                        <p:par>
                          <p:cTn id="4527" fill="hold">
                            <p:stCondLst>
                              <p:cond delay="0"/>
                            </p:stCondLst>
                            <p:childTnLst>
                              <p:par>
                                <p:cTn id="4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0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1" fill="hold">
                            <p:stCondLst>
                              <p:cond delay="500"/>
                            </p:stCondLst>
                            <p:childTnLst>
                              <p:par>
                                <p:cTn id="453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4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5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6" fill="hold">
                            <p:stCondLst>
                              <p:cond delay="1000"/>
                            </p:stCondLst>
                            <p:childTnLst>
                              <p:par>
                                <p:cTn id="45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9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0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54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44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5" fill="hold">
                      <p:stCondLst>
                        <p:cond delay="indefinite"/>
                      </p:stCondLst>
                      <p:childTnLst>
                        <p:par>
                          <p:cTn id="4546" fill="hold">
                            <p:stCondLst>
                              <p:cond delay="0"/>
                            </p:stCondLst>
                            <p:childTnLst>
                              <p:par>
                                <p:cTn id="45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1" fill="hold">
                            <p:stCondLst>
                              <p:cond delay="0"/>
                            </p:stCondLst>
                            <p:childTnLst>
                              <p:par>
                                <p:cTn id="45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219320" y="1568520"/>
            <a:ext cx="6781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َفَرَأَيْتَ الَّذِي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تَوَلَّى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Traditional Arabic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Traditional Arabic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أعْطَى قَلِيلاً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وأكْدَى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Traditional Arabic"/>
              </a:rPr>
              <a:t> 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( النجم :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33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34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781680" y="32814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تَوَلَّى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90720" y="3281400"/>
            <a:ext cx="1627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عر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76920" y="32814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ذه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95480" y="3276720"/>
            <a:ext cx="1670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خا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781680" y="450072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وَأَكْدَى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876920" y="45007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أخف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95480" y="4495680"/>
            <a:ext cx="1648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قط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4495680"/>
            <a:ext cx="1633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أخ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47440" y="5486400"/>
            <a:ext cx="76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أكدى : أي الذي أعطى قليلاً من المال ثم أمسك أشد المس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4419720" y="12193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2" dur="7785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000"/>
                            </p:stCondLst>
                            <p:childTnLst>
                              <p:par>
                                <p:cTn id="3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914400" y="1143000"/>
            <a:ext cx="72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أَنَّ عَلَيْهِ النَّشْأَةَ الْأُخْرَى </a:t>
            </a:r>
            <a:r>
              <a:rPr b="0" lang="ar-SA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أَنَّهُ هُوَ أَغْنَى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وَأَقْنَى </a:t>
            </a:r>
            <a:r>
              <a:rPr b="0" lang="ar-SA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أَنَّهُ هُوَ رَبُّ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شِّعْرَى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 النج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8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49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010280" y="2590920"/>
            <a:ext cx="1238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وَأَقْنَى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76920" y="2590920"/>
            <a:ext cx="19396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عطى ما يبقى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743200" y="2590920"/>
            <a:ext cx="1981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فق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2590920"/>
            <a:ext cx="1936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خ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14400" y="3444840"/>
            <a:ext cx="73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ومعنى القنية ما يدوم من الأموال ويبقى ببقاء نفسه كالدار والبستان والحيوا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6899400" y="4576680"/>
            <a:ext cx="1547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شِّعْرَى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876920" y="4572000"/>
            <a:ext cx="19303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نجم المضي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819520" y="4576680"/>
            <a:ext cx="1911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كواك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2120" y="4576680"/>
            <a:ext cx="1927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أنوا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8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8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8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8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4" dur="13845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5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3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4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480"/>
                            </p:stCondLst>
                            <p:childTnLst>
                              <p:par>
                                <p:cTn id="41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480"/>
                            </p:stCondLst>
                            <p:childTnLst>
                              <p:par>
                                <p:cTn id="42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980"/>
                            </p:stCondLst>
                            <p:childTnLst>
                              <p:par>
                                <p:cTn id="4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17:47:59Z</dcterms:created>
  <dc:creator/>
  <dc:description/>
  <dc:language>en-US</dc:language>
  <cp:lastModifiedBy>ALI</cp:lastModifiedBy>
  <dcterms:modified xsi:type="dcterms:W3CDTF">2008-09-21T07:01:32Z</dcterms:modified>
  <cp:revision>6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