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01F-7FA7-4107-89CA-7322FBFC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4FF-1C2E-46FB-A9A0-4737E9ED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2ED-BE68-4638-83FC-4299BEDE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C36-B7FD-48F2-9E84-385A4725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DAEA-5094-45B9-95EC-DE39496E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6659-62AC-4BD9-97DC-C3F89526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F238-F7F7-46D0-AF6D-E5A9E129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86B0-3BE4-43F0-AD37-393C5769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64DB-2803-434C-8646-0C899BAA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DBA9-AB25-404E-B6C2-186249E5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2EB3-B86D-4BB3-8DDF-C4E6209C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1C8-71AB-4EBA-A1B3-762E619A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FA73-F3D3-4530-A5C5-8E0058EB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DFCA-96D0-4BB0-81D9-7F3C8443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063B-8B2E-4E81-9AED-734485C1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CB98-1072-43E1-9220-8FD92766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C499-3EA1-4373-8E52-910A5269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8A5-A887-42EE-8D13-5609506A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77B-A440-4B06-B7F9-A1D6CA0B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293-5B00-4103-9BF0-8C3F65B0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48A-EE1E-497A-B743-196D430B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82A-6885-4942-B8DE-5A6BBB89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2EE-F2ED-4166-A1D9-C55268D1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F44-6D1B-4528-8BFA-A3B2784B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8024-BF4E-45D6-93DF-681F3A0119B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1F3B-A633-4C21-8C2A-C53B6055549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576;&#1575;&#1576;%20&#1575;&#1604;&#1608;&#1601;&#1575;&#1569;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hyperlink" Target="file:///&#1576;&#1575;&#1576;%20&#1575;&#1604;&#1589;&#1604;&#1577;.ppt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&#1576;&#1575;&#1576;%20&#1575;&#1604;&#1582;&#1588;&#1610;&#1577;.ppt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&#1576;&#1575;&#1576;%20&#1575;&#1604;&#1582;&#1608;&#1601;.ppt" TargetMode="External"/><Relationship Id="rId10" Type="http://schemas.openxmlformats.org/officeDocument/2006/relationships/image" Target="../media/image4.png"/><Relationship Id="rId11" Type="http://schemas.openxmlformats.org/officeDocument/2006/relationships/hyperlink" Target="file:///&#1576;&#1575;&#1576;%20&#1575;&#1604;&#1589;&#1576;&#1585;.ppt" TargetMode="External"/><Relationship Id="rId12" Type="http://schemas.openxmlformats.org/officeDocument/2006/relationships/image" Target="../media/image4.png"/><Relationship Id="rId13" Type="http://schemas.openxmlformats.org/officeDocument/2006/relationships/hyperlink" Target="file:///&#1576;&#1575;&#1576;%20&#1575;&#1604;&#1589;&#1604;&#1575;&#1577;.ppt" TargetMode="External"/><Relationship Id="rId14" Type="http://schemas.openxmlformats.org/officeDocument/2006/relationships/image" Target="../media/image4.png"/><Relationship Id="rId15" Type="http://schemas.openxmlformats.org/officeDocument/2006/relationships/hyperlink" Target="file:///&#1576;&#1575;&#1576;%20&#1575;&#1604;&#1575;&#1606;&#1601;&#1575;&#1602;.ppt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576;&#1575;&#1576;%20&#1575;&#1604;&#1578;&#1608;&#1576;&#1577;.ppt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2.png"/><Relationship Id="rId20" Type="http://schemas.openxmlformats.org/officeDocument/2006/relationships/hyperlink" Target="file:///&#1576;&#1575;&#1576;%20&#1575;&#1604;&#1589;&#1604;&#1577;.ppt" TargetMode="External"/><Relationship Id="rId21" Type="http://schemas.openxmlformats.org/officeDocument/2006/relationships/hyperlink" Target="file:///&#1576;&#1575;&#1576;%20&#1575;&#1604;&#1608;&#1601;&#1575;&#1569;.ppt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47920" y="3747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9900"/>
                </a:solidFill>
                <a:latin typeface="Arial"/>
                <a:cs typeface="Arial"/>
              </a:rPr>
              <a:t>الثقاف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0257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﴿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لَوْ أَنْزَلْنَا هَذَا الْقُرْآَنَ عَلَى جَبَلٍ لَرَأَيْتَهُ خَاشِعًا مُتَصَدِّعًا مِنْ خَشْيَةِ اللَّهِ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﴾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( الحشر: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6680" y="121932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بِسْمِ اللَّهِ الرَّحْمَنِ الرَّحِيم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48308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000000"/>
                </a:solidFill>
                <a:latin typeface="Arial"/>
                <a:cs typeface="Arial"/>
              </a:rPr>
              <a:t>مسابقة بصائر القرآ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733920"/>
            <a:ext cx="17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eb140f"/>
                </a:solidFill>
                <a:latin typeface="Arial"/>
                <a:cs typeface="Arial"/>
              </a:rPr>
              <a:t>ج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Arial"/>
                <a:cs typeface="Arial"/>
              </a:rPr>
              <a:t>المعا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f7b0f"/>
                </a:solidFill>
                <a:latin typeface="Arial"/>
                <a:cs typeface="Arial"/>
              </a:rPr>
              <a:t>الإسلام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905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4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342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7342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إعداد مسابق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بصائر القرآن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من قبل جمعية المعارف الإسلامية الثقافية ضمن سلسل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الكلم الطيب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للمساهمة في نشر العلوم القرآنية في المجتمع الإسلامي وسوف يتبعها بعونه تعالى المسابقات التالية 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روائع النهج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 نهج البلاغة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لطائف الصحيف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 الصحيفة السجادي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محاسن الحديث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 أصول الكافي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ff9900"/>
                </a:solidFill>
                <a:latin typeface="Arial"/>
              </a:rPr>
              <a:t>أعدت هذه المسابقة على أساس اختيار كلمات محدّدة ض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de05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bf0101"/>
                </a:solidFill>
                <a:latin typeface="Arial"/>
              </a:rPr>
              <a:t>تم وضع ثلاثة احتمالات لكل كلمة ليتمكن القارئ من معرفة المعنى الصحيح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تسجيل صوتي لكل آية 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66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8000"/>
                </a:solidFill>
                <a:latin typeface="Arial"/>
              </a:rPr>
              <a:t>اعتمد تفسير الميزان للعلامة الطباطبائي بشكل أساس وتمت الاستفادة من تفسير الأمثل في كتاب الله المنزل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في الختام نسأل الله تعالى أن يوفقنا لنشر الثقافة القرآنية في المجتمع راجين منه أحسن القب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25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5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65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35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477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685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4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4c0000"/>
                </a:solidFill>
                <a:latin typeface="Arial"/>
                <a:ea typeface="Arial"/>
              </a:rPr>
              <a:t> إن هذه المسابقة  مقسمة إلى ثمانية أبواب على عدد أبواب الجنة وبإمكان القارئ الدخول من الباب الذي يريده بمجرد الضغط على الباب المطلو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5"/>
          </p:cNvPr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57200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2666880" y="213372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9"/>
          </p:cNvPr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762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11"/>
          </p:cNvPr>
          <p:cNvPicPr/>
          <p:nvPr/>
        </p:nvPicPr>
        <p:blipFill>
          <a:blip r:embed="rId12">
            <a:lum bright="-6000"/>
          </a:blip>
          <a:stretch/>
        </p:blipFill>
        <p:spPr>
          <a:xfrm>
            <a:off x="647712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13"/>
          </p:cNvPr>
          <p:cNvPicPr/>
          <p:nvPr/>
        </p:nvPicPr>
        <p:blipFill>
          <a:blip r:embed="rId14">
            <a:lum bright="-6000"/>
          </a:blip>
          <a:stretch/>
        </p:blipFill>
        <p:spPr>
          <a:xfrm>
            <a:off x="457200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15"/>
          </p:cNvPr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2666880" y="4800600"/>
            <a:ext cx="175284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7"/>
          </p:cNvPr>
          <p:cNvPicPr/>
          <p:nvPr/>
        </p:nvPicPr>
        <p:blipFill>
          <a:blip r:embed="rId18">
            <a:lum bright="-6000"/>
          </a:blip>
          <a:stretch/>
        </p:blipFill>
        <p:spPr>
          <a:xfrm>
            <a:off x="762120" y="4800600"/>
            <a:ext cx="1752480" cy="1219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85680" y="342900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c0000"/>
                </a:solidFill>
                <a:latin typeface="Arial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جَنَّاتُ عَدْنٍ يَدْخُلُونَهَا وَمَنْ صَلَحَ مِنْ آَبَائِهِمْ وَأَزْوَاجِهِمْ وَذُرِّيَّاتِهِمْ وَالْمَلَائِكَةُ يَدْخُلُونَ عَلَيْهِمْ مِنْ كُلِّ بَابٍ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﴾  (الرعد 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23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16200000">
            <a:off x="3314520" y="102852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ش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409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و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0"/>
          </p:cNvPr>
          <p:cNvSpPr/>
          <p:nvPr/>
        </p:nvSpPr>
        <p:spPr>
          <a:xfrm rot="16200000">
            <a:off x="521964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1"/>
          </p:cNvPr>
          <p:cNvSpPr/>
          <p:nvPr/>
        </p:nvSpPr>
        <p:spPr>
          <a:xfrm rot="16200000">
            <a:off x="7124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وف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124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21964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ا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314520" y="369540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إنفا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409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توب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31Z</dcterms:created>
  <dc:creator/>
  <dc:description/>
  <dc:language>en-US</dc:language>
  <cp:lastModifiedBy>HP</cp:lastModifiedBy>
  <dcterms:modified xsi:type="dcterms:W3CDTF">2008-10-17T07:21:5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