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524D-FE7A-40C7-A63C-925E06EC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91AB-CC53-40EA-AC1E-A0EC0F3F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7B69-988E-4ED9-8DE1-18FF16B21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A084-FD40-4BFA-8509-9EB21731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ECA1-25C2-4CB8-BB34-8310967FC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385B-CBB7-4E3B-B85F-D3C22A8B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6ABE-2D48-4F32-96FA-1534A2CA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85B5-5FB7-4FF2-9FCE-54151E21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738E-0276-41DE-84FA-81EB0270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5CC4-064F-4254-9AC2-B93BA955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F2BA-B281-4D41-8141-5307C1C6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FF95-CB57-4F1F-B712-AB81763D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A52D-3EC6-4E73-9120-B1900F41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6D24-C119-4FAD-99F8-59BFBD25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1664-960A-491E-A7C2-70C20B95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FAA6-04F7-4986-A91D-7AFC35565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F181-895A-44A9-9154-34838AC20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90D8-FCDB-49BC-B2B1-00367A67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C0C8-D21C-4880-B8D4-066D9C4E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A012-51CB-45A2-AA14-9678B8F7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C66F-619A-46B0-9E94-057EDC1D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20FE-71DB-4B63-937A-3C68785D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6ACF-1C85-4254-B7A7-B6D9B307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9BAD-3C4A-4ABB-B3B8-C9229E0D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6405-5E2A-452E-A2BF-58AABF470686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9C01-C318-4AD3-9E54-E32DDA2B8F70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576;&#1575;&#1576;%20&#1575;&#1604;&#1608;&#1601;&#1575;&#1569;.ppt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3.jpeg"/><Relationship Id="rId5" Type="http://schemas.openxmlformats.org/officeDocument/2006/relationships/hyperlink" Target="file:///&#1576;&#1575;&#1576;%20&#1575;&#1604;&#1589;&#1604;&#1577;.ppt" TargetMode="External"/><Relationship Id="rId6" Type="http://schemas.openxmlformats.org/officeDocument/2006/relationships/image" Target="../media/image4.png"/><Relationship Id="rId7" Type="http://schemas.openxmlformats.org/officeDocument/2006/relationships/hyperlink" Target="file:///&#1576;&#1575;&#1576;%20&#1575;&#1604;&#1582;&#1588;&#1610;&#1577;.ppt" TargetMode="External"/><Relationship Id="rId8" Type="http://schemas.openxmlformats.org/officeDocument/2006/relationships/image" Target="../media/image4.png"/><Relationship Id="rId9" Type="http://schemas.openxmlformats.org/officeDocument/2006/relationships/hyperlink" Target="file:///&#1576;&#1575;&#1576;%20&#1575;&#1604;&#1582;&#1608;&#1601;.ppt" TargetMode="External"/><Relationship Id="rId10" Type="http://schemas.openxmlformats.org/officeDocument/2006/relationships/image" Target="../media/image4.png"/><Relationship Id="rId11" Type="http://schemas.openxmlformats.org/officeDocument/2006/relationships/hyperlink" Target="file:///&#1576;&#1575;&#1576;%20&#1575;&#1604;&#1589;&#1576;&#1585;.ppt" TargetMode="External"/><Relationship Id="rId12" Type="http://schemas.openxmlformats.org/officeDocument/2006/relationships/image" Target="../media/image4.png"/><Relationship Id="rId13" Type="http://schemas.openxmlformats.org/officeDocument/2006/relationships/hyperlink" Target="file:///&#1576;&#1575;&#1576;%20&#1575;&#1604;&#1589;&#1604;&#1575;&#1577;.ppt" TargetMode="External"/><Relationship Id="rId14" Type="http://schemas.openxmlformats.org/officeDocument/2006/relationships/image" Target="../media/image4.png"/><Relationship Id="rId15" Type="http://schemas.openxmlformats.org/officeDocument/2006/relationships/hyperlink" Target="file:///&#1576;&#1575;&#1576;%20&#1575;&#1604;&#1575;&#1606;&#1601;&#1575;&#1602;.ppt" TargetMode="External"/><Relationship Id="rId16" Type="http://schemas.openxmlformats.org/officeDocument/2006/relationships/image" Target="../media/image4.png"/><Relationship Id="rId17" Type="http://schemas.openxmlformats.org/officeDocument/2006/relationships/hyperlink" Target="file:///&#1576;&#1575;&#1576;%20&#1575;&#1604;&#1578;&#1608;&#1576;&#1577;.ppt" TargetMode="External"/><Relationship Id="rId18" Type="http://schemas.openxmlformats.org/officeDocument/2006/relationships/image" Target="../media/image4.png"/><Relationship Id="rId19" Type="http://schemas.openxmlformats.org/officeDocument/2006/relationships/image" Target="../media/image2.png"/><Relationship Id="rId20" Type="http://schemas.openxmlformats.org/officeDocument/2006/relationships/hyperlink" Target="file:///&#1576;&#1575;&#1576;%20&#1575;&#1604;&#1589;&#1604;&#1577;.ppt" TargetMode="External"/><Relationship Id="rId21" Type="http://schemas.openxmlformats.org/officeDocument/2006/relationships/hyperlink" Target="file:///&#1576;&#1575;&#1576;%20&#1575;&#1604;&#1608;&#1601;&#1575;&#1569;.ppt" TargetMode="External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47920" y="374796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9900"/>
                </a:solidFill>
                <a:latin typeface="Arial"/>
                <a:cs typeface="Arial"/>
              </a:rPr>
              <a:t>الثقافي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0257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﴿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لَوْ أَنْزَلْنَا هَذَا الْقُرْآَنَ عَلَى جَبَلٍ لَرَأَيْتَهُ خَاشِعًا مُتَصَدِّعًا مِنْ خَشْيَةِ اللَّهِ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﴾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 ( الحشر: 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21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16680" y="1219320"/>
            <a:ext cx="426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بِسْمِ اللَّهِ الرَّحْمَنِ الرَّحِيم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9480" y="483084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000000"/>
                </a:solidFill>
                <a:latin typeface="Arial"/>
                <a:cs typeface="Arial"/>
              </a:rPr>
              <a:t>مسابقة بصائر القرآ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3733920"/>
            <a:ext cx="178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eb140f"/>
                </a:solidFill>
                <a:latin typeface="Arial"/>
                <a:cs typeface="Arial"/>
              </a:rPr>
              <a:t>جمع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3733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00"/>
                </a:solidFill>
                <a:latin typeface="Arial"/>
                <a:cs typeface="Arial"/>
              </a:rPr>
              <a:t>المعار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37339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f7b0f"/>
                </a:solidFill>
                <a:latin typeface="Arial"/>
                <a:cs typeface="Arial"/>
              </a:rPr>
              <a:t>الإسلام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9051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342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342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7342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838080"/>
            <a:ext cx="79250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r" rtl="1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تم إعداد مسابقة </a:t>
            </a:r>
            <a:r>
              <a:rPr b="0" lang="ar-LB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LB" sz="2300" spc="-1" strike="noStrike">
                <a:solidFill>
                  <a:srgbClr val="ff9900"/>
                </a:solidFill>
                <a:latin typeface="Arial"/>
              </a:rPr>
              <a:t>بصائر القرآن </a:t>
            </a:r>
            <a:r>
              <a:rPr b="0" lang="ar-LB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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من قبل جمعية المعارف الإسلامية الثقافية ضمن سلسلة </a:t>
            </a:r>
            <a:r>
              <a:rPr b="0" lang="ar-LB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LB" sz="2300" spc="-1" strike="noStrike">
                <a:solidFill>
                  <a:srgbClr val="ff9900"/>
                </a:solidFill>
                <a:latin typeface="Arial"/>
              </a:rPr>
              <a:t>الكلم الطيب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LB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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للمساهمة في نشر العلوم القرآنية في المجتمع الإسلامي وسوف يتبعها بعونه تعالى المسابقات التالية 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bf0101"/>
                </a:solidFill>
                <a:latin typeface="Arial"/>
              </a:rPr>
              <a:t>روائع النهج </a:t>
            </a:r>
            <a:r>
              <a:rPr b="1" lang="ar-LB" sz="2400" spc="-1" strike="noStrike">
                <a:solidFill>
                  <a:srgbClr val="bf0101"/>
                </a:solidFill>
                <a:latin typeface="Wingdings"/>
                <a:ea typeface="Wingdings"/>
              </a:rPr>
              <a:t></a:t>
            </a:r>
            <a:r>
              <a:rPr b="1" lang="ar-LB" sz="2400" spc="-1" strike="noStrike">
                <a:solidFill>
                  <a:srgbClr val="bf0101"/>
                </a:solidFill>
                <a:latin typeface="Arial"/>
              </a:rPr>
              <a:t> نهج البلاغة </a:t>
            </a:r>
            <a:r>
              <a:rPr b="1" lang="ar-LB" sz="2400" spc="-1" strike="noStrike">
                <a:solidFill>
                  <a:srgbClr val="bf0101"/>
                </a:solidFill>
                <a:latin typeface="Wingdings"/>
                <a:ea typeface="Wingdings"/>
              </a:rPr>
              <a:t>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000000"/>
                </a:solidFill>
                <a:latin typeface="Arial"/>
              </a:rPr>
              <a:t>لطائف الصحيفة </a:t>
            </a:r>
            <a:r>
              <a:rPr b="1" lang="ar-L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ar-LB" sz="2400" spc="-1" strike="noStrike">
                <a:solidFill>
                  <a:srgbClr val="000000"/>
                </a:solidFill>
                <a:latin typeface="Arial"/>
              </a:rPr>
              <a:t> الصحيفة السجادية </a:t>
            </a:r>
            <a:r>
              <a:rPr b="1" lang="ar-L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008000"/>
                </a:solidFill>
                <a:latin typeface="Arial"/>
              </a:rPr>
              <a:t>محاسن الحديث </a:t>
            </a:r>
            <a:r>
              <a:rPr b="1" lang="ar-LB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</a:t>
            </a:r>
            <a:r>
              <a:rPr b="1" lang="ar-LB" sz="2400" spc="-1" strike="noStrike">
                <a:solidFill>
                  <a:srgbClr val="008000"/>
                </a:solidFill>
                <a:latin typeface="Arial"/>
              </a:rPr>
              <a:t> أصول الكافي </a:t>
            </a:r>
            <a:r>
              <a:rPr b="1" lang="ar-LB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80000"/>
              </a:lnSpc>
              <a:spcBef>
                <a:spcPts val="575"/>
              </a:spcBef>
              <a:buClr>
                <a:srgbClr val="ff9900"/>
              </a:buClr>
              <a:buSzPct val="7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300" spc="-1" strike="noStrike">
                <a:solidFill>
                  <a:srgbClr val="ff9900"/>
                </a:solidFill>
                <a:latin typeface="Arial"/>
              </a:rPr>
              <a:t>أعدت هذه المسابقة على أساس اختيار كلمات محدّدة ضمن الآيات الكريمة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80000"/>
              </a:lnSpc>
              <a:spcBef>
                <a:spcPts val="575"/>
              </a:spcBef>
              <a:buClr>
                <a:srgbClr val="de0500"/>
              </a:buClr>
              <a:buSzPct val="7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300" spc="-1" strike="noStrike">
                <a:solidFill>
                  <a:srgbClr val="bf0101"/>
                </a:solidFill>
                <a:latin typeface="Arial"/>
              </a:rPr>
              <a:t>تم وضع ثلاثة احتمالات لكل كلمة ليتمكن القارئ من معرفة المعنى الصحيح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تم تسجيل صوتي لكل آية من الآيات الكريمة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80000"/>
              </a:lnSpc>
              <a:spcBef>
                <a:spcPts val="575"/>
              </a:spcBef>
              <a:buClr>
                <a:srgbClr val="006600"/>
              </a:buClr>
              <a:buSzPct val="7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300" spc="-1" strike="noStrike">
                <a:solidFill>
                  <a:srgbClr val="008000"/>
                </a:solidFill>
                <a:latin typeface="Arial"/>
              </a:rPr>
              <a:t>اعتمد تفسير الميزان للعلامة الطباطبائي بشكل أساس وتمت الاستفادة من تفسير الأمثل في كتاب الله المنزل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Arial"/>
              </a:rPr>
              <a:t>    في الختام نسأل الله تعالى أن يوفقنا لنشر الثقافة القرآنية في المجتمع راجين منه أحسن القبول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9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3250"/>
                            </p:stCondLst>
                            <p:childTnLst>
                              <p:par>
                                <p:cTn id="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550"/>
                            </p:stCondLst>
                            <p:childTnLst>
                              <p:par>
                                <p:cTn id="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8650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3350"/>
                            </p:stCondLst>
                            <p:childTnLst>
                              <p:par>
                                <p:cTn id="1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>
            <a:hlinkClick r:id="rId2"/>
          </p:cNvPr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477120" y="213372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33520" y="6858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4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4c0000"/>
                </a:solidFill>
                <a:latin typeface="Arial"/>
                <a:ea typeface="Arial"/>
              </a:rPr>
              <a:t> إن هذه المسابقة  مقسمة إلى ثمانية أبواب على عدد أبواب الجنة وبإمكان القارئ الدخول من الباب الذي يريده بمجرد الضغط على الباب المطلوب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>
            <a:hlinkClick r:id="rId5"/>
          </p:cNvPr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4572000" y="213372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7"/>
          </p:cNvPr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2666880" y="2133720"/>
            <a:ext cx="175284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9"/>
          </p:cNvPr>
          <p:cNvPicPr/>
          <p:nvPr/>
        </p:nvPicPr>
        <p:blipFill>
          <a:blip r:embed="rId10">
            <a:lum bright="-6000"/>
          </a:blip>
          <a:stretch/>
        </p:blipFill>
        <p:spPr>
          <a:xfrm>
            <a:off x="762120" y="213372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11"/>
          </p:cNvPr>
          <p:cNvPicPr/>
          <p:nvPr/>
        </p:nvPicPr>
        <p:blipFill>
          <a:blip r:embed="rId12">
            <a:lum bright="-6000"/>
          </a:blip>
          <a:stretch/>
        </p:blipFill>
        <p:spPr>
          <a:xfrm>
            <a:off x="6477120" y="4800600"/>
            <a:ext cx="1752480" cy="1219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13"/>
          </p:cNvPr>
          <p:cNvPicPr/>
          <p:nvPr/>
        </p:nvPicPr>
        <p:blipFill>
          <a:blip r:embed="rId14">
            <a:lum bright="-6000"/>
          </a:blip>
          <a:stretch/>
        </p:blipFill>
        <p:spPr>
          <a:xfrm>
            <a:off x="4572000" y="4800600"/>
            <a:ext cx="1752480" cy="1219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15"/>
          </p:cNvPr>
          <p:cNvPicPr/>
          <p:nvPr/>
        </p:nvPicPr>
        <p:blipFill>
          <a:blip r:embed="rId16">
            <a:lum bright="-6000"/>
          </a:blip>
          <a:stretch/>
        </p:blipFill>
        <p:spPr>
          <a:xfrm>
            <a:off x="2666880" y="4800600"/>
            <a:ext cx="1752840" cy="1219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17"/>
          </p:cNvPr>
          <p:cNvPicPr/>
          <p:nvPr/>
        </p:nvPicPr>
        <p:blipFill>
          <a:blip r:embed="rId18">
            <a:lum bright="-6000"/>
          </a:blip>
          <a:stretch/>
        </p:blipFill>
        <p:spPr>
          <a:xfrm>
            <a:off x="762120" y="4800600"/>
            <a:ext cx="1752480" cy="1219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85680" y="3429000"/>
            <a:ext cx="739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4c0000"/>
                </a:solidFill>
                <a:latin typeface="Arial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4c0000"/>
                </a:solidFill>
                <a:latin typeface="Arial"/>
                <a:ea typeface="Traditional Arabic"/>
              </a:rPr>
              <a:t> جَنَّاتُ عَدْنٍ يَدْخُلُونَهَا وَمَنْ صَلَحَ مِنْ آَبَائِهِمْ وَأَزْوَاجِهِمْ وَذُرِّيَّاتِهِمْ وَالْمَلَائِكَةُ يَدْخُلُونَ عَلَيْهِمْ مِنْ كُلِّ بَابٍ</a:t>
            </a:r>
            <a:r>
              <a:rPr b="1" lang="ar-LB" sz="2400" spc="-1" strike="noStrike">
                <a:solidFill>
                  <a:srgbClr val="4c0000"/>
                </a:solidFill>
                <a:latin typeface="Arial"/>
                <a:ea typeface="Traditional Arabic"/>
              </a:rPr>
              <a:t> ﴾  (الرعد </a:t>
            </a:r>
            <a:r>
              <a:rPr b="1" lang="ar-LB" sz="2400" spc="-1" strike="noStrike">
                <a:solidFill>
                  <a:srgbClr val="4c0000"/>
                </a:solidFill>
                <a:latin typeface="Arial"/>
                <a:ea typeface="Traditional Arabic"/>
              </a:rPr>
              <a:t>23</a:t>
            </a:r>
            <a:r>
              <a:rPr b="1" lang="ar-LB" sz="2400" spc="-1" strike="noStrike">
                <a:solidFill>
                  <a:srgbClr val="4c0000"/>
                </a:solidFill>
                <a:latin typeface="Arial"/>
                <a:ea typeface="Traditional Arabic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rot="16200000">
            <a:off x="3314520" y="1028520"/>
            <a:ext cx="457200" cy="175284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خش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1409760" y="102888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خو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rId20"/>
          </p:cNvPr>
          <p:cNvSpPr/>
          <p:nvPr/>
        </p:nvSpPr>
        <p:spPr>
          <a:xfrm rot="16200000">
            <a:off x="5219640" y="102888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ص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21"/>
          </p:cNvPr>
          <p:cNvSpPr/>
          <p:nvPr/>
        </p:nvSpPr>
        <p:spPr>
          <a:xfrm rot="16200000">
            <a:off x="7124760" y="102888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وفا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7124760" y="369576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صب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5219640" y="369576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صلا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3314520" y="3695400"/>
            <a:ext cx="457200" cy="175284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إنفا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1409760" y="369576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توب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7:47:31Z</dcterms:created>
  <dc:creator/>
  <dc:description/>
  <dc:language>en-US</dc:language>
  <cp:lastModifiedBy>HP</cp:lastModifiedBy>
  <dcterms:modified xsi:type="dcterms:W3CDTF">2008-10-17T07:21:54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