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2377-F167-42D8-8B05-28E145897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74DF-5FBA-4D0B-A80A-48A2A49D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374A-A912-4123-907A-5FAB8B5A3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AB29-28C7-460C-A5CF-006182F26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8C7A-C959-47F0-8A4E-693B8239B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1222-C8CD-4B31-95CF-73F2E35B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F78B-3508-4703-AA8E-5B8C41C7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37E0-4170-486F-9544-15D663CD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5FA7-D908-4CFE-A675-25BE3E6D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6CC5-5E13-4D18-A3E1-EA044756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7E93-2C34-468B-9377-B0523EDB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5595-0E07-4F27-A751-40F9B320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924B-C74E-4606-984A-85EFB21F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2CE4-12EA-4C06-BF79-0A603772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249D-F906-4AF1-A2E3-94E02D15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D8F6-1DF0-4215-890C-6A4F53E2C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EDDA-9391-4DB7-8BC8-0549912FB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2107-07D6-4AF9-8B5C-5D15AE80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AA8C-4E0A-42AD-A2AC-2F2245B3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CC9E-1BE9-4239-B479-BFF9BDC2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D9B3-3E1E-4B29-986F-7FB5E68E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2160-2A3E-4473-95A6-38D6A6C8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17D0-E6C9-447F-9506-4D9977AB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0ED6-A5CA-4DD5-AC84-7935F75E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014C-61BA-41A7-A059-552FB0F098E8}" type="slidenum"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F469-A4BF-4698-8602-BE2A221A9AE0}" type="slidenum"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296280" cy="5638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rot="16200000">
            <a:off x="4038480" y="-4038480"/>
            <a:ext cx="1219320" cy="92962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LB" sz="2800" spc="-1" strike="noStrike">
                <a:solidFill>
                  <a:srgbClr val="ffffff"/>
                </a:solidFill>
                <a:latin typeface="Arial"/>
                <a:cs typeface="Arial"/>
              </a:rPr>
              <a:t>باب الص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Arial"/>
              </a:rPr>
              <a:t>وَالَّذِينَ يَصِلُونَ مَا أَمَرَ اللَّهُ بِهِ أَنْ يُوصَل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60958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إضغط الماوس لبدء العرض</a:t>
            </a:r>
            <a:r>
              <a:rPr b="1" lang="ar-LB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64450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لظهور الاحتمالات إضغط الماوس بعد إنتهاء الآية             و لمعرفة الاحتمال الصحيح إضغط الماوس مرة ثا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-45720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62120" y="152388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لْمُؤْتَفِكَة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هْو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غَشَّاهَا مَا غَشَّى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0" y="3429000"/>
            <a:ext cx="1233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هْو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00600" y="3429000"/>
            <a:ext cx="1689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ح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95480" y="34290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ق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3429000"/>
            <a:ext cx="1528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د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4724280"/>
            <a:ext cx="71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بالمؤتفكة هم القرى المنقلبة عن الإيمان ،اللهُ سبحانه أسقط قراهم وخسفها إلى الأرض بقلبها وشملها وأحاط بها من العذاب ما شملها وأحاط به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419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653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838080" y="198108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بِأَيِّ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آلاء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رَبِّك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تَمَار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705720" y="3352680"/>
            <a:ext cx="1488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آلاء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05720" y="4343400"/>
            <a:ext cx="1490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تَمَار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3352680"/>
            <a:ext cx="1608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ِع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24280" y="3352680"/>
            <a:ext cx="1725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م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95480" y="3352680"/>
            <a:ext cx="1584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در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4343400"/>
            <a:ext cx="166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شك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95480" y="4343400"/>
            <a:ext cx="1608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ستهز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66680" y="4343400"/>
            <a:ext cx="1557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كذ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4343400" y="2819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9" dur="559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5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40"/>
                            </p:stCondLst>
                            <p:childTnLst>
                              <p:par>
                                <p:cTn id="5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720"/>
                            </p:stCondLst>
                            <p:childTnLst>
                              <p:par>
                                <p:cTn id="5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220"/>
                            </p:stCondLst>
                            <p:childTnLst>
                              <p:par>
                                <p:cTn id="5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720"/>
                            </p:stCondLst>
                            <p:childTnLst>
                              <p:par>
                                <p:cTn id="5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09480" y="205740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ْتُم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سَامِد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92400" y="3505320"/>
            <a:ext cx="1593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سَامِد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505320"/>
            <a:ext cx="1692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952880" y="350532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كبر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90720" y="3505320"/>
            <a:ext cx="1698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جدو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495680" y="2743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0" dur="3396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500"/>
                            </p:stCondLst>
                            <p:childTnLst>
                              <p:par>
                                <p:cTn id="5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762120" y="18288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كَذَّبُوا وَاتَّبَعُوا أَهْوَاءَهُمْ وَكُلُّ أَمْر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سْتَقِرٌّ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3581280"/>
            <a:ext cx="12254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سْتَقِرّ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29200" y="3581280"/>
            <a:ext cx="1465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اب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581280"/>
            <a:ext cx="1486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3581280"/>
            <a:ext cx="1533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هو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62120" y="44956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عنى أنهم كذَّبوا الحقَّ ومعجزاته واتبَّعوا رغباتهم ، والمراد أن كل الأمور والأعمال ثابتة وكل عمل وأمر سيذهب إلى مستقره ويُعلم إذا كان حقٌ أو باطل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4" dur="10449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000"/>
                            </p:stCondLst>
                            <p:childTnLst>
                              <p:par>
                                <p:cTn id="65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40"/>
                            </p:stCondLst>
                            <p:childTnLst>
                              <p:par>
                                <p:cTn id="6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609480" y="21337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َقَدْ جَاءَهُمْ مِنَ الْأَنْبَاءِ مَا فِيهِ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زْدَجَر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81680" y="3657600"/>
            <a:ext cx="1262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زْدَجَر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48120" y="36576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ع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3657600"/>
            <a:ext cx="1546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كم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3657600"/>
            <a:ext cx="155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مر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8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1" dur="9405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000"/>
                            </p:stCondLst>
                            <p:childTnLst>
                              <p:par>
                                <p:cTn id="7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85800" y="19810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حَمَلْنَاهُ عَلَى ذَاتِ أَلْوَاحٍ و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َدُسُر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05720" y="3581280"/>
            <a:ext cx="1479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َدُسُر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952880" y="3581280"/>
            <a:ext cx="1460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ام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3581280"/>
            <a:ext cx="1536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وامي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3581280"/>
            <a:ext cx="1593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يط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7" dur="5382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000"/>
                            </p:stCondLst>
                            <p:childTnLst>
                              <p:par>
                                <p:cTn id="7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500"/>
                            </p:stCondLst>
                            <p:childTnLst>
                              <p:par>
                                <p:cTn id="7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685800" y="2057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َنْزِعُ النَّاسَ كَأَنَّهُمْ أَعْجَازُ نَخْل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نْقَعِر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0" y="3581280"/>
            <a:ext cx="1328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نْقَعِر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95480" y="3581280"/>
            <a:ext cx="1685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لو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3581280"/>
            <a:ext cx="1587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س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3581280"/>
            <a:ext cx="1654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جذ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1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3" dur="7889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8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2000"/>
                            </p:stCondLst>
                            <p:childTnLst>
                              <p:par>
                                <p:cTn id="783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796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7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8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01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2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3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85800" y="20574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أُلْقِيَ الذِّكْرُ عَلَيْهِ مِنْ بَيْنِنَا بَلْ هُوَ كَذَّابٌ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أَشِر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3505320"/>
            <a:ext cx="1359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شِر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800600" y="3505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كَّبر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7180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حتال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66680" y="3505320"/>
            <a:ext cx="1625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ن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6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8" dur="7210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500"/>
                            </p:stCondLst>
                            <p:childTnLst>
                              <p:par>
                                <p:cTn id="8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914400" y="121932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نَبِّئْهُمْ أَنَّ الْمَاءَ قِسْمَةٌ بَيْنَهُمْ كُلُّ شِرْب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حْتَضَر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400800" y="2743200"/>
            <a:ext cx="166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حْتَضَر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05120" y="4267080"/>
            <a:ext cx="39765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حضره أهله لا يحضر سوا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05120" y="2743200"/>
            <a:ext cx="3943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أتي شربهم لعند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05120" y="3505320"/>
            <a:ext cx="3965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وزع بالتساوي لكل النا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3352680" y="2362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62120" y="50292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راد أن الماء قسمةٌ بينهم وبين الناقة وكل قوم لهم حصتهم ونصيبهم من الماء ولا يحق لأحد آخر الحضور والشرب منها وكلٌ يذهب حيث نصيبه من الشرب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0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5" dur="11390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500"/>
                            </p:stCondLst>
                            <p:childTnLst>
                              <p:par>
                                <p:cTn id="8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1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500"/>
                            </p:stCondLst>
                            <p:childTnLst>
                              <p:par>
                                <p:cTn id="8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8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4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9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1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4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685800" y="17524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ا أَرْسَلْنَا عَلَيْهِمْ صَيْحَةً وَاحِدَةً فَكَانُوا كَهَشِيمِ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حْتَظِر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68440" y="3505320"/>
            <a:ext cx="1616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حْتَظِر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62120" y="3505320"/>
            <a:ext cx="20574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احب الحظ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05520" y="3505320"/>
            <a:ext cx="1763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احب الغن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71800" y="3505320"/>
            <a:ext cx="19810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علف الياب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38080" y="458784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عنى أنهم أصبحوا بعد الصيحة كالشجرالمتكسر والنبات اليابس ونحوه مما يجمعه صاحب الحظيرة لماشيت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0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8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0" dur="11390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5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6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600"/>
                            </p:stCondLst>
                            <p:childTnLst>
                              <p:par>
                                <p:cTn id="9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1600"/>
                            </p:stCondLst>
                            <p:childTnLst>
                              <p:par>
                                <p:cTn id="9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100"/>
                            </p:stCondLst>
                            <p:childTnLst>
                              <p:par>
                                <p:cTn id="9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1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2600"/>
                            </p:stCondLst>
                            <p:childTnLst>
                              <p:par>
                                <p:cTn id="9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3520" y="1752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مْ تَسْأَلُهُمْ أَجْراً فَهُمْ مِن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غْرَم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ُثْقَل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طو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0" y="3505320"/>
            <a:ext cx="1268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غْرَم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505320"/>
            <a:ext cx="1656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3505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3505320"/>
            <a:ext cx="1654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ع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7576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609480" y="2057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 مَقْعَدِ صِدْقٍ عِنْدَ مَلِيك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قْتَدِر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934320" y="3657600"/>
            <a:ext cx="1385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قْتَدِر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657600"/>
            <a:ext cx="16034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يم القد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800600" y="3657600"/>
            <a:ext cx="1763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يم العف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3040" y="3657600"/>
            <a:ext cx="2183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اسع المغف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0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7" dur="6165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2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3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4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480"/>
                            </p:stCondLst>
                            <p:childTnLst>
                              <p:par>
                                <p:cTn id="9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8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8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8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8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8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480"/>
                            </p:stCondLst>
                            <p:childTnLst>
                              <p:par>
                                <p:cTn id="9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980"/>
                            </p:stCondLst>
                            <p:childTnLst>
                              <p:par>
                                <p:cTn id="9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6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8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1" dur="1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6" dur="1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457200" y="2057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شَّمْسُ وَالْقَمَرُ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ِحُسْبَان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95480" y="3733920"/>
            <a:ext cx="1755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حسا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934320" y="3733920"/>
            <a:ext cx="1363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ِحُسْبَان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29200" y="3733920"/>
            <a:ext cx="1616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ميز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38080" y="373392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السم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0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0" dur="4075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500"/>
                            </p:stCondLst>
                            <p:childTnLst>
                              <p:par>
                                <p:cTn id="10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5335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هَا فَاكِهَةٌ وَالنَّخْلُ ذَاتُ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أَكْمَا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902280" y="3505320"/>
            <a:ext cx="1403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أَكْمَام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876920" y="350532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وعية الثم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95480" y="350532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مار البل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43680" y="3505320"/>
            <a:ext cx="230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اوراق الكب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8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0" dur="6270" fill="hold"/>
                                        <p:tgtEl>
                                          <p:spTgt spid="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0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1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2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940"/>
                            </p:stCondLst>
                            <p:childTnLst>
                              <p:par>
                                <p:cTn id="10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8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7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8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1940"/>
                            </p:stCondLst>
                            <p:childTnLst>
                              <p:par>
                                <p:cTn id="10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0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2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5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1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1066680" y="167652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لْحَبُّ ذُو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الْعَصْف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الرَّيْحَان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934320" y="3276720"/>
            <a:ext cx="13348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عَصْف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895480" y="3276720"/>
            <a:ext cx="1710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ش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52880" y="3276720"/>
            <a:ext cx="1733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نوا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90720" y="327672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لو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33720" y="4572000"/>
            <a:ext cx="42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ما هو كغلاف للحب وهو قشر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0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8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0" dur="3919" fill="hold"/>
                                        <p:tgtEl>
                                          <p:spTgt spid="3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9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147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8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9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152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3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4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320"/>
                            </p:stCondLst>
                            <p:childTnLst>
                              <p:par>
                                <p:cTn id="1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533520" y="20574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خَلَقَ الْجَانَّ مِن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ارِج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ِنْ نَار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0" y="3809880"/>
            <a:ext cx="136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ارِج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952880" y="3809880"/>
            <a:ext cx="16448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هب خال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71800" y="3809880"/>
            <a:ext cx="1751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ليط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43000" y="3809880"/>
            <a:ext cx="1652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لصا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0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6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8" dur="8830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9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0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1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1320"/>
                            </p:stCondLst>
                            <p:childTnLst>
                              <p:par>
                                <p:cTn id="1183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8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6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8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8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8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8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2320"/>
                            </p:stCondLst>
                            <p:childTnLst>
                              <p:par>
                                <p:cTn id="120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09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0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1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14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5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6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19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0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1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60948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رَج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الْبَحْرَيْنِ يَلْتَقِي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3657600"/>
            <a:ext cx="1436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رَج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666880" y="3657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لي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0" y="3657600"/>
            <a:ext cx="1630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اط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3657600"/>
            <a:ext cx="148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متدا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0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1" dur="1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3" dur="4075" fill="hold"/>
                                        <p:tgtEl>
                                          <p:spTgt spid="3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457200" y="14479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يْنَهُمَ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َرْزَخٌ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بْغِي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934320" y="3048120"/>
            <a:ext cx="1328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َرْزَخ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934320" y="39625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بْغِيَا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71800" y="3048120"/>
            <a:ext cx="1628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اج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952880" y="3048120"/>
            <a:ext cx="1704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ب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90720" y="30481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ر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952880" y="3962520"/>
            <a:ext cx="1692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عديا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971800" y="3962520"/>
            <a:ext cx="1631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ظلم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90720" y="39625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فترق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5800" y="4648320"/>
            <a:ext cx="755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أنه بينهما حاجز يمنع كل منهما من التعدي على الأخر لا البحر المالح يتعدى على البحر العذب فيغشيه ويبدله مالحاً وتبطل بذلك الحياة  ، ويحجز البحرالعذب أن يزيد في الإنصباب على البحر المالح فيبدله ماءً عذب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فتبطل بذلك مصلحة ملوحته من تطهير الهواء وغيره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4648320" y="228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0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5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7" dur="4494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8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0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3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5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8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0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3" dur="1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6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7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8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2320"/>
                            </p:stCondLst>
                            <p:childTnLst>
                              <p:par>
                                <p:cTn id="13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2820"/>
                            </p:stCondLst>
                            <p:childTnLst>
                              <p:par>
                                <p:cTn id="13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3320"/>
                            </p:stCondLst>
                            <p:childTnLst>
                              <p:par>
                                <p:cTn id="13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609480" y="198108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َهُ الْجَوَارِ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نْشَآت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ِي الْبَحْرِ كَالْأَعْلا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825600" y="3581280"/>
            <a:ext cx="1657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نْشَآتُ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90720" y="3581280"/>
            <a:ext cx="17730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صنوع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358128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بير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8120" y="3581280"/>
            <a:ext cx="17524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رفوع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fill="hold">
                      <p:stCondLst>
                        <p:cond delay="0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6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8" dur="6636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500"/>
                            </p:stCondLst>
                            <p:childTnLst>
                              <p:par>
                                <p:cTn id="13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6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9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1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4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9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609480" y="22096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يُرْسَلُ عَلَيْكُمَ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شُوَاظٌ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ِنْ نَارٍ وَنُحَاسٌ فَلا تَنْتَصِر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010280" y="4038480"/>
            <a:ext cx="1241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شُوَاظ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952880" y="4038480"/>
            <a:ext cx="1727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هب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819520" y="40384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خان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38080" y="4038480"/>
            <a:ext cx="1633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مم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fill="hold">
                      <p:stCondLst>
                        <p:cond delay="0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2" dur="10502" fill="hold"/>
                                        <p:tgtEl>
                                          <p:spTgt spid="3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2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fill="hold">
                            <p:stCondLst>
                              <p:cond delay="500"/>
                            </p:stCondLst>
                            <p:childTnLst>
                              <p:par>
                                <p:cTn id="1469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0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2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5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6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838080" y="17524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إِذَا انْشَقَّتِ السَّمَاءُ فَكَانَتْ وَرْدَةً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كَالدِّه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797880" y="3505320"/>
            <a:ext cx="1506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كَالدِّهَا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05520" y="3505320"/>
            <a:ext cx="1546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أد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3505320"/>
            <a:ext cx="1633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سوا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143000" y="3505320"/>
            <a:ext cx="1598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دخ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425600" y="4572000"/>
            <a:ext cx="64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دهان المراد به الأديم الأحمر وهو الجلد المصبو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0" dur="indefinite" restart="never" nodeType="tmRoot">
          <p:childTnLst>
            <p:seq>
              <p:cTn id="1481" dur="indefinite" nodeType="mainSeq">
                <p:childTnLst>
                  <p:par>
                    <p:cTn id="1482" fill="hold">
                      <p:stCondLst>
                        <p:cond delay="0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8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0" dur="8830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500"/>
                            </p:stCondLst>
                            <p:childTnLst>
                              <p:par>
                                <p:cTn id="14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0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8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5800" y="18288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ْ هُوَ إِلَّا وَحْيٌ يُوحَى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َلَّمَهُ شَدِيدُ الْقُو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ذُو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ِرَّةٍ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اسْتَو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34320" y="3505320"/>
            <a:ext cx="1260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ِرَّة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76920" y="3505320"/>
            <a:ext cx="18079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ةٍ وحصافة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84160" y="3505320"/>
            <a:ext cx="2062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عفٍ وخوف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3505320"/>
            <a:ext cx="1755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زنٍ وألم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4495680"/>
            <a:ext cx="740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راد بذو مرة جبريل (ع) والمعنى أنه ذوشدَّة في جنب الله وهو ذو حصافة في رأيه وعقل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419720" y="1295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1338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380880" y="17524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يُعْرَفُ الْمُجْرِمُونَ بِسِيمَاهُمْ فَيُؤْخَذُ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ِالنَّوَاصِي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الْأَقْدَا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670440" y="3581280"/>
            <a:ext cx="1680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ِالنَّوَاصِي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800600" y="3581280"/>
            <a:ext cx="1871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وج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315160" y="3581280"/>
            <a:ext cx="2754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عر مقدم الرأ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38080" y="358128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اطرا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29718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4" dur="indefinite" restart="never" nodeType="tmRoot">
          <p:childTnLst>
            <p:seq>
              <p:cTn id="1525" dur="indefinite" nodeType="mainSeq">
                <p:childTnLst>
                  <p:par>
                    <p:cTn id="1526" fill="hold">
                      <p:stCondLst>
                        <p:cond delay="0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0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2" dur="8464" fill="hold"/>
                                        <p:tgtEl>
                                          <p:spTgt spid="3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3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4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5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1240"/>
                            </p:stCondLst>
                            <p:childTnLst>
                              <p:par>
                                <p:cTn id="15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1740"/>
                            </p:stCondLst>
                            <p:childTnLst>
                              <p:par>
                                <p:cTn id="15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58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9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0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63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4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5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762120" y="1506600"/>
            <a:ext cx="7467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ِمَنْ خَافَ مَقَامَ رَبِّهِ جَنَّت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بِأَيِّ آَلَاءِ رَبِّكُمَا تُكَذِّب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ذَوَاتَ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فْنَان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6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7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934320" y="342900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فْنَان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90720" y="3429000"/>
            <a:ext cx="1612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نوا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029200" y="3429000"/>
            <a:ext cx="1577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م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71800" y="3429000"/>
            <a:ext cx="1728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نغا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4419720" y="2666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7" dur="indefinite" restart="never" nodeType="tmRoot">
          <p:childTnLst>
            <p:seq>
              <p:cTn id="1568" dur="indefinite" nodeType="mainSeq">
                <p:childTnLst>
                  <p:par>
                    <p:cTn id="1569" fill="hold">
                      <p:stCondLst>
                        <p:cond delay="0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3" dur="8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4" dur="8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8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8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1" dur="8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2" dur="8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8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8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8" dur="16405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1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2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3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700"/>
                            </p:stCondLst>
                            <p:childTnLst>
                              <p:par>
                                <p:cTn id="160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6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fill="hold">
                            <p:stCondLst>
                              <p:cond delay="1200"/>
                            </p:stCondLst>
                            <p:childTnLst>
                              <p:par>
                                <p:cTn id="16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25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6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7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30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1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2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35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6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7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33520" y="13716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هِنّ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قَاصِرَاتُ الطَّرْف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َم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طْمِثْهُنّ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ْسٌ قَبْلَهُمْ وَلا جَانّ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781600" y="2743200"/>
            <a:ext cx="2750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قَاصِرَاتُ الطَّرْف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19920" y="5181480"/>
            <a:ext cx="2305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طْمِثْهُنّ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565360" y="5181480"/>
            <a:ext cx="1508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فضضهن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8480" y="51814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أخذهن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51814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لمسهن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43000" y="3505320"/>
            <a:ext cx="4280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ساء لا يردن غير أزواجهن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143000" y="4316400"/>
            <a:ext cx="4297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ساء جميل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3000" y="2743200"/>
            <a:ext cx="4303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ور من الج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9" dur="indefinite" restart="never" nodeType="tmRoot">
          <p:childTnLst>
            <p:seq>
              <p:cTn id="1640" dur="indefinite" nodeType="mainSeq">
                <p:childTnLst>
                  <p:par>
                    <p:cTn id="1641" fill="hold">
                      <p:stCondLst>
                        <p:cond delay="0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7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9" dur="13009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fill="hold">
                            <p:stCondLst>
                              <p:cond delay="500"/>
                            </p:stCondLst>
                            <p:childTnLst>
                              <p:par>
                                <p:cTn id="165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0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6" nodeType="after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85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6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7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90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1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2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95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6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7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fill="hold">
                            <p:stCondLst>
                              <p:cond delay="440"/>
                            </p:stCondLst>
                            <p:childTnLst>
                              <p:par>
                                <p:cTn id="17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04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1440"/>
                            </p:stCondLst>
                            <p:childTnLst>
                              <p:par>
                                <p:cTn id="17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1940"/>
                            </p:stCondLst>
                            <p:childTnLst>
                              <p:par>
                                <p:cTn id="17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8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2440"/>
                            </p:stCondLst>
                            <p:childTnLst>
                              <p:par>
                                <p:cTn id="17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2940"/>
                            </p:stCondLst>
                            <p:childTnLst>
                              <p:par>
                                <p:cTn id="1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838080" y="127800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مِنْ دُونِهِمَا جَنَّت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بِأَيِّ آَلَاءِ رَبِّكُمَا تُكَذِّب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دْهَامَّت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400800" y="2971800"/>
            <a:ext cx="1616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دْهَامَّتَا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47920" y="3886200"/>
            <a:ext cx="4265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يدتا الخضرة المائلة للسوا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47920" y="3021120"/>
            <a:ext cx="4267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سعهما على مد النظ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447920" y="4800600"/>
            <a:ext cx="4297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ونهما أخضر من الر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2209680" y="1981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8" dur="indefinite" restart="never" nodeType="tmRoot">
          <p:childTnLst>
            <p:seq>
              <p:cTn id="1739" dur="indefinite" nodeType="mainSeq">
                <p:childTnLst>
                  <p:par>
                    <p:cTn id="1740" fill="hold">
                      <p:stCondLst>
                        <p:cond delay="0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6" dur="15465" fill="hold"/>
                                        <p:tgtEl>
                                          <p:spTgt spid="4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fill="hold">
                            <p:stCondLst>
                              <p:cond delay="500"/>
                            </p:stCondLst>
                            <p:childTnLst>
                              <p:par>
                                <p:cTn id="17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0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4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6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9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1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4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6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609480" y="16765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هِمَا عَيْنَانِ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نَضَّاخَت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05720" y="3505320"/>
            <a:ext cx="1458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نَضَّاخَتَا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895480" y="3505320"/>
            <a:ext cx="1533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وارت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800600" y="3505320"/>
            <a:ext cx="1555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 تجف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914400" y="3505320"/>
            <a:ext cx="1573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روي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3"/>
          <a:stretch/>
        </p:blipFill>
        <p:spPr>
          <a:xfrm>
            <a:off x="1371600" y="1905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8" dur="indefinite" restart="never" nodeType="tmRoot">
          <p:childTnLst>
            <p:seq>
              <p:cTn id="1789" dur="indefinite" nodeType="mainSeq">
                <p:childTnLst>
                  <p:par>
                    <p:cTn id="1790" fill="hold">
                      <p:stCondLst>
                        <p:cond delay="0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7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9" dur="4285" fill="hold"/>
                                        <p:tgtEl>
                                          <p:spTgt spid="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5" fill="hold">
                            <p:stCondLst>
                              <p:cond delay="500"/>
                            </p:stCondLst>
                            <p:childTnLst>
                              <p:par>
                                <p:cTn id="18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3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2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2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9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609480" y="17524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حُورٌ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قْصُورَاتٌ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 الْخِيَا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496920" y="3429000"/>
            <a:ext cx="1844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قْصُورَات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648320" y="3429000"/>
            <a:ext cx="1896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صون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666880" y="342900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رم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3429000"/>
            <a:ext cx="189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صير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3" dur="indefinite" restart="never" nodeType="tmRoot">
          <p:childTnLst>
            <p:seq>
              <p:cTn id="1844" dur="indefinite" nodeType="mainSeq">
                <p:childTnLst>
                  <p:par>
                    <p:cTn id="1845" fill="hold">
                      <p:stCondLst>
                        <p:cond delay="0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9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1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3" dur="5382" fill="hold"/>
                                        <p:tgtEl>
                                          <p:spTgt spid="4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500"/>
                            </p:stCondLst>
                            <p:childTnLst>
                              <p:par>
                                <p:cTn id="1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1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4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8" dur="10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10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0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3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5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8" dur="1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1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0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609480" y="16765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ُتَّكِئِينَ عَلَى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رَفْرَف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خُضْر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عَبْقَرِيٍّ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حِسَان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828480" y="4267080"/>
            <a:ext cx="1524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عَبْقَرِيّ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71800" y="4267080"/>
            <a:ext cx="1785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در الوجو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890600" y="4267080"/>
            <a:ext cx="1861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وب موش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914400" y="4267080"/>
            <a:ext cx="1828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ُسطٍ  ملو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934320" y="3429000"/>
            <a:ext cx="1265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رَفْرَف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914400" y="3429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ُس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342900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اع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971800" y="3429000"/>
            <a:ext cx="1819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بق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1143000" y="51814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أن كل ما ندر وجوده ولا يمكن وصفه والتعبير عنه يقال له عبقري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02" dur="indefinite" restart="never" nodeType="tmRoot">
          <p:childTnLst>
            <p:seq>
              <p:cTn id="1903" dur="indefinite" nodeType="mainSeq">
                <p:childTnLst>
                  <p:par>
                    <p:cTn id="1904" fill="hold">
                      <p:stCondLst>
                        <p:cond delay="0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0" dur="7889" fill="hold"/>
                                        <p:tgtEl>
                                          <p:spTgt spid="4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5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7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3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500"/>
                            </p:stCondLst>
                            <p:childTnLst>
                              <p:par>
                                <p:cTn id="19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56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609480" y="1600200"/>
            <a:ext cx="7467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ذَا رُجَّتِ الْأَرْضُ رَجًّا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بُسَّتِ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ْجِبَالُ بَسّ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0" y="3505320"/>
            <a:ext cx="1303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بُسَّت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895480" y="3505320"/>
            <a:ext cx="1698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فتَّ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952880" y="3505320"/>
            <a:ext cx="1646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دار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14400" y="3505320"/>
            <a:ext cx="1657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أخذ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3"/>
          <a:stretch/>
        </p:blipFill>
        <p:spPr>
          <a:xfrm>
            <a:off x="2819520" y="2057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7" dur="indefinite" restart="never" nodeType="tmRoot">
          <p:childTnLst>
            <p:seq>
              <p:cTn id="1968" dur="indefinite" nodeType="mainSeq">
                <p:childTnLst>
                  <p:par>
                    <p:cTn id="1969" fill="hold">
                      <p:stCondLst>
                        <p:cond delay="0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3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6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9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2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4" dur="7001" fill="hold"/>
                                        <p:tgtEl>
                                          <p:spTgt spid="4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9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95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685800" y="1981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كَانَت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هَبَاءً مُنْبَثّ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781680" y="3276720"/>
            <a:ext cx="1322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هَبَاءً 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781680" y="4191120"/>
            <a:ext cx="1330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نْبَثّاً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066680" y="3276720"/>
            <a:ext cx="1633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با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971800" y="4191120"/>
            <a:ext cx="1644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تم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876920" y="3276720"/>
            <a:ext cx="1547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ابا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971800" y="3276720"/>
            <a:ext cx="1623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درا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066680" y="4191120"/>
            <a:ext cx="163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قل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876920" y="4191120"/>
            <a:ext cx="1552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تش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3"/>
          <a:stretch/>
        </p:blipFill>
        <p:spPr>
          <a:xfrm>
            <a:off x="4267080" y="2895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1" dur="indefinite" restart="never" nodeType="tmRoot">
          <p:childTnLst>
            <p:seq>
              <p:cTn id="2012" dur="indefinite" nodeType="mainSeq">
                <p:childTnLst>
                  <p:par>
                    <p:cTn id="2013" fill="hold">
                      <p:stCondLst>
                        <p:cond delay="0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9" dur="5956" fill="hold"/>
                                        <p:tgtEl>
                                          <p:spTgt spid="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26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4" dur="1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1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6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9" dur="10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1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5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76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7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8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81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2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3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685800" y="1981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َلَى سُرُر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وْضُونَة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858000" y="3657600"/>
            <a:ext cx="14367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َوْضُونَة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952880" y="3657600"/>
            <a:ext cx="154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سوج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048120" y="3657600"/>
            <a:ext cx="1639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ت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219320" y="36576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زي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5" dur="indefinite" restart="never" nodeType="tmRoot">
          <p:childTnLst>
            <p:seq>
              <p:cTn id="2086" dur="indefinite" nodeType="mainSeq">
                <p:childTnLst>
                  <p:par>
                    <p:cTn id="2087" fill="hold">
                      <p:stCondLst>
                        <p:cond delay="0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1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3" dur="3658" fill="hold"/>
                                        <p:tgtEl>
                                          <p:spTgt spid="4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3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6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0" dur="8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1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85800" y="1905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فَتُمَارُونَهُ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َلَى مَا يَر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85760" y="3505320"/>
            <a:ext cx="1701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فَتُمَارُونَهُ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3505320"/>
            <a:ext cx="1649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تجادلون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3505320"/>
            <a:ext cx="1674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تكذبون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3505320"/>
            <a:ext cx="1616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تصدقون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4285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533520" y="1523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ُصَدَّعُو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نْهَا وَل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ُنْزِف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759000" y="3200400"/>
            <a:ext cx="1626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ُصَدَّع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4114800"/>
            <a:ext cx="1403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ُنْزِف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2120" y="3200400"/>
            <a:ext cx="19810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صيبهم صدا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876920" y="320040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خل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895480" y="3200400"/>
            <a:ext cx="1822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فترق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876920" y="4114800"/>
            <a:ext cx="1855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ذهب عقول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819520" y="411480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ُصيبهم أل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62120" y="4114800"/>
            <a:ext cx="1927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نت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3"/>
          <a:stretch/>
        </p:blipFill>
        <p:spPr>
          <a:xfrm>
            <a:off x="4191120" y="2362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4" dur="indefinite" restart="never" nodeType="tmRoot">
          <p:childTnLst>
            <p:seq>
              <p:cTn id="2135" dur="indefinite" nodeType="mainSeq">
                <p:childTnLst>
                  <p:par>
                    <p:cTn id="2136" fill="hold">
                      <p:stCondLst>
                        <p:cond delay="0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0" dur="1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1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2" dur="1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4" dur="5956" fill="hold"/>
                                        <p:tgtEl>
                                          <p:spTgt spid="4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9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0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1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2" fill="hold">
                            <p:stCondLst>
                              <p:cond delay="560"/>
                            </p:stCondLst>
                            <p:childTnLst>
                              <p:par>
                                <p:cTn id="2153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5" dur="8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6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1" fill="hold">
                            <p:stCondLst>
                              <p:cond delay="1560"/>
                            </p:stCondLst>
                            <p:childTnLst>
                              <p:par>
                                <p:cTn id="216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8" fill="hold">
                            <p:stCondLst>
                              <p:cond delay="2060"/>
                            </p:stCondLst>
                            <p:childTnLst>
                              <p:par>
                                <p:cTn id="2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76" dur="8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7" dur="8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8" dur="8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81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2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3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5" fill="hold">
                            <p:stCondLst>
                              <p:cond delay="320"/>
                            </p:stCondLst>
                            <p:childTnLst>
                              <p:par>
                                <p:cTn id="21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2" fill="hold">
                            <p:stCondLst>
                              <p:cond delay="820"/>
                            </p:stCondLst>
                            <p:childTnLst>
                              <p:par>
                                <p:cTn id="21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7" fill="hold">
                            <p:stCondLst>
                              <p:cond delay="1320"/>
                            </p:stCondLst>
                            <p:childTnLst>
                              <p:par>
                                <p:cTn id="219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4" fill="hold">
                            <p:stCondLst>
                              <p:cond delay="1820"/>
                            </p:stCondLst>
                            <p:childTnLst>
                              <p:par>
                                <p:cTn id="22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7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9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3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5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8" dur="1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9" dur="1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0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68580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 سِدْر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خْضُود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53320" y="3276720"/>
            <a:ext cx="1457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خْضُود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895480" y="3276720"/>
            <a:ext cx="1859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طوع الشو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3276720"/>
            <a:ext cx="1643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ثير الور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914400" y="3276720"/>
            <a:ext cx="17971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وكه صغ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4419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2" dur="indefinite" restart="never" nodeType="tmRoot">
          <p:childTnLst>
            <p:seq>
              <p:cTn id="2223" dur="indefinite" nodeType="mainSeq">
                <p:childTnLst>
                  <p:par>
                    <p:cTn id="2224" fill="hold">
                      <p:stCondLst>
                        <p:cond delay="0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0" dur="3553" fill="hold"/>
                                        <p:tgtEl>
                                          <p:spTgt spid="5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23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3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5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6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8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261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2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3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266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7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8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271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2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3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53352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طَلْحٍ مَنْضُود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934320" y="3352680"/>
            <a:ext cx="1239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طَلْحٍ 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863400" y="4191120"/>
            <a:ext cx="1335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نْضُود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971800" y="3352680"/>
            <a:ext cx="1727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و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952880" y="3352680"/>
            <a:ext cx="1673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ل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066680" y="33526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ن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066680" y="4191120"/>
            <a:ext cx="1685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ت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952880" y="4191120"/>
            <a:ext cx="1687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971800" y="4191120"/>
            <a:ext cx="1747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و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4038480" y="2057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5" dur="indefinite" restart="never" nodeType="tmRoot">
          <p:childTnLst>
            <p:seq>
              <p:cTn id="2276" dur="indefinite" nodeType="mainSeq">
                <p:childTnLst>
                  <p:par>
                    <p:cTn id="2277" fill="hold">
                      <p:stCondLst>
                        <p:cond delay="0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2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3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5" dur="4128" fill="hold"/>
                                        <p:tgtEl>
                                          <p:spTgt spid="5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fill="hold">
                      <p:stCondLst>
                        <p:cond delay="indefinite"/>
                      </p:stCondLst>
                      <p:childTnLst>
                        <p:par>
                          <p:cTn id="2287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92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fill="hold">
                      <p:stCondLst>
                        <p:cond delay="indefinite"/>
                      </p:stCondLst>
                      <p:childTnLst>
                        <p:par>
                          <p:cTn id="2308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3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1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7" fill="hold">
                            <p:stCondLst>
                              <p:cond delay="500"/>
                            </p:stCondLst>
                            <p:childTnLst>
                              <p:par>
                                <p:cTn id="23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60948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عُرُباً أَتْرَاب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010280" y="3352680"/>
            <a:ext cx="1224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عُرُباً 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010280" y="4267080"/>
            <a:ext cx="1193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تْرَاباً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510640" y="4267080"/>
            <a:ext cx="2520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ويات بالس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819520" y="335268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غنج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105520" y="3352680"/>
            <a:ext cx="1676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هل الباد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38080" y="3352680"/>
            <a:ext cx="1687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ميل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105520" y="426708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 يكبر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838080" y="42670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جول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3"/>
          <a:stretch/>
        </p:blipFill>
        <p:spPr>
          <a:xfrm>
            <a:off x="419112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9" dur="indefinite" restart="never" nodeType="tmRoot">
          <p:childTnLst>
            <p:seq>
              <p:cTn id="2340" dur="indefinite" nodeType="mainSeq">
                <p:childTnLst>
                  <p:par>
                    <p:cTn id="2341" fill="hold">
                      <p:stCondLst>
                        <p:cond delay="0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5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7" dur="3031" fill="hold"/>
                                        <p:tgtEl>
                                          <p:spTgt spid="5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8" fill="hold">
                      <p:stCondLst>
                        <p:cond delay="indefinite"/>
                      </p:stCondLst>
                      <p:childTnLst>
                        <p:par>
                          <p:cTn id="2349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3" fill="hold">
                            <p:stCondLst>
                              <p:cond delay="500"/>
                            </p:stCondLst>
                            <p:childTnLst>
                              <p:par>
                                <p:cTn id="23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6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8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1" dur="10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2" dur="10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3" dur="1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88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7" fill="hold">
                      <p:stCondLst>
                        <p:cond delay="indefinite"/>
                      </p:stCondLst>
                      <p:childTnLst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10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1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2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15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6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7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304920" y="19810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ظِلٍّ مِن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حْمُوم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0" y="3429000"/>
            <a:ext cx="1386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حْمُوم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743200" y="34290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خان اسو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876920" y="3429000"/>
            <a:ext cx="1765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ء مغل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56920" y="3429000"/>
            <a:ext cx="2137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يد الحرا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9" dur="indefinite" restart="never" nodeType="tmRoot">
          <p:childTnLst>
            <p:seq>
              <p:cTn id="2420" dur="indefinite" nodeType="mainSeq">
                <p:childTnLst>
                  <p:par>
                    <p:cTn id="2421" fill="hold">
                      <p:stCondLst>
                        <p:cond delay="0"/>
                      </p:stCondLst>
                      <p:childTnLst>
                        <p:par>
                          <p:cTn id="2422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27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9" dur="4337" fill="hold"/>
                                        <p:tgtEl>
                                          <p:spTgt spid="5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0" fill="hold">
                      <p:stCondLst>
                        <p:cond delay="indefinite"/>
                      </p:stCondLst>
                      <p:childTnLst>
                        <p:par>
                          <p:cTn id="2431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5" fill="hold">
                            <p:stCondLst>
                              <p:cond delay="500"/>
                            </p:stCondLst>
                            <p:childTnLst>
                              <p:par>
                                <p:cTn id="243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3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4" fill="hold">
                      <p:stCondLst>
                        <p:cond delay="indefinite"/>
                      </p:stCondLst>
                      <p:childTnLst>
                        <p:par>
                          <p:cTn id="2455" fill="hold">
                            <p:stCondLst>
                              <p:cond delay="0"/>
                            </p:stCondLst>
                            <p:childTnLst>
                              <p:par>
                                <p:cTn id="245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7" dur="1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1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5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2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3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4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7" dur="10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8" dur="10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9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68580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كَانُوا يُصِرُّونَ عَلَى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حِنْثِ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ْعَظِي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934320" y="320040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حِنْث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952880" y="3200400"/>
            <a:ext cx="16383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قض العه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971800" y="3200400"/>
            <a:ext cx="1671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ذن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990720" y="3200400"/>
            <a:ext cx="1660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ف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3"/>
          <a:stretch/>
        </p:blipFill>
        <p:spPr>
          <a:xfrm>
            <a:off x="403848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1" dur="indefinite" restart="never" nodeType="tmRoot">
          <p:childTnLst>
            <p:seq>
              <p:cTn id="2472" dur="indefinite" nodeType="mainSeq">
                <p:childTnLst>
                  <p:par>
                    <p:cTn id="2473" fill="hold">
                      <p:stCondLst>
                        <p:cond delay="0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7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8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9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1" dur="6583" fill="hold"/>
                                        <p:tgtEl>
                                          <p:spTgt spid="5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2" fill="hold">
                      <p:stCondLst>
                        <p:cond delay="indefinite"/>
                      </p:stCondLst>
                      <p:childTnLst>
                        <p:par>
                          <p:cTn id="2483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6" dur="8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7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8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9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3" dur="10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4" dur="10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15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8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9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0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3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4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5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68580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َآكِلُونَ مِنْ شَجَرٍ مِن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زَقُّوم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629400" y="3505320"/>
            <a:ext cx="1619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زَقُّوم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600200" y="5029200"/>
            <a:ext cx="3944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 وكريه الرائح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600200" y="4267080"/>
            <a:ext cx="3916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حرق البط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600200" y="3505320"/>
            <a:ext cx="3924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جارة وحم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7" dur="indefinite" restart="never" nodeType="tmRoot">
          <p:childTnLst>
            <p:seq>
              <p:cTn id="2528" dur="indefinite" nodeType="mainSeq">
                <p:childTnLst>
                  <p:par>
                    <p:cTn id="2529" fill="hold">
                      <p:stCondLst>
                        <p:cond delay="0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3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35" dur="6949" fill="hold"/>
                                        <p:tgtEl>
                                          <p:spTgt spid="5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6" fill="hold">
                      <p:stCondLst>
                        <p:cond delay="indefinite"/>
                      </p:stCondLst>
                      <p:childTnLst>
                        <p:par>
                          <p:cTn id="2537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1" fill="hold">
                            <p:stCondLst>
                              <p:cond delay="500"/>
                            </p:stCondLst>
                            <p:childTnLst>
                              <p:par>
                                <p:cTn id="25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7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8" fill="hold">
                      <p:stCondLst>
                        <p:cond delay="indefinite"/>
                      </p:stCondLst>
                      <p:childTnLst>
                        <p:par>
                          <p:cTn id="2559" fill="hold">
                            <p:stCondLst>
                              <p:cond delay="0"/>
                            </p:stCondLst>
                            <p:childTnLst>
                              <p:par>
                                <p:cTn id="256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6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6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457200" y="16765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شَارِبُونَ شُرْب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هِي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477120" y="2944800"/>
            <a:ext cx="162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هِيم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828800" y="4800600"/>
            <a:ext cx="40384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بل المصابة بمرض العُطا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828800" y="2944800"/>
            <a:ext cx="400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تائهون في الصحر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828800" y="3859200"/>
            <a:ext cx="396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حيوانات الشارد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6" dur="indefinite" restart="never" nodeType="tmRoot">
          <p:childTnLst>
            <p:seq>
              <p:cTn id="2567" dur="indefinite" nodeType="mainSeq">
                <p:childTnLst>
                  <p:par>
                    <p:cTn id="2568" fill="hold">
                      <p:stCondLst>
                        <p:cond delay="0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2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4" dur="3814" fill="hold"/>
                                        <p:tgtEl>
                                          <p:spTgt spid="5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5" fill="hold">
                      <p:stCondLst>
                        <p:cond delay="indefinite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4" fill="hold">
                            <p:stCondLst>
                              <p:cond delay="500"/>
                            </p:stCondLst>
                            <p:childTnLst>
                              <p:par>
                                <p:cTn id="2585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7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8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9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3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4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5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6" fill="hold">
                            <p:stCondLst>
                              <p:cond delay="2180"/>
                            </p:stCondLst>
                            <p:childTnLst>
                              <p:par>
                                <p:cTn id="25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01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05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6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7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10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1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2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533520" y="19051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َوْ نَشَاءُ لَجَعَلْنَاهُ حُطَاماً فَظَلْتُم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فَكَّه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3505320"/>
            <a:ext cx="1573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فَكَّه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3505320"/>
            <a:ext cx="1582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تعجب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666880" y="3505320"/>
            <a:ext cx="1710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ندم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838080" y="3505320"/>
            <a:ext cx="1563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عرف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4" dur="indefinite" restart="never" nodeType="tmRoot">
          <p:childTnLst>
            <p:seq>
              <p:cTn id="2615" dur="indefinite" nodeType="mainSeq">
                <p:childTnLst>
                  <p:par>
                    <p:cTn id="2616" fill="hold">
                      <p:stCondLst>
                        <p:cond delay="0"/>
                      </p:stCondLst>
                      <p:childTnLst>
                        <p:par>
                          <p:cTn id="2617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0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2" dur="9666" fill="hold"/>
                                        <p:tgtEl>
                                          <p:spTgt spid="5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7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8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9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0" fill="hold">
                            <p:stCondLst>
                              <p:cond delay="560"/>
                            </p:stCondLst>
                            <p:childTnLst>
                              <p:par>
                                <p:cTn id="263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35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6" fill="hold">
                            <p:stCondLst>
                              <p:cond delay="1560"/>
                            </p:stCondLst>
                            <p:childTnLst>
                              <p:par>
                                <p:cTn id="2637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9" dur="8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0" dur="8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1" dur="8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2" dur="8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5" fill="hold">
                            <p:stCondLst>
                              <p:cond delay="2560"/>
                            </p:stCondLst>
                            <p:childTnLst>
                              <p:par>
                                <p:cTn id="26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9" fill="hold">
                            <p:stCondLst>
                              <p:cond delay="3060"/>
                            </p:stCondLst>
                            <p:childTnLst>
                              <p:par>
                                <p:cTn id="26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2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3" fill="hold">
                      <p:stCondLst>
                        <p:cond delay="indefinite"/>
                      </p:stCondLst>
                      <p:childTnLst>
                        <p:par>
                          <p:cTn id="2654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56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7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8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61" dur="8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2" dur="8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3" dur="8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66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7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8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914400" y="190512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ا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لَمُغْرَم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لْ نَحْنُ مَحْرُوم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6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6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633360" y="3581280"/>
            <a:ext cx="1693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لَمُغْرَم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876920" y="3581280"/>
            <a:ext cx="162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خاسر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971800" y="3581280"/>
            <a:ext cx="1611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محب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914400" y="3581280"/>
            <a:ext cx="1743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ملزم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0" dur="indefinite" restart="never" nodeType="tmRoot">
          <p:childTnLst>
            <p:seq>
              <p:cTn id="2671" dur="indefinite" nodeType="mainSeq">
                <p:childTnLst>
                  <p:par>
                    <p:cTn id="2672" fill="hold">
                      <p:stCondLst>
                        <p:cond delay="0"/>
                      </p:stCondLst>
                      <p:childTnLst>
                        <p:par>
                          <p:cTn id="2673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6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7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8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0" dur="7628" fill="hold"/>
                                        <p:tgtEl>
                                          <p:spTgt spid="5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1" fill="hold">
                      <p:stCondLst>
                        <p:cond delay="indefinite"/>
                      </p:stCondLst>
                      <p:childTnLst>
                        <p:par>
                          <p:cTn id="2682" fill="hold">
                            <p:stCondLst>
                              <p:cond delay="0"/>
                            </p:stCondLst>
                            <p:childTnLst>
                              <p:par>
                                <p:cTn id="26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6" fill="hold">
                            <p:stCondLst>
                              <p:cond delay="500"/>
                            </p:stCondLst>
                            <p:childTnLst>
                              <p:par>
                                <p:cTn id="26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7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8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5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fill="hold">
                      <p:stCondLst>
                        <p:cond delay="indefinite"/>
                      </p:stCondLst>
                      <p:childTnLst>
                        <p:par>
                          <p:cTn id="2707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09" dur="8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0" dur="8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1" dur="8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14" dur="8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5" dur="8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6" dur="8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19" dur="8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0" dur="8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1" dur="8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24" dur="8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5" dur="8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6" dur="8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143000" y="1523880"/>
            <a:ext cx="685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لَقَدْ رَآَهُ نَزْلَةً أُخْرَى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نْد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سِدْرَةِ الْمُنْتَهَى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3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87160" y="3048120"/>
            <a:ext cx="2404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سِدْرَةِ الْمُنْتَه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3048120"/>
            <a:ext cx="41054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جرة فوق السماء الساب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3886200"/>
            <a:ext cx="4130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جرة في الج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4724280"/>
            <a:ext cx="4146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قام الأخير في الج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419720" y="1066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8307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80"/>
                            </p:stCondLst>
                            <p:childTnLst>
                              <p:par>
                                <p:cTn id="1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380"/>
                            </p:stCondLst>
                            <p:childTnLst>
                              <p:par>
                                <p:cTn id="1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88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685800" y="18288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أَنْتُمْ أَنْزَلْتُمُوهُ مِن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زْن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مْ نَحْنُ الْمُنْزِل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9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705720" y="3886200"/>
            <a:ext cx="1417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زْ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800600" y="38862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سم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895480" y="38862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سحا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886200"/>
            <a:ext cx="1681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عل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8" dur="indefinite" restart="never" nodeType="tmRoot">
          <p:childTnLst>
            <p:seq>
              <p:cTn id="2729" dur="indefinite" nodeType="mainSeq">
                <p:childTnLst>
                  <p:par>
                    <p:cTn id="2730" fill="hold">
                      <p:stCondLst>
                        <p:cond delay="0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4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5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7" dur="9875" fill="hold"/>
                                        <p:tgtEl>
                                          <p:spTgt spid="5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8" fill="hold">
                      <p:stCondLst>
                        <p:cond delay="indefinite"/>
                      </p:stCondLst>
                      <p:childTnLst>
                        <p:par>
                          <p:cTn id="2739" fill="hold">
                            <p:stCondLst>
                              <p:cond delay="0"/>
                            </p:stCondLst>
                            <p:childTnLst>
                              <p:par>
                                <p:cTn id="27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2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3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4" fill="hold">
                      <p:stCondLst>
                        <p:cond delay="indefinite"/>
                      </p:stCondLst>
                      <p:childTnLst>
                        <p:par>
                          <p:cTn id="2765" fill="hold">
                            <p:stCondLst>
                              <p:cond delay="0"/>
                            </p:stCondLst>
                            <p:childTnLst>
                              <p:par>
                                <p:cTn id="276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67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8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9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72" dur="8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3" dur="8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4" dur="8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77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8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9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762120" y="18288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فَرَأَيْتُمُ النَّارَ الَّتِي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ُور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950520" y="3352680"/>
            <a:ext cx="1265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ُور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105520" y="3352680"/>
            <a:ext cx="1603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دخل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200400" y="3352680"/>
            <a:ext cx="155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قدح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219320" y="3352680"/>
            <a:ext cx="1622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ر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3"/>
          <a:stretch/>
        </p:blipFill>
        <p:spPr>
          <a:xfrm>
            <a:off x="4267080" y="2743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1" dur="indefinite" restart="never" nodeType="tmRoot">
          <p:childTnLst>
            <p:seq>
              <p:cTn id="2782" dur="indefinite" nodeType="mainSeq">
                <p:childTnLst>
                  <p:par>
                    <p:cTn id="2783" fill="hold">
                      <p:stCondLst>
                        <p:cond delay="0"/>
                      </p:stCondLst>
                      <p:childTnLst>
                        <p:par>
                          <p:cTn id="2784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7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8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9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0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1" dur="5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93" dur="5956" fill="hold"/>
                                        <p:tgtEl>
                                          <p:spTgt spid="6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04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3" fill="hold">
                      <p:stCondLst>
                        <p:cond delay="indefinite"/>
                      </p:stCondLst>
                      <p:childTnLst>
                        <p:par>
                          <p:cTn id="2814" fill="hold">
                            <p:stCondLst>
                              <p:cond delay="0"/>
                            </p:stCondLst>
                            <p:childTnLst>
                              <p:par>
                                <p:cTn id="28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533520" y="16002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نَحْنُ جَعَلْنَاهَا تَذْكِرَةً وَمَتَاعاً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لِلْمُقْو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477120" y="3352680"/>
            <a:ext cx="15033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لِلْمُقْوِي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828800" y="4267080"/>
            <a:ext cx="3809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سافرين بأرض قف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828800" y="3352680"/>
            <a:ext cx="3809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ذين لا يخافون شيئ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828800" y="5181480"/>
            <a:ext cx="3821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سافرين الأقوي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3"/>
          <a:stretch/>
        </p:blipFill>
        <p:spPr>
          <a:xfrm>
            <a:off x="4267080" y="2590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9" dur="indefinite" restart="never" nodeType="tmRoot">
          <p:childTnLst>
            <p:seq>
              <p:cTn id="2820" dur="indefinite" nodeType="mainSeq">
                <p:childTnLst>
                  <p:par>
                    <p:cTn id="2821" fill="hold">
                      <p:stCondLst>
                        <p:cond delay="0"/>
                      </p:stCondLst>
                      <p:childTnLst>
                        <p:par>
                          <p:cTn id="2822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27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9" dur="8098" fill="hold"/>
                                        <p:tgtEl>
                                          <p:spTgt spid="6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fill="hold">
                      <p:stCondLst>
                        <p:cond delay="indefinite"/>
                      </p:stCondLst>
                      <p:childTnLst>
                        <p:par>
                          <p:cTn id="2831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6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4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4" dur="8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5" dur="8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6" dur="8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7" fill="hold">
                            <p:stCondLst>
                              <p:cond delay="2180"/>
                            </p:stCondLst>
                            <p:childTnLst>
                              <p:par>
                                <p:cTn id="28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4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5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6" fill="hold">
                      <p:stCondLst>
                        <p:cond delay="indefinite"/>
                      </p:stCondLst>
                      <p:childTnLst>
                        <p:par>
                          <p:cTn id="2857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68580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فَبِهَذَا الْحَدِيثِ أَنْتُم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دْهِن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705720" y="3581280"/>
            <a:ext cx="14684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دْهِن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124080" y="3581280"/>
            <a:ext cx="1528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هاون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876920" y="3581280"/>
            <a:ext cx="1546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فر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219320" y="3581280"/>
            <a:ext cx="1646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مزح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3"/>
          <a:stretch/>
        </p:blipFill>
        <p:spPr>
          <a:xfrm>
            <a:off x="3962520" y="243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4" dur="indefinite" restart="never" nodeType="tmRoot">
          <p:childTnLst>
            <p:seq>
              <p:cTn id="2865" dur="indefinite" nodeType="mainSeq">
                <p:childTnLst>
                  <p:par>
                    <p:cTn id="2866" fill="hold">
                      <p:stCondLst>
                        <p:cond delay="0"/>
                      </p:stCondLst>
                      <p:childTnLst>
                        <p:par>
                          <p:cTn id="2867" fill="hold">
                            <p:stCondLst>
                              <p:cond delay="0"/>
                            </p:stCondLst>
                            <p:childTnLst>
                              <p:par>
                                <p:cTn id="28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0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1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2" dur="10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4" dur="6949" fill="hold"/>
                                        <p:tgtEl>
                                          <p:spTgt spid="6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5" fill="hold">
                      <p:stCondLst>
                        <p:cond delay="indefinite"/>
                      </p:stCondLst>
                      <p:childTnLst>
                        <p:par>
                          <p:cTn id="2876" fill="hold">
                            <p:stCondLst>
                              <p:cond delay="0"/>
                            </p:stCondLst>
                            <p:childTnLst>
                              <p:par>
                                <p:cTn id="28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7" fill="hold">
                      <p:stCondLst>
                        <p:cond delay="indefinite"/>
                      </p:stCondLst>
                      <p:childTnLst>
                        <p:par>
                          <p:cTn id="2898" fill="hold">
                            <p:stCondLst>
                              <p:cond delay="0"/>
                            </p:stCondLst>
                            <p:childTnLst>
                              <p:par>
                                <p:cTn id="28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838080" y="175248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لَوْلا إِنْ كُنْتُمْ غَيْر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دِينِي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781680" y="3505320"/>
            <a:ext cx="1405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دِينِي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990720" y="3505320"/>
            <a:ext cx="1590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زي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800600" y="35053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حاسب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895480" y="3505320"/>
            <a:ext cx="1611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بالي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3"/>
          <a:stretch/>
        </p:blipFill>
        <p:spPr>
          <a:xfrm>
            <a:off x="403848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03" dur="indefinite" restart="never" nodeType="tmRoot">
          <p:childTnLst>
            <p:seq>
              <p:cTn id="2904" dur="indefinite" nodeType="mainSeq">
                <p:childTnLst>
                  <p:par>
                    <p:cTn id="2905" fill="hold">
                      <p:stCondLst>
                        <p:cond delay="0"/>
                      </p:stCondLst>
                      <p:childTnLst>
                        <p:par>
                          <p:cTn id="2906" fill="hold">
                            <p:stCondLst>
                              <p:cond delay="0"/>
                            </p:stCondLst>
                            <p:childTnLst>
                              <p:par>
                                <p:cTn id="290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9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0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1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2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3" dur="5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15" dur="7889" fill="hold"/>
                                        <p:tgtEl>
                                          <p:spTgt spid="6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6" fill="hold">
                      <p:stCondLst>
                        <p:cond delay="indefinite"/>
                      </p:stCondLst>
                      <p:childTnLst>
                        <p:par>
                          <p:cTn id="2917" fill="hold">
                            <p:stCondLst>
                              <p:cond delay="0"/>
                            </p:stCondLst>
                            <p:childTnLst>
                              <p:par>
                                <p:cTn id="29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4" fill="hold">
                            <p:stCondLst>
                              <p:cond delay="500"/>
                            </p:stCondLst>
                            <p:childTnLst>
                              <p:par>
                                <p:cTn id="29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9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33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7" dur="8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8" dur="8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9" dur="8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0" fill="hold">
                      <p:stCondLst>
                        <p:cond delay="indefinite"/>
                      </p:stCondLst>
                      <p:childTnLst>
                        <p:par>
                          <p:cTn id="2941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943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4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5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94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948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9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0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609480" y="12193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ثُمّ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قَفَّيْنَ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لَى آثَارِهِمْ بِرُسُلِنَا وَقَفَّيْنَا بِعِيسَى ابْنِ مَرْيَمَ وَآتَيْنَاهُ الْأِنْجِيلَ وَجَعَلْنَا فِي قُلُوبِ الَّذِينَ اتَّبَعُوهُ رَأْفَةً وَرَحْمَةً وَرَهْبَانِيَّةً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بْتَدَعُوهَا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َا كَتَبْنَاهَا عَلَيْهِمْ إِلَّا ابْتِغَاءَ رِضْوَانِ اللَّهِ فَمَا رَعَوْهَا حَقَّ رِعَايَتِهَا فَآتَيْنَا الَّذِينَ آمَنُوا مِنْهُمْ أَجْرَهُمْ وَكَثِيرٌ مِنْهُمْ فَاسِق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ديد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93432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قَفَّيْنَا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934320" y="4572000"/>
            <a:ext cx="13413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بْتَدَعُوهَا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105520" y="3657600"/>
            <a:ext cx="1587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تبع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00400" y="3657600"/>
            <a:ext cx="1590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عث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219320" y="36576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رسل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4572000"/>
            <a:ext cx="1603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خترعو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105520" y="4572000"/>
            <a:ext cx="1628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دقو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219320" y="4572000"/>
            <a:ext cx="1619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لقو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1101960" y="5410080"/>
            <a:ext cx="75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400" spc="-1" strike="noStrike">
                <a:solidFill>
                  <a:srgbClr val="010199"/>
                </a:solidFill>
                <a:latin typeface="Arial"/>
                <a:cs typeface="Arial"/>
              </a:rPr>
              <a:t>الابتداع هو إتيان ما لم يسبق إليه في دين أو سنة أو صنعة</a:t>
            </a:r>
            <a:r>
              <a:rPr b="0" lang="ar-SA" sz="24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2" dur="indefinite" restart="never" nodeType="tmRoot">
          <p:childTnLst>
            <p:seq>
              <p:cTn id="2953" dur="indefinite" nodeType="mainSeq">
                <p:childTnLst>
                  <p:par>
                    <p:cTn id="2954" fill="hold">
                      <p:stCondLst>
                        <p:cond delay="0"/>
                      </p:stCondLst>
                      <p:childTnLst>
                        <p:par>
                          <p:cTn id="2955" fill="hold">
                            <p:stCondLst>
                              <p:cond delay="0"/>
                            </p:stCondLst>
                            <p:childTnLst>
                              <p:par>
                                <p:cTn id="29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8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0" dur="67971" fill="hold"/>
                                        <p:tgtEl>
                                          <p:spTgt spid="6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1" fill="hold">
                      <p:stCondLst>
                        <p:cond delay="indefinite"/>
                      </p:stCondLst>
                      <p:childTnLst>
                        <p:par>
                          <p:cTn id="2962" fill="hold">
                            <p:stCondLst>
                              <p:cond delay="0"/>
                            </p:stCondLst>
                            <p:childTnLst>
                              <p:par>
                                <p:cTn id="29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67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1" fill="hold">
                      <p:stCondLst>
                        <p:cond delay="indefinite"/>
                      </p:stCondLst>
                      <p:childTnLst>
                        <p:par>
                          <p:cTn id="2982" fill="hold">
                            <p:stCondLst>
                              <p:cond delay="0"/>
                            </p:stCondLst>
                            <p:childTnLst>
                              <p:par>
                                <p:cTn id="29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7" fill="hold">
                            <p:stCondLst>
                              <p:cond delay="0"/>
                            </p:stCondLst>
                            <p:childTnLst>
                              <p:par>
                                <p:cTn id="29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9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0" fill="hold">
                            <p:stCondLst>
                              <p:cond delay="0"/>
                            </p:stCondLst>
                            <p:childTnLst>
                              <p:par>
                                <p:cTn id="30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-304920" y="-7632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762120" y="16765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صْحَابُ الْجَنَّةِ يَوْمَئِذٍ خَيْرٌ مُسْتَقَرّاً وَأَحْسَنُ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مَقِيل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238880" y="3352680"/>
            <a:ext cx="1078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مَقِيلاً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819520" y="3352680"/>
            <a:ext cx="2171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ان الإستراح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105520" y="3352680"/>
            <a:ext cx="2000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كلاً ومقا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62120" y="335268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واباً ومقا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62120" y="4876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يل إسم مكان الاستقرار ومعناه ظاهر من القيلولة اي الاستراحة في منتصف النهار سواء معها نوم أم لا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3"/>
          <a:stretch/>
        </p:blipFill>
        <p:spPr>
          <a:xfrm>
            <a:off x="34290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4" dur="indefinite" restart="never" nodeType="tmRoot">
          <p:childTnLst>
            <p:seq>
              <p:cTn id="3015" dur="indefinite" nodeType="mainSeq">
                <p:childTnLst>
                  <p:par>
                    <p:cTn id="3016" fill="hold">
                      <p:stCondLst>
                        <p:cond delay="0"/>
                      </p:stCondLst>
                      <p:childTnLst>
                        <p:par>
                          <p:cTn id="3017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0" dur="1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1" dur="1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2" dur="10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24" dur="9405" fill="hold"/>
                                        <p:tgtEl>
                                          <p:spTgt spid="6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5" fill="hold">
                      <p:stCondLst>
                        <p:cond delay="indefinite"/>
                      </p:stCondLst>
                      <p:childTnLst>
                        <p:par>
                          <p:cTn id="3026" fill="hold">
                            <p:stCondLst>
                              <p:cond delay="0"/>
                            </p:stCondLst>
                            <p:childTnLst>
                              <p:par>
                                <p:cTn id="30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31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5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6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7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0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1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2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3" fill="hold">
                            <p:stCondLst>
                              <p:cond delay="1520"/>
                            </p:stCondLst>
                            <p:childTnLst>
                              <p:par>
                                <p:cTn id="30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6" dur="8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7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8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9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2" fill="hold">
                            <p:stCondLst>
                              <p:cond delay="2520"/>
                            </p:stCondLst>
                            <p:childTnLst>
                              <p:par>
                                <p:cTn id="30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6" fill="hold">
                      <p:stCondLst>
                        <p:cond delay="indefinite"/>
                      </p:stCondLst>
                      <p:childTnLst>
                        <p:par>
                          <p:cTn id="3057" fill="hold">
                            <p:stCondLst>
                              <p:cond delay="0"/>
                            </p:stCondLst>
                            <p:childTnLst>
                              <p:par>
                                <p:cTn id="305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59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0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1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64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5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6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69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0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1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3" fill="hold">
                            <p:stCondLst>
                              <p:cond delay="560"/>
                            </p:stCondLst>
                            <p:childTnLst>
                              <p:par>
                                <p:cTn id="30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6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838080" y="15238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عَاداً وَثَمُودَا وَأَصْحَابَ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رَّسّ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قُرُوناً بَيْنَ ذَلِكَ كَثِي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0" y="3429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رَّسِّ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819520" y="3429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ر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876920" y="342900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ئ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4290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ر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7" dur="indefinite" restart="never" nodeType="tmRoot">
          <p:childTnLst>
            <p:seq>
              <p:cTn id="3078" dur="indefinite" nodeType="mainSeq">
                <p:childTnLst>
                  <p:par>
                    <p:cTn id="3079" fill="hold">
                      <p:stCondLst>
                        <p:cond delay="0"/>
                      </p:stCondLst>
                      <p:childTnLst>
                        <p:par>
                          <p:cTn id="3080" fill="hold">
                            <p:stCondLst>
                              <p:cond delay="0"/>
                            </p:stCondLst>
                            <p:childTnLst>
                              <p:par>
                                <p:cTn id="30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3" dur="5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85" dur="9405" fill="hold"/>
                                        <p:tgtEl>
                                          <p:spTgt spid="6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6" fill="hold">
                      <p:stCondLst>
                        <p:cond delay="indefinite"/>
                      </p:stCondLst>
                      <p:childTnLst>
                        <p:par>
                          <p:cTn id="3087" fill="hold">
                            <p:stCondLst>
                              <p:cond delay="0"/>
                            </p:stCondLst>
                            <p:childTnLst>
                              <p:par>
                                <p:cTn id="30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1" fill="hold">
                            <p:stCondLst>
                              <p:cond delay="500"/>
                            </p:stCondLst>
                            <p:childTnLst>
                              <p:par>
                                <p:cTn id="30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4" dur="8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5" dur="8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6" dur="8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7" fill="hold">
                            <p:stCondLst>
                              <p:cond delay="740"/>
                            </p:stCondLst>
                            <p:childTnLst>
                              <p:par>
                                <p:cTn id="30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3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8" fill="hold">
                            <p:stCondLst>
                              <p:cond delay="1740"/>
                            </p:stCondLst>
                            <p:childTnLst>
                              <p:par>
                                <p:cTn id="310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4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9" fill="hold">
                            <p:stCondLst>
                              <p:cond delay="2740"/>
                            </p:stCondLst>
                            <p:childTnLst>
                              <p:par>
                                <p:cTn id="312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2" dur="8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3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4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5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8" fill="hold">
                      <p:stCondLst>
                        <p:cond delay="indefinite"/>
                      </p:stCondLst>
                      <p:childTnLst>
                        <p:par>
                          <p:cTn id="3129" fill="hold">
                            <p:stCondLst>
                              <p:cond delay="0"/>
                            </p:stCondLst>
                            <p:childTnLst>
                              <p:par>
                                <p:cTn id="313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31" dur="8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2" dur="8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3" dur="8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36" dur="8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7" dur="8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8" dur="8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41" dur="8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2" dur="8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3" dur="8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-457200" y="0"/>
            <a:ext cx="9906120" cy="731520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838080" y="17524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كُلّاً ضَرَبْنَا لَهُ الْأَمْثَالَ وَكُلّاً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تَبَّرْنَا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َتْبِي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705720" y="3657600"/>
            <a:ext cx="1400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تَبَّرْنَا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819520" y="36576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هلك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724280" y="3657600"/>
            <a:ext cx="158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رب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990720" y="365760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اسب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5" dur="indefinite" restart="never" nodeType="tmRoot">
          <p:childTnLst>
            <p:seq>
              <p:cTn id="3146" dur="indefinite" nodeType="mainSeq">
                <p:childTnLst>
                  <p:par>
                    <p:cTn id="3147" fill="hold">
                      <p:stCondLst>
                        <p:cond delay="0"/>
                      </p:stCondLst>
                      <p:childTnLst>
                        <p:par>
                          <p:cTn id="3148" fill="hold">
                            <p:stCondLst>
                              <p:cond delay="0"/>
                            </p:stCondLst>
                            <p:childTnLst>
                              <p:par>
                                <p:cTn id="31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53" dur="10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55" dur="9561" fill="hold"/>
                                        <p:tgtEl>
                                          <p:spTgt spid="6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6" fill="hold">
                      <p:stCondLst>
                        <p:cond delay="indefinite"/>
                      </p:stCondLst>
                      <p:childTnLst>
                        <p:par>
                          <p:cTn id="3157" fill="hold">
                            <p:stCondLst>
                              <p:cond delay="0"/>
                            </p:stCondLst>
                            <p:childTnLst>
                              <p:par>
                                <p:cTn id="31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3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4" fill="hold">
                            <p:stCondLst>
                              <p:cond delay="500"/>
                            </p:stCondLst>
                            <p:childTnLst>
                              <p:par>
                                <p:cTn id="3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0" dur="5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8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0" fill="hold">
                      <p:stCondLst>
                        <p:cond delay="indefinite"/>
                      </p:stCondLst>
                      <p:childTnLst>
                        <p:par>
                          <p:cTn id="3181" fill="hold">
                            <p:stCondLst>
                              <p:cond delay="0"/>
                            </p:stCondLst>
                            <p:childTnLst>
                              <p:par>
                                <p:cTn id="3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990720" y="144792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لَّذِينَ يَقُولُونَ رَبَّنَا اصْرِفْ عَنَّا عَذَابَ جَهَنَّمَ إِنَّ عَذَابَهَا كَانَ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غَرَام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0" y="3200400"/>
            <a:ext cx="1349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غَرَاماً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3200400"/>
            <a:ext cx="154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ز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971800" y="3200400"/>
            <a:ext cx="162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ي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990720" y="32004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وج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09480" y="46879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غرام  ما ينوب الانسان من شدة أو مصيبة فيلازمه لا يفارقه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8" dur="indefinite" restart="never" nodeType="tmRoot">
          <p:childTnLst>
            <p:seq>
              <p:cTn id="3189" dur="indefinite" nodeType="mainSeq">
                <p:childTnLst>
                  <p:par>
                    <p:cTn id="3190" fill="hold">
                      <p:stCondLst>
                        <p:cond delay="0"/>
                      </p:stCondLst>
                      <p:childTnLst>
                        <p:par>
                          <p:cTn id="3191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4" dur="5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96" dur="12591" fill="hold"/>
                                        <p:tgtEl>
                                          <p:spTgt spid="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7" fill="hold">
                      <p:stCondLst>
                        <p:cond delay="indefinite"/>
                      </p:stCondLst>
                      <p:childTnLst>
                        <p:par>
                          <p:cTn id="3198" fill="hold">
                            <p:stCondLst>
                              <p:cond delay="0"/>
                            </p:stCondLst>
                            <p:childTnLst>
                              <p:par>
                                <p:cTn id="3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1" dur="8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2" dur="8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3" dur="8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4" fill="hold">
                            <p:stCondLst>
                              <p:cond delay="400"/>
                            </p:stCondLst>
                            <p:childTnLst>
                              <p:par>
                                <p:cTn id="320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0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5" fill="hold">
                            <p:stCondLst>
                              <p:cond delay="1400"/>
                            </p:stCondLst>
                            <p:childTnLst>
                              <p:par>
                                <p:cTn id="3216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8" dur="8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9" dur="8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0" dur="8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1" dur="8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4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6" dur="8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7" dur="8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8" dur="8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9" dur="8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2" fill="hold">
                            <p:stCondLst>
                              <p:cond delay="2400"/>
                            </p:stCondLst>
                            <p:childTnLst>
                              <p:par>
                                <p:cTn id="3233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5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0" fill="hold">
                      <p:stCondLst>
                        <p:cond delay="indefinite"/>
                      </p:stCondLst>
                      <p:childTnLst>
                        <p:par>
                          <p:cTn id="3241" fill="hold">
                            <p:stCondLst>
                              <p:cond delay="0"/>
                            </p:stCondLst>
                            <p:childTnLst>
                              <p:par>
                                <p:cTn id="324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43" dur="8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4" dur="8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5" dur="8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4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48" dur="8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9" dur="8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0" dur="8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5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53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4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5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7" fill="hold">
                            <p:stCondLst>
                              <p:cond delay="280"/>
                            </p:stCondLst>
                            <p:childTnLst>
                              <p:par>
                                <p:cTn id="3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0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066680" y="1523880"/>
            <a:ext cx="7010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َكُمُ الذَّكَرُ وَلَهُ الْأُنْثَى </a:t>
            </a:r>
            <a:r>
              <a:rPr b="0" lang="ar-SA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ِلْكَ إِذاً قِسْمَةٌ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ضِيزَى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21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3429000"/>
            <a:ext cx="1407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ضِيز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3429000"/>
            <a:ext cx="1585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ائ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1504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ائ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3429000"/>
            <a:ext cx="1525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اط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419720" y="1066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8673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838080" y="16002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ُولَئِكَ يُجْزَوْنَ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ea typeface="Arial"/>
              </a:rPr>
              <a:t> الْغُرْفَة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ِمَا صَبَرُوا وَيُلَقَّوْنَ فِيهَا تَحِيَّةً وَسَلام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858000" y="3657600"/>
            <a:ext cx="1382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ْغُرْفَة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838080" y="3657600"/>
            <a:ext cx="19051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درجة العال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876920" y="3657600"/>
            <a:ext cx="1812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ص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895480" y="36576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ح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61" dur="indefinite" restart="never" nodeType="tmRoot">
          <p:childTnLst>
            <p:seq>
              <p:cTn id="3262" dur="indefinite" nodeType="mainSeq">
                <p:childTnLst>
                  <p:par>
                    <p:cTn id="3263" fill="hold">
                      <p:stCondLst>
                        <p:cond delay="0"/>
                      </p:stCondLst>
                      <p:childTnLst>
                        <p:par>
                          <p:cTn id="3264" fill="hold">
                            <p:stCondLst>
                              <p:cond delay="0"/>
                            </p:stCondLst>
                            <p:childTnLst>
                              <p:par>
                                <p:cTn id="3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7" dur="10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8" dur="10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9" dur="10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71" dur="11651" fill="hold"/>
                                        <p:tgtEl>
                                          <p:spTgt spid="6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2" fill="hold">
                      <p:stCondLst>
                        <p:cond delay="indefinite"/>
                      </p:stCondLst>
                      <p:childTnLst>
                        <p:par>
                          <p:cTn id="3273" fill="hold">
                            <p:stCondLst>
                              <p:cond delay="0"/>
                            </p:stCondLst>
                            <p:childTnLst>
                              <p:par>
                                <p:cTn id="32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9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0" fill="hold">
                            <p:stCondLst>
                              <p:cond delay="500"/>
                            </p:stCondLst>
                            <p:childTnLst>
                              <p:par>
                                <p:cTn id="328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3" dur="8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4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5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6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2" dur="8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3" dur="8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4" dur="8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5" dur="8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6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7" fill="hold">
                      <p:stCondLst>
                        <p:cond delay="indefinite"/>
                      </p:stCondLst>
                      <p:childTnLst>
                        <p:par>
                          <p:cTn id="3308" fill="hold">
                            <p:stCondLst>
                              <p:cond delay="0"/>
                            </p:stCondLst>
                            <p:childTnLst>
                              <p:par>
                                <p:cTn id="330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10" dur="8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1" dur="8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2" dur="8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15" dur="8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6" dur="8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7" dur="8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20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1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2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>
            <a:off x="685800" y="1676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فَكُبْكِبُوا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هَا هُمْ وَ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ْغَاوُون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شعراء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9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934320" y="3200400"/>
            <a:ext cx="1319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فَكُبْكِبُوا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47120" y="5486400"/>
            <a:ext cx="1779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َالْغَاوُون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029200" y="5486400"/>
            <a:ext cx="1822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ضال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895480" y="548640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عرض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990720" y="548640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فسد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828800" y="3200400"/>
            <a:ext cx="4405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ألقوا على وجوه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828800" y="3962520"/>
            <a:ext cx="4443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تعذبوا في الن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828800" y="4724280"/>
            <a:ext cx="4486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أسقطوا في جهن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3"/>
          <a:stretch/>
        </p:blipFill>
        <p:spPr>
          <a:xfrm>
            <a:off x="2133720" y="2133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24" dur="indefinite" restart="never" nodeType="tmRoot">
          <p:childTnLst>
            <p:seq>
              <p:cTn id="3325" dur="indefinite" nodeType="mainSeq">
                <p:childTnLst>
                  <p:par>
                    <p:cTn id="3326" fill="hold">
                      <p:stCondLst>
                        <p:cond delay="0"/>
                      </p:stCondLst>
                      <p:childTnLst>
                        <p:par>
                          <p:cTn id="3327" fill="hold">
                            <p:stCondLst>
                              <p:cond delay="0"/>
                            </p:stCondLst>
                            <p:childTnLst>
                              <p:par>
                                <p:cTn id="33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0" dur="8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1" dur="8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2" dur="8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3" dur="8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37" dur="4337" fill="hold"/>
                                        <p:tgtEl>
                                          <p:spTgt spid="7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8" fill="hold">
                      <p:stCondLst>
                        <p:cond delay="indefinite"/>
                      </p:stCondLst>
                      <p:childTnLst>
                        <p:par>
                          <p:cTn id="3339" fill="hold">
                            <p:stCondLst>
                              <p:cond delay="0"/>
                            </p:stCondLst>
                            <p:childTnLst>
                              <p:par>
                                <p:cTn id="33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4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5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3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0" dur="8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1" dur="8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2" dur="8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3" fill="hold">
                            <p:stCondLst>
                              <p:cond delay="1140"/>
                            </p:stCondLst>
                            <p:childTnLst>
                              <p:par>
                                <p:cTn id="33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6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7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8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1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2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3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4" fill="hold">
                            <p:stCondLst>
                              <p:cond delay="1740"/>
                            </p:stCondLst>
                            <p:childTnLst>
                              <p:par>
                                <p:cTn id="33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67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8" fill="hold">
                      <p:stCondLst>
                        <p:cond delay="indefinite"/>
                      </p:stCondLst>
                      <p:childTnLst>
                        <p:par>
                          <p:cTn id="3369" fill="hold">
                            <p:stCondLst>
                              <p:cond delay="0"/>
                            </p:stCondLst>
                            <p:childTnLst>
                              <p:par>
                                <p:cTn id="337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71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2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3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76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7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8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81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3" fill="hold">
                            <p:stCondLst>
                              <p:cond delay="600"/>
                            </p:stCondLst>
                            <p:childTnLst>
                              <p:par>
                                <p:cTn id="33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7" fill="hold">
                            <p:stCondLst>
                              <p:cond delay="1100"/>
                            </p:stCondLst>
                            <p:childTnLst>
                              <p:par>
                                <p:cTn id="33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0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8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1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2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3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4" dur="5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5" fill="hold">
                            <p:stCondLst>
                              <p:cond delay="2100"/>
                            </p:stCondLst>
                            <p:childTnLst>
                              <p:par>
                                <p:cTn id="340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3" fill="hold">
                      <p:stCondLst>
                        <p:cond delay="indefinite"/>
                      </p:stCondLst>
                      <p:childTnLst>
                        <p:par>
                          <p:cTn id="3414" fill="hold">
                            <p:stCondLst>
                              <p:cond delay="0"/>
                            </p:stCondLst>
                            <p:childTnLst>
                              <p:par>
                                <p:cTn id="341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16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7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18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1" dur="100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2" dur="100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3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6" dur="100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7" dur="100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8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533520" y="1905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تَبْنُونَ بِكُلِّ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رِيع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آيَةً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تَعْبَثُو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شعراء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2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010280" y="3124080"/>
            <a:ext cx="1192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رِيعٍ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000920" y="5410080"/>
            <a:ext cx="1305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تَعْبَثُون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676520" y="3809880"/>
            <a:ext cx="4833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كان المرتف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676520" y="3124080"/>
            <a:ext cx="4806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ارض الخضر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676520" y="4495680"/>
            <a:ext cx="4809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ان فيه م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505320" y="54100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ل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257800" y="54100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خرب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784520" y="5410080"/>
            <a:ext cx="1415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ضيّع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/>
          <p:cNvPicPr/>
          <p:nvPr/>
        </p:nvPicPr>
        <p:blipFill>
          <a:blip r:embed="rId3"/>
          <a:stretch/>
        </p:blipFill>
        <p:spPr>
          <a:xfrm>
            <a:off x="297180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0" dur="indefinite" restart="never" nodeType="tmRoot">
          <p:childTnLst>
            <p:seq>
              <p:cTn id="3431" dur="indefinite" nodeType="mainSeq">
                <p:childTnLst>
                  <p:par>
                    <p:cTn id="3432" fill="hold">
                      <p:stCondLst>
                        <p:cond delay="0"/>
                      </p:stCondLst>
                      <p:childTnLst>
                        <p:par>
                          <p:cTn id="3433" fill="hold">
                            <p:stCondLst>
                              <p:cond delay="0"/>
                            </p:stCondLst>
                            <p:childTnLst>
                              <p:par>
                                <p:cTn id="34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6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7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8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0" dur="5956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1" fill="hold">
                      <p:stCondLst>
                        <p:cond delay="indefinite"/>
                      </p:stCondLst>
                      <p:childTnLst>
                        <p:par>
                          <p:cTn id="3442" fill="hold">
                            <p:stCondLst>
                              <p:cond delay="0"/>
                            </p:stCondLst>
                            <p:childTnLst>
                              <p:par>
                                <p:cTn id="3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9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0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1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2" fill="hold">
                            <p:stCondLst>
                              <p:cond delay="1020"/>
                            </p:stCondLst>
                            <p:childTnLst>
                              <p:par>
                                <p:cTn id="34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57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8" fill="hold">
                            <p:stCondLst>
                              <p:cond delay="2020"/>
                            </p:stCondLst>
                            <p:childTnLst>
                              <p:par>
                                <p:cTn id="34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1" dur="8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2" dur="8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3" dur="8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4" dur="8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7" fill="hold">
                      <p:stCondLst>
                        <p:cond delay="indefinite"/>
                      </p:stCondLst>
                      <p:childTnLst>
                        <p:par>
                          <p:cTn id="3468" fill="hold">
                            <p:stCondLst>
                              <p:cond delay="0"/>
                            </p:stCondLst>
                            <p:childTnLst>
                              <p:par>
                                <p:cTn id="3469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70" dur="10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1" dur="10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2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5" dur="100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6" dur="100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7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2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3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9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3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4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0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1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2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5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6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7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8" fill="hold">
                            <p:stCondLst>
                              <p:cond delay="3500"/>
                            </p:stCondLst>
                            <p:childTnLst>
                              <p:par>
                                <p:cTn id="350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1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2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3" dur="10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4" fill="hold">
                      <p:stCondLst>
                        <p:cond delay="indefinite"/>
                      </p:stCondLst>
                      <p:childTnLst>
                        <p:par>
                          <p:cTn id="3515" fill="hold">
                            <p:stCondLst>
                              <p:cond delay="0"/>
                            </p:stCondLst>
                            <p:childTnLst>
                              <p:par>
                                <p:cTn id="35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83808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تَنْحِتُونَ مِنَ الْجِبَالِ بُيُوتاً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فَارِه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شعراء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901920" y="3429000"/>
            <a:ext cx="139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فَارِهِين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200400" y="3429000"/>
            <a:ext cx="154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طر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29200" y="3429000"/>
            <a:ext cx="1679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ارغ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371600" y="3429000"/>
            <a:ext cx="1582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ال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3"/>
          <a:stretch/>
        </p:blipFill>
        <p:spPr>
          <a:xfrm>
            <a:off x="243828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24" dur="indefinite" restart="never" nodeType="tmRoot">
          <p:childTnLst>
            <p:seq>
              <p:cTn id="3525" dur="indefinite" nodeType="mainSeq">
                <p:childTnLst>
                  <p:par>
                    <p:cTn id="3526" fill="hold">
                      <p:stCondLst>
                        <p:cond delay="0"/>
                      </p:stCondLst>
                      <p:childTnLst>
                        <p:par>
                          <p:cTn id="3527" fill="hold">
                            <p:stCondLst>
                              <p:cond delay="0"/>
                            </p:stCondLst>
                            <p:childTnLst>
                              <p:par>
                                <p:cTn id="35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0" dur="10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1" dur="10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2" dur="10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34" dur="5956" fill="hold"/>
                                        <p:tgtEl>
                                          <p:spTgt spid="7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5" fill="hold">
                      <p:stCondLst>
                        <p:cond delay="indefinite"/>
                      </p:stCondLst>
                      <p:childTnLst>
                        <p:par>
                          <p:cTn id="3536" fill="hold">
                            <p:stCondLst>
                              <p:cond delay="0"/>
                            </p:stCondLst>
                            <p:childTnLst>
                              <p:par>
                                <p:cTn id="35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9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0" fill="hold">
                            <p:stCondLst>
                              <p:cond delay="500"/>
                            </p:stCondLst>
                            <p:childTnLst>
                              <p:par>
                                <p:cTn id="35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3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4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5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6" fill="hold">
                            <p:stCondLst>
                              <p:cond delay="780"/>
                            </p:stCondLst>
                            <p:childTnLst>
                              <p:par>
                                <p:cTn id="35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9" dur="8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0" dur="8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1" dur="8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2" dur="8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5" fill="hold">
                            <p:stCondLst>
                              <p:cond delay="1780"/>
                            </p:stCondLst>
                            <p:childTnLst>
                              <p:par>
                                <p:cTn id="35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8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9" fill="hold">
                            <p:stCondLst>
                              <p:cond delay="2280"/>
                            </p:stCondLst>
                            <p:childTnLst>
                              <p:par>
                                <p:cTn id="35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62" dur="5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3" fill="hold">
                      <p:stCondLst>
                        <p:cond delay="indefinite"/>
                      </p:stCondLst>
                      <p:childTnLst>
                        <p:par>
                          <p:cTn id="3564" fill="hold">
                            <p:stCondLst>
                              <p:cond delay="0"/>
                            </p:stCondLst>
                            <p:childTnLst>
                              <p:par>
                                <p:cTn id="356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66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7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8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6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71" dur="8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2" dur="8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3" dur="8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7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76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7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8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/>
          <p:nvPr/>
        </p:nvSpPr>
        <p:spPr>
          <a:xfrm>
            <a:off x="762120" y="160020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َّا يَسْجُدُوا لِلَّهِ الَّذِي يُخْرِجُ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ْخَبْء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 السَّمَاوَاتِ وَالْأَرْضِ وَيَعْلَمُ مَا تُخْفُونَ وَمَا تُعْلِن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ن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781680" y="3276720"/>
            <a:ext cx="1354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ْخَبْء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819520" y="327672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ست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800600" y="3276720"/>
            <a:ext cx="1735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مط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914400" y="3276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سر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914400" y="4622760"/>
            <a:ext cx="739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خبء استعارة كأن الأشياء مخبأة مستورة تحت أطباق العدم ،فيخرجها الله تعالى من العدم إلى الوجود واحداً بعد الآخر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0" dur="indefinite" restart="never" nodeType="tmRoot">
          <p:childTnLst>
            <p:seq>
              <p:cTn id="3581" dur="indefinite" nodeType="mainSeq">
                <p:childTnLst>
                  <p:par>
                    <p:cTn id="3582" fill="hold">
                      <p:stCondLst>
                        <p:cond delay="0"/>
                      </p:stCondLst>
                      <p:childTnLst>
                        <p:par>
                          <p:cTn id="3583" fill="hold">
                            <p:stCondLst>
                              <p:cond delay="0"/>
                            </p:stCondLst>
                            <p:childTnLst>
                              <p:par>
                                <p:cTn id="35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6" dur="10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7" dur="10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8" dur="10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0" dur="13218" fill="hold"/>
                                        <p:tgtEl>
                                          <p:spTgt spid="7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1" fill="hold">
                      <p:stCondLst>
                        <p:cond delay="indefinite"/>
                      </p:stCondLst>
                      <p:childTnLst>
                        <p:par>
                          <p:cTn id="3592" fill="hold">
                            <p:stCondLst>
                              <p:cond delay="0"/>
                            </p:stCondLst>
                            <p:childTnLst>
                              <p:par>
                                <p:cTn id="35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97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5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1" fill="hold">
                      <p:stCondLst>
                        <p:cond delay="indefinite"/>
                      </p:stCondLst>
                      <p:childTnLst>
                        <p:par>
                          <p:cTn id="3612" fill="hold">
                            <p:stCondLst>
                              <p:cond delay="0"/>
                            </p:stCondLst>
                            <p:childTnLst>
                              <p:par>
                                <p:cTn id="361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7" fill="hold">
                            <p:stCondLst>
                              <p:cond delay="0"/>
                            </p:stCondLst>
                            <p:childTnLst>
                              <p:par>
                                <p:cTn id="3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0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" descr=""/>
          <p:cNvPicPr/>
          <p:nvPr/>
        </p:nvPicPr>
        <p:blipFill>
          <a:blip r:embed="rId1"/>
          <a:stretch/>
        </p:blipFill>
        <p:spPr>
          <a:xfrm>
            <a:off x="-457200" y="-1522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838080" y="1143000"/>
            <a:ext cx="7239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ِيلَ لَهَا ادْخُلِي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صَّرْح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لَمَّا رَأَتْهُ حَسِبَتْهُ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لُجَّة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كَشَفَتْ عَنْ سَاقَيْهَا قَالَ إِنَّهُ صَرْحٌ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مُمَرَّدٌ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ِنْ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قَوَارِير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َالَتْ رَبِّ إِنِّي ظَلَمْتُ نَفْسِي وَأَسْلَمْتُ مَعَ سُلَيْمَانَ لِلَّهِ رَبِّ الْعَالَم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ن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011000" y="5410080"/>
            <a:ext cx="1297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قَوَارِير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086600" y="3886200"/>
            <a:ext cx="1166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لُجَّةً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086600" y="4648320"/>
            <a:ext cx="11430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مُمَرَّدٌ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7032960" y="3124080"/>
            <a:ext cx="1319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صَّرْح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743200" y="3124080"/>
            <a:ext cx="194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ناء العال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876920" y="3124080"/>
            <a:ext cx="19969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ناء في الجب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62120" y="3124080"/>
            <a:ext cx="1828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يت الكب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876920" y="3886200"/>
            <a:ext cx="2008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ء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743200" y="3886200"/>
            <a:ext cx="1941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يا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62120" y="3886200"/>
            <a:ext cx="185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بل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876920" y="4648320"/>
            <a:ext cx="1981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مل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743200" y="4648320"/>
            <a:ext cx="1962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كو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62120" y="464832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876920" y="5410080"/>
            <a:ext cx="1995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نابي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743200" y="5410080"/>
            <a:ext cx="190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جا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62120" y="5410080"/>
            <a:ext cx="1782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وامي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21" dur="indefinite" restart="never" nodeType="tmRoot">
          <p:childTnLst>
            <p:seq>
              <p:cTn id="3622" dur="indefinite" nodeType="mainSeq">
                <p:childTnLst>
                  <p:par>
                    <p:cTn id="3623" fill="hold">
                      <p:stCondLst>
                        <p:cond delay="0"/>
                      </p:stCondLst>
                      <p:childTnLst>
                        <p:par>
                          <p:cTn id="3624" fill="hold">
                            <p:stCondLst>
                              <p:cond delay="0"/>
                            </p:stCondLst>
                            <p:childTnLst>
                              <p:par>
                                <p:cTn id="36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8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0" dur="32235" fill="hold"/>
                                        <p:tgtEl>
                                          <p:spTgt spid="7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1" fill="hold">
                      <p:stCondLst>
                        <p:cond delay="indefinite"/>
                      </p:stCondLst>
                      <p:childTnLst>
                        <p:par>
                          <p:cTn id="3632" fill="hold">
                            <p:stCondLst>
                              <p:cond delay="0"/>
                            </p:stCondLst>
                            <p:childTnLst>
                              <p:par>
                                <p:cTn id="36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8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3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4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5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6" fill="hold">
                            <p:stCondLst>
                              <p:cond delay="2500"/>
                            </p:stCondLst>
                            <p:childTnLst>
                              <p:par>
                                <p:cTn id="36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9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1" fill="hold">
                      <p:stCondLst>
                        <p:cond delay="indefinite"/>
                      </p:stCondLst>
                      <p:childTnLst>
                        <p:par>
                          <p:cTn id="3662" fill="hold">
                            <p:stCondLst>
                              <p:cond delay="0"/>
                            </p:stCondLst>
                            <p:childTnLst>
                              <p:par>
                                <p:cTn id="36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7" fill="hold">
                            <p:stCondLst>
                              <p:cond delay="0"/>
                            </p:stCondLst>
                            <p:childTnLst>
                              <p:par>
                                <p:cTn id="36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1" fill="hold">
                            <p:stCondLst>
                              <p:cond delay="500"/>
                            </p:stCondLst>
                            <p:childTnLst>
                              <p:par>
                                <p:cTn id="36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2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1" fill="hold">
                      <p:stCondLst>
                        <p:cond delay="indefinite"/>
                      </p:stCondLst>
                      <p:childTnLst>
                        <p:par>
                          <p:cTn id="3692" fill="hold">
                            <p:stCondLst>
                              <p:cond delay="0"/>
                            </p:stCondLst>
                            <p:childTnLst>
                              <p:par>
                                <p:cTn id="36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7" fill="hold">
                            <p:stCondLst>
                              <p:cond delay="0"/>
                            </p:stCondLst>
                            <p:childTnLst>
                              <p:par>
                                <p:cTn id="36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0" dur="8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1" dur="8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2" dur="8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3" dur="8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9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4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9" dur="8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0" dur="8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1" dur="8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2" dur="8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5" fill="hold">
                      <p:stCondLst>
                        <p:cond delay="indefinite"/>
                      </p:stCondLst>
                      <p:childTnLst>
                        <p:par>
                          <p:cTn id="3726" fill="hold">
                            <p:stCondLst>
                              <p:cond delay="0"/>
                            </p:stCondLst>
                            <p:childTnLst>
                              <p:par>
                                <p:cTn id="37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1" fill="hold">
                            <p:stCondLst>
                              <p:cond delay="0"/>
                            </p:stCondLst>
                            <p:childTnLst>
                              <p:par>
                                <p:cTn id="3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4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5" fill="hold">
                            <p:stCondLst>
                              <p:cond delay="500"/>
                            </p:stCondLst>
                            <p:childTnLst>
                              <p:par>
                                <p:cTn id="37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1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1" fill="hold">
                      <p:stCondLst>
                        <p:cond delay="indefinite"/>
                      </p:stCondLst>
                      <p:childTnLst>
                        <p:par>
                          <p:cTn id="3752" fill="hold">
                            <p:stCondLst>
                              <p:cond delay="0"/>
                            </p:stCondLst>
                            <p:childTnLst>
                              <p:par>
                                <p:cTn id="37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" descr=""/>
          <p:cNvPicPr/>
          <p:nvPr/>
        </p:nvPicPr>
        <p:blipFill>
          <a:blip r:embed="rId1"/>
          <a:stretch/>
        </p:blipFill>
        <p:spPr>
          <a:xfrm>
            <a:off x="-30492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59" name=""/>
          <p:cNvSpPr/>
          <p:nvPr/>
        </p:nvSpPr>
        <p:spPr>
          <a:xfrm>
            <a:off x="609480" y="91440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َا كَانَ لِنَبِيٍّ أَنْ يَكُونَ لَهُ أَسْرَى حَتَّى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ea typeface="Arial"/>
              </a:rPr>
              <a:t> يُثْخِ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ِي الْأَرْضِ تُرِيدُون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عَرَض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الدُّنْيَا وَاللَّهُ يُرِيدُ الْآخِرَةَ وَاللَّهُ عَزِيزٌ حَكِيم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لأنفا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086600" y="2057400"/>
            <a:ext cx="1170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ثْخِ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048120" y="205740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غل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105520" y="2057400"/>
            <a:ext cx="163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حك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990720" y="205740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حار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010280" y="3352680"/>
            <a:ext cx="1217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عَرَض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362320" y="3962520"/>
            <a:ext cx="358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نخدع به الانس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362320" y="3352680"/>
            <a:ext cx="358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طرأ ويزو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362320" y="4572000"/>
            <a:ext cx="358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نراه على غير حقيقت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990720" y="2590920"/>
            <a:ext cx="733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000" spc="-1" strike="noStrike">
                <a:solidFill>
                  <a:srgbClr val="010199"/>
                </a:solidFill>
                <a:latin typeface="Arial"/>
                <a:cs typeface="Arial"/>
              </a:rPr>
              <a:t>يثخن : المراد استقرار دينه بين الناس كأنه شيء غليظ فتجمد وثبت بعد أن كان رقيقاً سائلاً مخشي الزوال بالسيلان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219320" y="5181480"/>
            <a:ext cx="694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000" spc="-1" strike="noStrike">
                <a:solidFill>
                  <a:srgbClr val="010199"/>
                </a:solidFill>
                <a:latin typeface="Arial"/>
                <a:cs typeface="Arial"/>
              </a:rPr>
              <a:t>عرض : أي ما يطرأ على الشيء ويسرع فيه الزوال ، ولذلك سمي به متاع الدنيا لدثوره وزواله عما قليل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3"/>
          <a:stretch/>
        </p:blipFill>
        <p:spPr>
          <a:xfrm>
            <a:off x="685800" y="1600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57" dur="indefinite" restart="never" nodeType="tmRoot">
          <p:childTnLst>
            <p:seq>
              <p:cTn id="3758" dur="indefinite" nodeType="mainSeq">
                <p:childTnLst>
                  <p:par>
                    <p:cTn id="3759" fill="hold">
                      <p:stCondLst>
                        <p:cond delay="0"/>
                      </p:stCondLst>
                      <p:childTnLst>
                        <p:par>
                          <p:cTn id="3760" fill="hold">
                            <p:stCondLst>
                              <p:cond delay="0"/>
                            </p:stCondLst>
                            <p:childTnLst>
                              <p:par>
                                <p:cTn id="37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3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4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5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7" dur="23929" fill="hold"/>
                                        <p:tgtEl>
                                          <p:spTgt spid="7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8" fill="hold">
                      <p:stCondLst>
                        <p:cond delay="indefinite"/>
                      </p:stCondLst>
                      <p:childTnLst>
                        <p:par>
                          <p:cTn id="3769" fill="hold">
                            <p:stCondLst>
                              <p:cond delay="0"/>
                            </p:stCondLst>
                            <p:childTnLst>
                              <p:par>
                                <p:cTn id="37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74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8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9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0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5" fill="hold">
                            <p:stCondLst>
                              <p:cond delay="2500"/>
                            </p:stCondLst>
                            <p:childTnLst>
                              <p:par>
                                <p:cTn id="37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8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9" fill="hold">
                      <p:stCondLst>
                        <p:cond delay="indefinite"/>
                      </p:stCondLst>
                      <p:childTnLst>
                        <p:par>
                          <p:cTn id="3790" fill="hold">
                            <p:stCondLst>
                              <p:cond delay="0"/>
                            </p:stCondLst>
                            <p:childTnLst>
                              <p:par>
                                <p:cTn id="379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5" fill="hold">
                            <p:stCondLst>
                              <p:cond delay="0"/>
                            </p:stCondLst>
                            <p:childTnLst>
                              <p:par>
                                <p:cTn id="37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9" fill="hold">
                      <p:stCondLst>
                        <p:cond delay="indefinite"/>
                      </p:stCondLst>
                      <p:childTnLst>
                        <p:par>
                          <p:cTn id="3800" fill="hold">
                            <p:stCondLst>
                              <p:cond delay="0"/>
                            </p:stCondLst>
                            <p:childTnLst>
                              <p:par>
                                <p:cTn id="38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3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4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5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7" fill="hold">
                            <p:stCondLst>
                              <p:cond delay="500"/>
                            </p:stCondLst>
                            <p:childTnLst>
                              <p:par>
                                <p:cTn id="380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12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3" fill="hold">
                      <p:stCondLst>
                        <p:cond delay="indefinite"/>
                      </p:stCondLst>
                      <p:childTnLst>
                        <p:par>
                          <p:cTn id="3824" fill="hold">
                            <p:stCondLst>
                              <p:cond delay="0"/>
                            </p:stCondLst>
                            <p:childTnLst>
                              <p:par>
                                <p:cTn id="38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9" fill="hold">
                            <p:stCondLst>
                              <p:cond delay="0"/>
                            </p:stCondLst>
                            <p:childTnLst>
                              <p:par>
                                <p:cTn id="38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457200" y="152388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يْفَ وَإِنْ يَظْهَرُوا عَلَيْكُمْ لا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رْقُبُو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ِيكُم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إِلّ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ا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ذِمَّة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يُرْضُونَكُمْ بِأَفْوَاهِهِمْ وَتَأْبَى قُلُوبُهُمْ وَأَكْثَرُهُمْ فَاسِق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934320" y="3200400"/>
            <a:ext cx="128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رْقُبُوا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934320" y="4038480"/>
            <a:ext cx="1303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إِلّ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934320" y="4876920"/>
            <a:ext cx="1317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ذِمَّة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952880" y="3200400"/>
            <a:ext cx="1606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حفظ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971800" y="32004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شاهد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914400" y="32004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غدر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971800" y="40384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را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40384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ير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914400" y="403848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ح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952880" y="48769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ه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971800" y="48769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914400" y="487692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مي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3"/>
          <a:stretch/>
        </p:blipFill>
        <p:spPr>
          <a:xfrm>
            <a:off x="27432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3" dur="indefinite" restart="never" nodeType="tmRoot">
          <p:childTnLst>
            <p:seq>
              <p:cTn id="3834" dur="indefinite" nodeType="mainSeq">
                <p:childTnLst>
                  <p:par>
                    <p:cTn id="3835" fill="hold">
                      <p:stCondLst>
                        <p:cond delay="0"/>
                      </p:stCondLst>
                      <p:childTnLst>
                        <p:par>
                          <p:cTn id="3836" fill="hold">
                            <p:stCondLst>
                              <p:cond delay="0"/>
                            </p:stCondLst>
                            <p:childTnLst>
                              <p:par>
                                <p:cTn id="38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9" dur="10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0" dur="10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1" dur="10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43" dur="19018" fill="hold"/>
                                        <p:tgtEl>
                                          <p:spTgt spid="7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4" fill="hold">
                      <p:stCondLst>
                        <p:cond delay="indefinite"/>
                      </p:stCondLst>
                      <p:childTnLst>
                        <p:par>
                          <p:cTn id="3845" fill="hold">
                            <p:stCondLst>
                              <p:cond delay="0"/>
                            </p:stCondLst>
                            <p:childTnLst>
                              <p:par>
                                <p:cTn id="38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50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4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5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6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3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4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8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9" fill="hold">
                      <p:stCondLst>
                        <p:cond delay="indefinite"/>
                      </p:stCondLst>
                      <p:childTnLst>
                        <p:par>
                          <p:cTn id="3870" fill="hold">
                            <p:stCondLst>
                              <p:cond delay="0"/>
                            </p:stCondLst>
                            <p:childTnLst>
                              <p:par>
                                <p:cTn id="38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5" fill="hold">
                            <p:stCondLst>
                              <p:cond delay="0"/>
                            </p:stCondLst>
                            <p:childTnLst>
                              <p:par>
                                <p:cTn id="38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8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9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0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4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8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93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4" fill="hold">
                      <p:stCondLst>
                        <p:cond delay="indefinite"/>
                      </p:stCondLst>
                      <p:childTnLst>
                        <p:par>
                          <p:cTn id="3895" fill="hold">
                            <p:stCondLst>
                              <p:cond delay="0"/>
                            </p:stCondLst>
                            <p:childTnLst>
                              <p:par>
                                <p:cTn id="38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0" fill="hold">
                            <p:stCondLst>
                              <p:cond delay="0"/>
                            </p:stCondLst>
                            <p:childTnLst>
                              <p:par>
                                <p:cTn id="39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4" fill="hold">
                            <p:stCondLst>
                              <p:cond delay="500"/>
                            </p:stCondLst>
                            <p:childTnLst>
                              <p:par>
                                <p:cTn id="39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7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13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9" fill="hold">
                      <p:stCondLst>
                        <p:cond delay="indefinite"/>
                      </p:stCondLst>
                      <p:childTnLst>
                        <p:par>
                          <p:cTn id="3920" fill="hold">
                            <p:stCondLst>
                              <p:cond delay="0"/>
                            </p:stCondLst>
                            <p:childTnLst>
                              <p:par>
                                <p:cTn id="39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/>
          <p:nvPr/>
        </p:nvSpPr>
        <p:spPr>
          <a:xfrm>
            <a:off x="762120" y="152388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مْ حَسِبْتُمْ أَنْ تُتْرَكُوا وَلَمَّا يَعْلَمِ اللَّهُ الَّذِينَ جَاهَدُوا مِنْكُمْ وَلَمْ يَتَّخِذُوا مِنْ دُونِ اللَّهِ وَلا رَسُولِهِ وَلا الْمُؤْمِنِين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لِيجَة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اللَّهُ خَبِيرٌ بِمَا تَعْمَلُون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934320" y="3657600"/>
            <a:ext cx="1331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لِيجَة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52880" y="3657600"/>
            <a:ext cx="1695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دخلا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895480" y="365760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ج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838080" y="365760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ريق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003680" y="4800600"/>
            <a:ext cx="71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وليجة :أي  ما يتخذه الانسان معتمداً عليه وليس من أهل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3"/>
          <a:stretch/>
        </p:blipFill>
        <p:spPr>
          <a:xfrm>
            <a:off x="2819520" y="2514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5" dur="indefinite" restart="never" nodeType="tmRoot">
          <p:childTnLst>
            <p:seq>
              <p:cTn id="3926" dur="indefinite" nodeType="mainSeq">
                <p:childTnLst>
                  <p:par>
                    <p:cTn id="3927" fill="hold">
                      <p:stCondLst>
                        <p:cond delay="0"/>
                      </p:stCondLst>
                      <p:childTnLst>
                        <p:par>
                          <p:cTn id="3928" fill="hold">
                            <p:stCondLst>
                              <p:cond delay="0"/>
                            </p:stCondLst>
                            <p:childTnLst>
                              <p:par>
                                <p:cTn id="39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1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2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3" dur="10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5" dur="23876" fill="hold"/>
                                        <p:tgtEl>
                                          <p:spTgt spid="7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6" fill="hold">
                      <p:stCondLst>
                        <p:cond delay="indefinite"/>
                      </p:stCondLst>
                      <p:childTnLst>
                        <p:par>
                          <p:cTn id="3937" fill="hold">
                            <p:stCondLst>
                              <p:cond delay="0"/>
                            </p:stCondLst>
                            <p:childTnLst>
                              <p:par>
                                <p:cTn id="39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1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2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3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4" fill="hold">
                            <p:stCondLst>
                              <p:cond delay="500"/>
                            </p:stCondLst>
                            <p:childTnLst>
                              <p:par>
                                <p:cTn id="39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7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8" fill="hold">
                      <p:stCondLst>
                        <p:cond delay="indefinite"/>
                      </p:stCondLst>
                      <p:childTnLst>
                        <p:par>
                          <p:cTn id="3959" fill="hold">
                            <p:stCondLst>
                              <p:cond delay="0"/>
                            </p:stCondLst>
                            <p:childTnLst>
                              <p:par>
                                <p:cTn id="39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61" dur="5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2" dur="5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6" fill="hold">
                            <p:stCondLst>
                              <p:cond delay="500"/>
                            </p:stCondLst>
                            <p:childTnLst>
                              <p:par>
                                <p:cTn id="39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9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685800" y="129528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قَالَتِ الْيَهُودُ عُزَيْرٌ ابْنُ اللَّهِ وَقَالَتِ النَّصَارَى الْمَسِيحُ ابْنُ اللَّهِ ذَلِكَ قَوْلُهُمْ بِأَفْوَاهِهِم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ضَاهِئُو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َوْلَ الَّذِينَ كَفَرُوا مِنْ قَبْلُ قَاتَلَهُمُ اللَّهُ أَنَّى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ؤْفَك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766920" y="3429000"/>
            <a:ext cx="1631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ضَاهِئُو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858000" y="4343400"/>
            <a:ext cx="14367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ؤْفَكُو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666880" y="34290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شاب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800600" y="3429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أخذ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85800" y="3429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صدق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800600" y="43434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ُصرف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666880" y="43434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نت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85800" y="43434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خاف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12" name="" descr=""/>
          <p:cNvPicPr/>
          <p:nvPr/>
        </p:nvPicPr>
        <p:blipFill>
          <a:blip r:embed="rId3"/>
          <a:stretch/>
        </p:blipFill>
        <p:spPr>
          <a:xfrm>
            <a:off x="2590920" y="2209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70" dur="indefinite" restart="never" nodeType="tmRoot">
          <p:childTnLst>
            <p:seq>
              <p:cTn id="3971" dur="indefinite" nodeType="mainSeq">
                <p:childTnLst>
                  <p:par>
                    <p:cTn id="3972" fill="hold">
                      <p:stCondLst>
                        <p:cond delay="0"/>
                      </p:stCondLst>
                      <p:childTnLst>
                        <p:par>
                          <p:cTn id="3973" fill="hold">
                            <p:stCondLst>
                              <p:cond delay="0"/>
                            </p:stCondLst>
                            <p:childTnLst>
                              <p:par>
                                <p:cTn id="39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6" dur="5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8" dur="27429" fill="hold"/>
                                        <p:tgtEl>
                                          <p:spTgt spid="8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9" fill="hold">
                      <p:stCondLst>
                        <p:cond delay="indefinite"/>
                      </p:stCondLst>
                      <p:childTnLst>
                        <p:par>
                          <p:cTn id="3980" fill="hold">
                            <p:stCondLst>
                              <p:cond delay="0"/>
                            </p:stCondLst>
                            <p:childTnLst>
                              <p:par>
                                <p:cTn id="39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85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89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3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7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8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9" fill="hold">
                      <p:stCondLst>
                        <p:cond delay="indefinite"/>
                      </p:stCondLst>
                      <p:childTnLst>
                        <p:par>
                          <p:cTn id="4000" fill="hold">
                            <p:stCondLst>
                              <p:cond delay="0"/>
                            </p:stCondLst>
                            <p:childTnLst>
                              <p:par>
                                <p:cTn id="40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5" fill="hold">
                            <p:stCondLst>
                              <p:cond delay="0"/>
                            </p:stCondLst>
                            <p:childTnLst>
                              <p:par>
                                <p:cTn id="40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3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3" fill="hold">
                      <p:stCondLst>
                        <p:cond delay="indefinite"/>
                      </p:stCondLst>
                      <p:childTnLst>
                        <p:par>
                          <p:cTn id="4024" fill="hold">
                            <p:stCondLst>
                              <p:cond delay="0"/>
                            </p:stCondLst>
                            <p:childTnLst>
                              <p:par>
                                <p:cTn id="40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62120" y="16002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َّذِينَ يَجْتَنِبُونَ كَبَائِرَ الْأِثْمِ وَالْفَوَاحِشَ إِلَّ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لَّمَم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إِنَّ رَبَّكَ وَاسِعُ الْمَغْفِرَةِ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...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0" y="3657600"/>
            <a:ext cx="1251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لَّمَم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00600" y="3657600"/>
            <a:ext cx="1697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عاصي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3657600"/>
            <a:ext cx="1701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صغائ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36576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بائ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458080" y="4876920"/>
            <a:ext cx="50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من اللمم  المعاصي الصغير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" dur="14078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820"/>
                            </p:stCondLst>
                            <p:childTnLst>
                              <p:par>
                                <p:cTn id="2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320"/>
                            </p:stCondLst>
                            <p:childTnLst>
                              <p:par>
                                <p:cTn id="2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14" name=""/>
          <p:cNvSpPr/>
          <p:nvPr/>
        </p:nvSpPr>
        <p:spPr>
          <a:xfrm>
            <a:off x="685800" y="121932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مَا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نَّسِيء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زِيَادَةٌ فِي الْكُفْرِ يُضَلُّ بِهِ الَّذِينَ كَفَرُوا يُحِلُّونَهُ عَاماً وَيُحَرِّمُونَهُ عَاماً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لِيُوَاطِئُوا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ِدَّةَ مَا حَرَّمَ اللَّهُ فَيُحِلُّوا مَا حَرَّمَ اللَّهُ زُيِّنَ لَهُمْ سُوءُ أَعْمَالِهِمْ وَاللَّهُ لا يَهْدِي الْقَوْمَ الْكَافِر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781680" y="3124080"/>
            <a:ext cx="1397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نَّسِيءُ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858000" y="4876920"/>
            <a:ext cx="13748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لِيُوَاطِئُوا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31240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تأخ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895480" y="31240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نسي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914400" y="31240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ذ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971800" y="4876920"/>
            <a:ext cx="1682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وافق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029200" y="4876920"/>
            <a:ext cx="1533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قدم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914400" y="4876920"/>
            <a:ext cx="1757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حرِّم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914400" y="3886200"/>
            <a:ext cx="733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أنهم كانوا يأخرون حرمة شهر حرام إلى بعض الشهور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غير المحرمة التي بعد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/>
          <p:cNvPicPr/>
          <p:nvPr/>
        </p:nvPicPr>
        <p:blipFill>
          <a:blip r:embed="rId3"/>
          <a:stretch/>
        </p:blipFill>
        <p:spPr>
          <a:xfrm>
            <a:off x="1676520" y="2514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9" dur="indefinite" restart="never" nodeType="tmRoot">
          <p:childTnLst>
            <p:seq>
              <p:cTn id="4030" dur="indefinite" nodeType="mainSeq">
                <p:childTnLst>
                  <p:par>
                    <p:cTn id="4031" fill="hold">
                      <p:stCondLst>
                        <p:cond delay="0"/>
                      </p:stCondLst>
                      <p:childTnLst>
                        <p:par>
                          <p:cTn id="4032" fill="hold">
                            <p:stCondLst>
                              <p:cond delay="0"/>
                            </p:stCondLst>
                            <p:childTnLst>
                              <p:par>
                                <p:cTn id="40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5" dur="5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6" dur="5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38" dur="36154" fill="hold"/>
                                        <p:tgtEl>
                                          <p:spTgt spid="8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9" fill="hold">
                      <p:stCondLst>
                        <p:cond delay="indefinite"/>
                      </p:stCondLst>
                      <p:childTnLst>
                        <p:par>
                          <p:cTn id="4040" fill="hold">
                            <p:stCondLst>
                              <p:cond delay="0"/>
                            </p:stCondLst>
                            <p:childTnLst>
                              <p:par>
                                <p:cTn id="40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45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49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0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53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57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8" fill="hold">
                      <p:stCondLst>
                        <p:cond delay="indefinite"/>
                      </p:stCondLst>
                      <p:childTnLst>
                        <p:par>
                          <p:cTn id="4059" fill="hold">
                            <p:stCondLst>
                              <p:cond delay="0"/>
                            </p:stCondLst>
                            <p:childTnLst>
                              <p:par>
                                <p:cTn id="40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4" fill="hold">
                            <p:stCondLst>
                              <p:cond delay="0"/>
                            </p:stCondLst>
                            <p:childTnLst>
                              <p:par>
                                <p:cTn id="40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7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8" fill="hold">
                            <p:stCondLst>
                              <p:cond delay="500"/>
                            </p:stCondLst>
                            <p:childTnLst>
                              <p:par>
                                <p:cTn id="40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73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4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1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3" fill="hold">
                            <p:stCondLst>
                              <p:cond delay="2500"/>
                            </p:stCondLst>
                            <p:childTnLst>
                              <p:par>
                                <p:cTn id="40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6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7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8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9" fill="hold">
                      <p:stCondLst>
                        <p:cond delay="indefinite"/>
                      </p:stCondLst>
                      <p:childTnLst>
                        <p:par>
                          <p:cTn id="4090" fill="hold">
                            <p:stCondLst>
                              <p:cond delay="0"/>
                            </p:stCondLst>
                            <p:childTnLst>
                              <p:par>
                                <p:cTn id="40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/>
          <p:nvPr/>
        </p:nvSpPr>
        <p:spPr>
          <a:xfrm>
            <a:off x="685800" y="17524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نْفِرُو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خِفَاف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ثِقَال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جَاهِدُوا بِأَمْوَالِكُمْ وَأَنْفُسِكُمْ فِي سَبِيلِ اللَّهِ ذَلِكُمْ خَيْرٌ لَكُمْ إِنْ كُنْتُمْ تَعْلَمُون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58000" y="3200400"/>
            <a:ext cx="127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نْفِرُوا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858000" y="40384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خِفَاف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858000" y="48769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ثِقَال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990720" y="32004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خرج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952880" y="3200400"/>
            <a:ext cx="1589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هرب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971800" y="32004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قدم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952880" y="40384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بان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971800" y="4038480"/>
            <a:ext cx="15238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موع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990720" y="40384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ساء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971800" y="48769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يوخ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952880" y="48769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ض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990720" y="48769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ولا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43" name="" descr=""/>
          <p:cNvPicPr/>
          <p:nvPr/>
        </p:nvPicPr>
        <p:blipFill>
          <a:blip r:embed="rId3"/>
          <a:stretch/>
        </p:blipFill>
        <p:spPr>
          <a:xfrm>
            <a:off x="182880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5" dur="indefinite" restart="never" nodeType="tmRoot">
          <p:childTnLst>
            <p:seq>
              <p:cTn id="4096" dur="indefinite" nodeType="mainSeq">
                <p:childTnLst>
                  <p:par>
                    <p:cTn id="4097" fill="hold">
                      <p:stCondLst>
                        <p:cond delay="0"/>
                      </p:stCondLst>
                      <p:childTnLst>
                        <p:par>
                          <p:cTn id="4098" fill="hold">
                            <p:stCondLst>
                              <p:cond delay="0"/>
                            </p:stCondLst>
                            <p:childTnLst>
                              <p:par>
                                <p:cTn id="40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03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05" dur="17868" fill="hold"/>
                                        <p:tgtEl>
                                          <p:spTgt spid="8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6" fill="hold">
                      <p:stCondLst>
                        <p:cond delay="indefinite"/>
                      </p:stCondLst>
                      <p:childTnLst>
                        <p:par>
                          <p:cTn id="4107" fill="hold">
                            <p:stCondLst>
                              <p:cond delay="0"/>
                            </p:stCondLst>
                            <p:childTnLst>
                              <p:par>
                                <p:cTn id="4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0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1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2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6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0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1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5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6" fill="hold">
                      <p:stCondLst>
                        <p:cond delay="indefinite"/>
                      </p:stCondLst>
                      <p:childTnLst>
                        <p:par>
                          <p:cTn id="4127" fill="hold">
                            <p:stCondLst>
                              <p:cond delay="0"/>
                            </p:stCondLst>
                            <p:childTnLst>
                              <p:par>
                                <p:cTn id="4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2" fill="hold">
                            <p:stCondLst>
                              <p:cond delay="0"/>
                            </p:stCondLst>
                            <p:childTnLst>
                              <p:par>
                                <p:cTn id="4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5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6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7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1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5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9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0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1" fill="hold">
                      <p:stCondLst>
                        <p:cond delay="indefinite"/>
                      </p:stCondLst>
                      <p:childTnLst>
                        <p:par>
                          <p:cTn id="4152" fill="hold">
                            <p:stCondLst>
                              <p:cond delay="0"/>
                            </p:stCondLst>
                            <p:childTnLst>
                              <p:par>
                                <p:cTn id="4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7" fill="hold">
                            <p:stCondLst>
                              <p:cond delay="0"/>
                            </p:stCondLst>
                            <p:childTnLst>
                              <p:par>
                                <p:cTn id="4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0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1" fill="hold">
                            <p:stCondLst>
                              <p:cond delay="500"/>
                            </p:stCondLst>
                            <p:childTnLst>
                              <p:par>
                                <p:cTn id="41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6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8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0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75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6" fill="hold">
                      <p:stCondLst>
                        <p:cond delay="indefinite"/>
                      </p:stCondLst>
                      <p:childTnLst>
                        <p:par>
                          <p:cTn id="4177" fill="hold">
                            <p:stCondLst>
                              <p:cond delay="0"/>
                            </p:stCondLst>
                            <p:childTnLst>
                              <p:par>
                                <p:cTn id="4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45" name=""/>
          <p:cNvSpPr/>
          <p:nvPr/>
        </p:nvSpPr>
        <p:spPr>
          <a:xfrm>
            <a:off x="609480" y="137160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َوْ كَان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عَرَض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َرِيباً وَسَفَراً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قَاصِد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َاتَّبَعُوكَ وَلَكِنْ بَعُدَتْ عَلَيْهِمُ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شُّقَّةُ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سَيَحْلِفُونَ بِاللَّهِ لَوِ اسْتَطَعْنَا لَخَرَجْنَا مَعَكُمْ يُهْلِكُونَ أَنْفُسَهُمْ وَاللَّهُ يَعْلَمُ إِنَّهُمْ لَكَاذِب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477120" y="3276720"/>
            <a:ext cx="1666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عَرَض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477120" y="4191120"/>
            <a:ext cx="1671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قَاصِد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477120" y="5105520"/>
            <a:ext cx="1638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شُّقَّةُ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572000" y="3276720"/>
            <a:ext cx="1697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ل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743200" y="32767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838080" y="3276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افأ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572000" y="41911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ه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743200" y="41911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غو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838080" y="41911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بح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572000" y="51055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د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838080" y="51055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سا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743200" y="51055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ك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/>
          <p:cNvPicPr/>
          <p:nvPr/>
        </p:nvPicPr>
        <p:blipFill>
          <a:blip r:embed="rId3"/>
          <a:stretch/>
        </p:blipFill>
        <p:spPr>
          <a:xfrm>
            <a:off x="182880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2" dur="indefinite" restart="never" nodeType="tmRoot">
          <p:childTnLst>
            <p:seq>
              <p:cTn id="4183" dur="indefinite" nodeType="mainSeq">
                <p:childTnLst>
                  <p:par>
                    <p:cTn id="4184" fill="hold">
                      <p:stCondLst>
                        <p:cond delay="0"/>
                      </p:stCondLst>
                      <p:childTnLst>
                        <p:par>
                          <p:cTn id="4185" fill="hold">
                            <p:stCondLst>
                              <p:cond delay="0"/>
                            </p:stCondLst>
                            <p:childTnLst>
                              <p:par>
                                <p:cTn id="41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8" dur="100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9" dur="100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0" dur="100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92" dur="28526" fill="hold"/>
                                        <p:tgtEl>
                                          <p:spTgt spid="8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3" fill="hold">
                      <p:stCondLst>
                        <p:cond delay="indefinite"/>
                      </p:stCondLst>
                      <p:childTnLst>
                        <p:par>
                          <p:cTn id="4194" fill="hold">
                            <p:stCondLst>
                              <p:cond delay="0"/>
                            </p:stCondLst>
                            <p:childTnLst>
                              <p:par>
                                <p:cTn id="4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7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1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10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1" fill="hold">
                      <p:stCondLst>
                        <p:cond delay="indefinite"/>
                      </p:stCondLst>
                      <p:childTnLst>
                        <p:par>
                          <p:cTn id="4212" fill="hold">
                            <p:stCondLst>
                              <p:cond delay="0"/>
                            </p:stCondLst>
                            <p:childTnLst>
                              <p:par>
                                <p:cTn id="42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7" fill="hold">
                            <p:stCondLst>
                              <p:cond delay="0"/>
                            </p:stCondLst>
                            <p:childTnLst>
                              <p:par>
                                <p:cTn id="42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22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26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1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6" fill="hold">
                      <p:stCondLst>
                        <p:cond delay="indefinite"/>
                      </p:stCondLst>
                      <p:childTnLst>
                        <p:par>
                          <p:cTn id="4237" fill="hold">
                            <p:stCondLst>
                              <p:cond delay="0"/>
                            </p:stCondLst>
                            <p:childTnLst>
                              <p:par>
                                <p:cTn id="42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2" fill="hold">
                            <p:stCondLst>
                              <p:cond delay="0"/>
                            </p:stCondLst>
                            <p:childTnLst>
                              <p:par>
                                <p:cTn id="42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45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6" fill="hold">
                            <p:stCondLst>
                              <p:cond delay="500"/>
                            </p:stCondLst>
                            <p:childTnLst>
                              <p:par>
                                <p:cTn id="42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56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6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1" fill="hold">
                      <p:stCondLst>
                        <p:cond delay="indefinite"/>
                      </p:stCondLst>
                      <p:childTnLst>
                        <p:par>
                          <p:cTn id="4262" fill="hold">
                            <p:stCondLst>
                              <p:cond delay="0"/>
                            </p:stCondLst>
                            <p:childTnLst>
                              <p:par>
                                <p:cTn id="4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457200" y="16765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َوْ يَجِدُونَ مَلْجَأً أَوْ مَغَارَاتٍ أَو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مُدَّخَل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َوَلَّوْا إِلَيْهِ وَهُم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جْمَح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086600" y="33526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مُدَّخَل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086600" y="4343400"/>
            <a:ext cx="1336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جْمَحُو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4800600" y="3352680"/>
            <a:ext cx="2209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لكاً في الار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666880" y="3352680"/>
            <a:ext cx="2057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اناً خفي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85800" y="335268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بلاً عالي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876920" y="4343400"/>
            <a:ext cx="214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سرع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666880" y="4343400"/>
            <a:ext cx="2151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ختبئ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85800" y="4343400"/>
            <a:ext cx="1876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مش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73" name="" descr=""/>
          <p:cNvPicPr/>
          <p:nvPr/>
        </p:nvPicPr>
        <p:blipFill>
          <a:blip r:embed="rId3"/>
          <a:stretch/>
        </p:blipFill>
        <p:spPr>
          <a:xfrm>
            <a:off x="297180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67" dur="indefinite" restart="never" nodeType="tmRoot">
          <p:childTnLst>
            <p:seq>
              <p:cTn id="4268" dur="indefinite" nodeType="mainSeq">
                <p:childTnLst>
                  <p:par>
                    <p:cTn id="4269" fill="hold">
                      <p:stCondLst>
                        <p:cond delay="0"/>
                      </p:stCondLst>
                      <p:childTnLst>
                        <p:par>
                          <p:cTn id="4270" fill="hold">
                            <p:stCondLst>
                              <p:cond delay="0"/>
                            </p:stCondLst>
                            <p:childTnLst>
                              <p:par>
                                <p:cTn id="42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75" dur="10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77" dur="11599" fill="hold"/>
                                        <p:tgtEl>
                                          <p:spTgt spid="8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8" fill="hold">
                      <p:stCondLst>
                        <p:cond delay="indefinite"/>
                      </p:stCondLst>
                      <p:childTnLst>
                        <p:par>
                          <p:cTn id="4279" fill="hold">
                            <p:stCondLst>
                              <p:cond delay="0"/>
                            </p:stCondLst>
                            <p:childTnLst>
                              <p:par>
                                <p:cTn id="4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2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3" fill="hold">
                            <p:stCondLst>
                              <p:cond delay="500"/>
                            </p:stCondLst>
                            <p:childTnLst>
                              <p:par>
                                <p:cTn id="42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7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1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7" fill="hold">
                      <p:stCondLst>
                        <p:cond delay="indefinite"/>
                      </p:stCondLst>
                      <p:childTnLst>
                        <p:par>
                          <p:cTn id="4298" fill="hold">
                            <p:stCondLst>
                              <p:cond delay="0"/>
                            </p:stCondLst>
                            <p:childTnLst>
                              <p:par>
                                <p:cTn id="4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3" fill="hold">
                            <p:stCondLst>
                              <p:cond delay="0"/>
                            </p:stCondLst>
                            <p:childTnLst>
                              <p:par>
                                <p:cTn id="4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06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7" fill="hold">
                            <p:stCondLst>
                              <p:cond delay="500"/>
                            </p:stCondLst>
                            <p:childTnLst>
                              <p:par>
                                <p:cTn id="43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0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4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5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9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0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1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2" fill="hold">
                      <p:stCondLst>
                        <p:cond delay="indefinite"/>
                      </p:stCondLst>
                      <p:childTnLst>
                        <p:par>
                          <p:cTn id="4323" fill="hold">
                            <p:stCondLst>
                              <p:cond delay="0"/>
                            </p:stCondLst>
                            <p:childTnLst>
                              <p:par>
                                <p:cTn id="43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75" name=""/>
          <p:cNvSpPr/>
          <p:nvPr/>
        </p:nvSpPr>
        <p:spPr>
          <a:xfrm>
            <a:off x="533520" y="160020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مِنْهُمْ مَن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لْمِزُك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ِي الصَّدَقَاتِ فَإِنْ أُعْطُوا مِنْهَا رَضُوا وَإِنْ لَمْ يُعْطَوْا مِنْهَا إِذَا هُمْ يَسْخَطُون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781680" y="3352680"/>
            <a:ext cx="1382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لْمِزُك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895480" y="3352680"/>
            <a:ext cx="1571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عيب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800600" y="33526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غمز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990720" y="3352680"/>
            <a:ext cx="1541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طالب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838080" y="464832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10199"/>
              </a:buClr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10199"/>
                </a:solidFill>
                <a:latin typeface="Arial"/>
                <a:cs typeface="Arial"/>
              </a:rPr>
              <a:t>يلمزك : المقصود أنهم  كانوا يعيبونك في قسمتها إذا لم تعطهم منها لعدم إستحقاقهم ذلك أ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10199"/>
                </a:solidFill>
                <a:latin typeface="Arial"/>
                <a:cs typeface="Arial"/>
              </a:rPr>
              <a:t>لأسباب أخرى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83" name="" descr=""/>
          <p:cNvPicPr/>
          <p:nvPr/>
        </p:nvPicPr>
        <p:blipFill>
          <a:blip r:embed="rId3"/>
          <a:stretch/>
        </p:blipFill>
        <p:spPr>
          <a:xfrm>
            <a:off x="152388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28" dur="indefinite" restart="never" nodeType="tmRoot">
          <p:childTnLst>
            <p:seq>
              <p:cTn id="4329" dur="indefinite" nodeType="mainSeq">
                <p:childTnLst>
                  <p:par>
                    <p:cTn id="4330" fill="hold">
                      <p:stCondLst>
                        <p:cond delay="0"/>
                      </p:stCondLst>
                      <p:childTnLst>
                        <p:par>
                          <p:cTn id="4331" fill="hold">
                            <p:stCondLst>
                              <p:cond delay="0"/>
                            </p:stCondLst>
                            <p:childTnLst>
                              <p:par>
                                <p:cTn id="43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4" dur="5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5" dur="5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37" dur="16562" fill="hold"/>
                                        <p:tgtEl>
                                          <p:spTgt spid="8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8" fill="hold">
                      <p:stCondLst>
                        <p:cond delay="indefinite"/>
                      </p:stCondLst>
                      <p:childTnLst>
                        <p:par>
                          <p:cTn id="4339" fill="hold">
                            <p:stCondLst>
                              <p:cond delay="0"/>
                            </p:stCondLst>
                            <p:childTnLst>
                              <p:par>
                                <p:cTn id="43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44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48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43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2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6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7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8" fill="hold">
                      <p:stCondLst>
                        <p:cond delay="indefinite"/>
                      </p:stCondLst>
                      <p:childTnLst>
                        <p:par>
                          <p:cTn id="4359" fill="hold">
                            <p:stCondLst>
                              <p:cond delay="0"/>
                            </p:stCondLst>
                            <p:childTnLst>
                              <p:par>
                                <p:cTn id="43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4" fill="hold">
                            <p:stCondLst>
                              <p:cond delay="0"/>
                            </p:stCondLst>
                            <p:childTnLst>
                              <p:par>
                                <p:cTn id="4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7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85" name=""/>
          <p:cNvSpPr/>
          <p:nvPr/>
        </p:nvSpPr>
        <p:spPr>
          <a:xfrm>
            <a:off x="685800" y="914400"/>
            <a:ext cx="769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مَا الصَّدَقَاتُ لِلْفُقَرَاءِ وَالْمَسَاكِينِ وَالْعَامِلِينَ عَلَيْهَا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مُؤَلَّفَةِ قُلُوبُهُمْ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فِي الرِّقَابِ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غَارِمِي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فِي سَبِيلِ اللَّهِ وَابْنِ السَّبِيلِ فَرِيضَةً مِنَ اللَّهِ وَاللَّهُ عَلِيمٌ حَكِيم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928840" y="2514600"/>
            <a:ext cx="2692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مُؤَلَّفَةِ قُلُوبُهُمْ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39560" y="3200400"/>
            <a:ext cx="6107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م وحدوا الله ولم تدخل المعرفة قلوب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1219320" y="2514600"/>
            <a:ext cx="4522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م يخشون الله قلوبهم رقيق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219320" y="3886200"/>
            <a:ext cx="4552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م ليس في قلوبهم إيم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324480" y="4572000"/>
            <a:ext cx="202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غَارِمِي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263120" y="4572000"/>
            <a:ext cx="1649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هاجر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4572000"/>
            <a:ext cx="1346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ديون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819520" y="4572000"/>
            <a:ext cx="136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فقر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143000" y="5257800"/>
            <a:ext cx="678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بالغارمين الناس الذين تراكمت عليهم الديون  من أعما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قاموا بها في غير معصية الله تعال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97" name="" descr=""/>
          <p:cNvPicPr/>
          <p:nvPr/>
        </p:nvPicPr>
        <p:blipFill>
          <a:blip r:embed="rId3"/>
          <a:stretch/>
        </p:blipFill>
        <p:spPr>
          <a:xfrm>
            <a:off x="2133720" y="2133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68" dur="indefinite" restart="never" nodeType="tmRoot">
          <p:childTnLst>
            <p:seq>
              <p:cTn id="4369" dur="indefinite" nodeType="mainSeq">
                <p:childTnLst>
                  <p:par>
                    <p:cTn id="4370" fill="hold">
                      <p:stCondLst>
                        <p:cond delay="0"/>
                      </p:stCondLst>
                      <p:childTnLst>
                        <p:par>
                          <p:cTn id="4371" fill="hold">
                            <p:stCondLst>
                              <p:cond delay="0"/>
                            </p:stCondLst>
                            <p:childTnLst>
                              <p:par>
                                <p:cTn id="43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4" dur="500" fill="hold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5" dur="500" fill="hold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77" dur="30929" fill="hold"/>
                                        <p:tgtEl>
                                          <p:spTgt spid="8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8" fill="hold">
                      <p:stCondLst>
                        <p:cond delay="indefinite"/>
                      </p:stCondLst>
                      <p:childTnLst>
                        <p:par>
                          <p:cTn id="4379" fill="hold">
                            <p:stCondLst>
                              <p:cond delay="0"/>
                            </p:stCondLst>
                            <p:childTnLst>
                              <p:par>
                                <p:cTn id="43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82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3" fill="hold">
                            <p:stCondLst>
                              <p:cond delay="500"/>
                            </p:stCondLst>
                            <p:childTnLst>
                              <p:par>
                                <p:cTn id="43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6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7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1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2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6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8" fill="hold">
                      <p:stCondLst>
                        <p:cond delay="indefinite"/>
                      </p:stCondLst>
                      <p:childTnLst>
                        <p:par>
                          <p:cTn id="4399" fill="hold">
                            <p:stCondLst>
                              <p:cond delay="0"/>
                            </p:stCondLst>
                            <p:childTnLst>
                              <p:par>
                                <p:cTn id="44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4" fill="hold">
                            <p:stCondLst>
                              <p:cond delay="0"/>
                            </p:stCondLst>
                            <p:childTnLst>
                              <p:par>
                                <p:cTn id="44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16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0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1" fill="hold">
                            <p:stCondLst>
                              <p:cond delay="2500"/>
                            </p:stCondLst>
                            <p:childTnLst>
                              <p:par>
                                <p:cTn id="44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4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5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6" fill="hold">
                      <p:stCondLst>
                        <p:cond delay="indefinite"/>
                      </p:stCondLst>
                      <p:childTnLst>
                        <p:par>
                          <p:cTn id="4427" fill="hold">
                            <p:stCondLst>
                              <p:cond delay="0"/>
                            </p:stCondLst>
                            <p:childTnLst>
                              <p:par>
                                <p:cTn id="44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2" fill="hold">
                            <p:stCondLst>
                              <p:cond delay="0"/>
                            </p:stCondLst>
                            <p:childTnLst>
                              <p:par>
                                <p:cTn id="4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5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99" name=""/>
          <p:cNvSpPr/>
          <p:nvPr/>
        </p:nvSpPr>
        <p:spPr>
          <a:xfrm>
            <a:off x="838080" y="1371600"/>
            <a:ext cx="746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مِنْهُمُ الَّذِينَ يُؤْذُونَ النَّبِيَّ وَيَقُولُونَ هُو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أُذُنٌ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ُلْ أُذُنُ خَيْرٍ لَكُمْ يُؤْمِنُ بِاللَّهِ وَيُؤْمِنُ لِلْمُؤْمِنِينَ وَرَحْمَةٌ لِلَّذِينَ آمَنُوا مِنْكُمْ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...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992320" y="3429000"/>
            <a:ext cx="2108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ارحة السم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7238880" y="3429000"/>
            <a:ext cx="1076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أُذُنٌ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115960" y="3429000"/>
            <a:ext cx="1857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عطي الإذ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295280" y="3429000"/>
            <a:ext cx="1478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معه ق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762120" y="472428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سميَّ (ص) بها إشارة إلى أنه يصغي ويستمع إلى كل ما يقال ويذكر له،للإساءة إليه (ص) ، لكنه سماع لما فيه خيركم  ومصلحتكم وليس لما يضركم ولا ينفعك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36" dur="indefinite" restart="never" nodeType="tmRoot">
          <p:childTnLst>
            <p:seq>
              <p:cTn id="4437" dur="indefinite" nodeType="mainSeq">
                <p:childTnLst>
                  <p:par>
                    <p:cTn id="4438" fill="hold">
                      <p:stCondLst>
                        <p:cond delay="0"/>
                      </p:stCondLst>
                      <p:childTnLst>
                        <p:par>
                          <p:cTn id="4439" fill="hold">
                            <p:stCondLst>
                              <p:cond delay="0"/>
                            </p:stCondLst>
                            <p:childTnLst>
                              <p:par>
                                <p:cTn id="44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2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3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4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46" dur="24033" fill="hold"/>
                                        <p:tgtEl>
                                          <p:spTgt spid="9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7" fill="hold">
                      <p:stCondLst>
                        <p:cond delay="indefinite"/>
                      </p:stCondLst>
                      <p:childTnLst>
                        <p:par>
                          <p:cTn id="4448" fill="hold">
                            <p:stCondLst>
                              <p:cond delay="0"/>
                            </p:stCondLst>
                            <p:childTnLst>
                              <p:par>
                                <p:cTn id="44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51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4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55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9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0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64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5" fill="hold">
                      <p:stCondLst>
                        <p:cond delay="indefinite"/>
                      </p:stCondLst>
                      <p:childTnLst>
                        <p:par>
                          <p:cTn id="4466" fill="hold">
                            <p:stCondLst>
                              <p:cond delay="0"/>
                            </p:stCondLst>
                            <p:childTnLst>
                              <p:par>
                                <p:cTn id="44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1" fill="hold">
                            <p:stCondLst>
                              <p:cond delay="0"/>
                            </p:stCondLst>
                            <p:childTnLst>
                              <p:par>
                                <p:cTn id="4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4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609480" y="129528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َمْ يَأْتِهِمْ نَبَأُ الَّذِينَ مِنْ قَبْلِهِمْ قَوْمِ نُوحٍ وَعَادٍ وَثَمُودَ وَقَوْمِ إِبْرَاهِيمَ وَأَصْحَابِ مَدْيَن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مُؤْتَفِكَات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تَتْهُمْ رُسُلُهُمْ بِالْبَيِّنَاتِ فَمَا كَانَ اللَّهُ لِيَظْلِمَهُمْ وَلَكِنْ كَانُوا أَنْفُسَهُمْ يَظْلِم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417360" y="3429000"/>
            <a:ext cx="206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مُؤْتَفِكَاتِ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914400" y="3429000"/>
            <a:ext cx="1460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نقلب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648320" y="3429000"/>
            <a:ext cx="156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ؤمن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743200" y="3429000"/>
            <a:ext cx="1427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صالح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23920" y="4648320"/>
            <a:ext cx="89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قصود بالمؤتفكات قوم لوط الذين إنقلبت بهم قراهم عاليها سافلها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/>
          <p:cNvPicPr/>
          <p:nvPr/>
        </p:nvPicPr>
        <p:blipFill>
          <a:blip r:embed="rId3"/>
          <a:stretch/>
        </p:blipFill>
        <p:spPr>
          <a:xfrm>
            <a:off x="137160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75" dur="indefinite" restart="never" nodeType="tmRoot">
          <p:childTnLst>
            <p:seq>
              <p:cTn id="4476" dur="indefinite" nodeType="mainSeq">
                <p:childTnLst>
                  <p:par>
                    <p:cTn id="4477" fill="hold">
                      <p:stCondLst>
                        <p:cond delay="0"/>
                      </p:stCondLst>
                      <p:childTnLst>
                        <p:par>
                          <p:cTn id="4478" fill="hold">
                            <p:stCondLst>
                              <p:cond delay="0"/>
                            </p:stCondLst>
                            <p:childTnLst>
                              <p:par>
                                <p:cTn id="44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1" dur="5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2" dur="5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3" dur="5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4" dur="5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86" dur="35840" fill="hold"/>
                                        <p:tgtEl>
                                          <p:spTgt spid="9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7" fill="hold">
                      <p:stCondLst>
                        <p:cond delay="indefinite"/>
                      </p:stCondLst>
                      <p:childTnLst>
                        <p:par>
                          <p:cTn id="4488" fill="hold">
                            <p:stCondLst>
                              <p:cond delay="0"/>
                            </p:stCondLst>
                            <p:childTnLst>
                              <p:par>
                                <p:cTn id="44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93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7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0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5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6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7" fill="hold">
                      <p:stCondLst>
                        <p:cond delay="indefinite"/>
                      </p:stCondLst>
                      <p:childTnLst>
                        <p:par>
                          <p:cTn id="4508" fill="hold">
                            <p:stCondLst>
                              <p:cond delay="0"/>
                            </p:stCondLst>
                            <p:childTnLst>
                              <p:par>
                                <p:cTn id="45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3" fill="hold">
                            <p:stCondLst>
                              <p:cond delay="0"/>
                            </p:stCondLst>
                            <p:childTnLst>
                              <p:par>
                                <p:cTn id="4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/>
          <p:nvPr/>
        </p:nvSpPr>
        <p:spPr>
          <a:xfrm>
            <a:off x="533520" y="16765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رَضُوا بِأَنْ يَكُونُوا مَع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ْخَوَالِف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طُبِعَ عَلَى قُلُوبِهِمْ فَهُمْ لا يَفْقَه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801480" y="3352680"/>
            <a:ext cx="157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ْخَوَالِفِ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895480" y="3352680"/>
            <a:ext cx="1730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تخلف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952880" y="3352680"/>
            <a:ext cx="1739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خائف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838080" y="3352680"/>
            <a:ext cx="1694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هارب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838080" y="45720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خوالف المقصود بهم الذين عُذِروا عن المشاركة في الجهاد من النساء والعجائز والأطفال والمرض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3"/>
          <a:stretch/>
        </p:blipFill>
        <p:spPr>
          <a:xfrm>
            <a:off x="3276720" y="228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7" dur="indefinite" restart="never" nodeType="tmRoot">
          <p:childTnLst>
            <p:seq>
              <p:cTn id="4518" dur="indefinite" nodeType="mainSeq">
                <p:childTnLst>
                  <p:par>
                    <p:cTn id="4519" fill="hold">
                      <p:stCondLst>
                        <p:cond delay="0"/>
                      </p:stCondLst>
                      <p:childTnLst>
                        <p:par>
                          <p:cTn id="4520" fill="hold">
                            <p:stCondLst>
                              <p:cond delay="0"/>
                            </p:stCondLst>
                            <p:childTnLst>
                              <p:par>
                                <p:cTn id="45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23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25" dur="11912" fill="hold"/>
                                        <p:tgtEl>
                                          <p:spTgt spid="9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6" fill="hold">
                      <p:stCondLst>
                        <p:cond delay="indefinite"/>
                      </p:stCondLst>
                      <p:childTnLst>
                        <p:par>
                          <p:cTn id="4527" fill="hold">
                            <p:stCondLst>
                              <p:cond delay="0"/>
                            </p:stCondLst>
                            <p:childTnLst>
                              <p:par>
                                <p:cTn id="4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0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1" fill="hold">
                            <p:stCondLst>
                              <p:cond delay="500"/>
                            </p:stCondLst>
                            <p:childTnLst>
                              <p:par>
                                <p:cTn id="45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4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5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9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0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5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44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5" fill="hold">
                      <p:stCondLst>
                        <p:cond delay="indefinite"/>
                      </p:stCondLst>
                      <p:childTnLst>
                        <p:par>
                          <p:cTn id="4546" fill="hold">
                            <p:stCondLst>
                              <p:cond delay="0"/>
                            </p:stCondLst>
                            <p:childTnLst>
                              <p:par>
                                <p:cTn id="45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1" fill="hold">
                            <p:stCondLst>
                              <p:cond delay="0"/>
                            </p:stCondLst>
                            <p:childTnLst>
                              <p:par>
                                <p:cTn id="4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219320" y="1568520"/>
            <a:ext cx="678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فَرَأَيْتَ الَّذِي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وَلّ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Traditional Arabic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Traditional Arabic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أعْطَى قَلِيلاً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وأكْد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Traditional Arabic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( النجم :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33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34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781680" y="32814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وَلّ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3281400"/>
            <a:ext cx="1627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عر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76920" y="32814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ذه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3276720"/>
            <a:ext cx="1670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ا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781680" y="45007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أَكْد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4500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أخف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4495680"/>
            <a:ext cx="1648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قط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4495680"/>
            <a:ext cx="163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أخ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47440" y="5486400"/>
            <a:ext cx="76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أكدى : أي الذي أعطى قليلاً من المال ثم أمسك أشد المس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419720" y="1219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" dur="7785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14400" y="11430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 عَلَيْهِ النَّشْأَةَ الْأُخْرَى </a:t>
            </a:r>
            <a:r>
              <a:rPr b="0" lang="ar-SA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أَنَّهُ هُوَ أَغْنَى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أَقْنَى </a:t>
            </a:r>
            <a:r>
              <a:rPr b="0" lang="ar-SA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هُ هُوَ رَبُّ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شِّعْرَى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 ا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8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10280" y="2590920"/>
            <a:ext cx="1238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أَقْن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76920" y="2590920"/>
            <a:ext cx="1939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عطى ما يبق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590920"/>
            <a:ext cx="1981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فق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590920"/>
            <a:ext cx="1936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خ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344484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ومعنى القنية ما يدوم من الأموال ويبقى ببقاء نفسه كالدار والبستان والحيوا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899400" y="4576680"/>
            <a:ext cx="1547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شِّعْر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76920" y="4572000"/>
            <a:ext cx="19303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نجم المضي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4576680"/>
            <a:ext cx="1911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واك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4576680"/>
            <a:ext cx="1927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نو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8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4" dur="13845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80"/>
                            </p:stCondLst>
                            <p:childTnLst>
                              <p:par>
                                <p:cTn id="4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480"/>
                            </p:stCondLst>
                            <p:childTnLst>
                              <p:par>
                                <p:cTn id="4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980"/>
                            </p:stCondLst>
                            <p:childTnLst>
                              <p:par>
                                <p:cTn id="4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7:47:59Z</dcterms:created>
  <dc:creator/>
  <dc:description/>
  <dc:language>en-US</dc:language>
  <cp:lastModifiedBy>ALI</cp:lastModifiedBy>
  <dcterms:modified xsi:type="dcterms:W3CDTF">2008-09-21T07:01:32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