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A3B-45F2-4CF9-B3B1-8B2147EA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FA3-3E75-4929-93C6-45A5CD48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9A1-296C-4951-88BA-6A866DE0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C57F-D841-4122-815D-CEBE6989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2702-672F-4E7C-8FB1-3C8711AE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B006-7F51-4FA0-A368-9D68E406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C116-5898-4C05-A7CF-4C1CEB8E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B671-8A33-4517-8D34-E7724945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C634-BAF1-4A13-AAE1-5B29C3DA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70D4-87FB-46D0-809F-B1DEF60D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8D8F-3AA1-4A59-85B0-55E1F4D5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717-2B8E-42CA-B634-1EB779B1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FF9D-3415-4306-9FEB-58487D79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93EC-40D0-4171-B6D1-3332E59D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FB9F-604E-4EE9-B400-DED1C129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708E-12A8-41F2-A41C-87B0E963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22D8-66CE-497A-A76B-7CEBFB94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75D-70D1-46F2-B8FA-D408EA52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AB8-60C3-4675-9E54-633EA91C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20B-A61B-4377-A8DA-24BF0CDB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9C4-A051-431A-B916-ECE7D8E7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DBF-550E-42C7-B2B3-AE641C5C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C73-2F02-43B3-BE50-31C53B9B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91C-D1F6-4C1C-825A-2622A738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E608-6171-45D7-9DCF-14DE3714E49F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D5D8-B11A-46C3-AB92-5ED2C569ADA7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يَصِلُونَ مَا أَمَرَ اللَّهُ بِهِ أَنْ يُوصَل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15238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ؤْتَفِكَة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غَشَّاهَا مَا غَشَّى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3429000"/>
            <a:ext cx="123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3429000"/>
            <a:ext cx="168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429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ق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72428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مؤتفكة هم القرى المنقلبة عن الإيمان ،اللهُ سبحانه أسقط قراهم وخسفها إلى الأرض بقلبها وشملها وأحاط بها من العذاب ما شملها وأحاط ب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653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38080" y="19810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ك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3352680"/>
            <a:ext cx="148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4343400"/>
            <a:ext cx="149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33526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ِع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3352680"/>
            <a:ext cx="1725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35268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د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3434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ك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34340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434340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3434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559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4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20"/>
                            </p:stCondLst>
                            <p:childTnLst>
                              <p:par>
                                <p:cTn id="5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2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72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94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92400" y="3505320"/>
            <a:ext cx="159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5053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35053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كب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05320"/>
            <a:ext cx="1698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جد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339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62120" y="1828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كَذَّبُوا وَاتَّبَعُوا أَهْوَاءَهُمْ وَكُلُّ أَم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ٌ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81280"/>
            <a:ext cx="122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3581280"/>
            <a:ext cx="146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اب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581280"/>
            <a:ext cx="1486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58128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62120" y="4495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كذَّبوا الحقَّ ومعجزاته واتبَّعوا رغباتهم ، والمراد أن كل الأمور والأعمال ثابتة وكل عمل وأمر سيذهب إلى مستقره ويُعلم إذا كان حقٌ أو باطل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0449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4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09480" y="2133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قَدْ جَاءَهُمْ مِنَ الْأَنْبَاءِ مَا فِيه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657600"/>
            <a:ext cx="1262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ع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65760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كم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365760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م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940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حَمَلْنَاهُ عَلَى ذَاتِ أَلْوَاحٍ 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581280"/>
            <a:ext cx="1479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35812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581280"/>
            <a:ext cx="153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ط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5382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8580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نْزِعُ النَّاسَ كَأَنَّهُمْ أَعْجَازُ نَخْل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358128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58128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ل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581280"/>
            <a:ext cx="158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س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358128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ذ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3" dur="7889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5800" y="2057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ُلْقِيَ الذِّكْرُ عَلَيْهِ مِنْ بَيْنِنَا بَلْ هُوَ كَذَّابٌ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أَشِ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3505320"/>
            <a:ext cx="1359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شِ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كَّب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تا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505320"/>
            <a:ext cx="162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8" dur="721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14400" y="12193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نَبِّئْهُمْ أَنَّ الْمَاءَ قِسْمَةٌ بَيْنَهُمْ كُلُّ شِرْب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7432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267080"/>
            <a:ext cx="3976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ضره أهله لا يحضر سوا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743200"/>
            <a:ext cx="394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تي شربهم لعند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3505320"/>
            <a:ext cx="3965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ع بالتساوي لكل النا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2120" y="5029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ن الماء قسمةٌ بينهم وبين الناقة وكل قوم لهم حصتهم ونصيبهم من الماء ولا يحق لأحد آخر الحضور والشرب منها وكلٌ يذهب حيث نصيبه من الشر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139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85800" y="1752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أَرْسَلْنَا عَلَيْهِمْ صَيْحَةً وَاحِدَةً فَكَانُوا كَهَشِيم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844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3505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حظ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350532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غ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350532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لف الياب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45878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أصبحوا بعد الصيحة كالشجرالمتكسر والنبات اليابس ونحوه مما يجمعه صاحب الحظيرة لماشيت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1390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00"/>
                            </p:stCondLst>
                            <p:childTnLst>
                              <p:par>
                                <p:cTn id="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600"/>
                            </p:stCondLst>
                            <p:childTnLst>
                              <p:par>
                                <p:cTn id="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100"/>
                            </p:stCondLst>
                            <p:childTnLst>
                              <p:par>
                                <p:cTn id="9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600"/>
                            </p:stCondLst>
                            <p:childTnLst>
                              <p:par>
                                <p:cTn id="9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تَسْأَلُهُمْ أَجْراً فَهُمْ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ثْقَ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طو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505320"/>
            <a:ext cx="126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5053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57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948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مَقْعَدِ صِدْقٍ عِنْدَ مَلِيك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3657600"/>
            <a:ext cx="138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657600"/>
            <a:ext cx="1603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365760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عف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3040" y="3657600"/>
            <a:ext cx="218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سع المغ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7" dur="6165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480"/>
                            </p:stCondLst>
                            <p:childTnLst>
                              <p:par>
                                <p:cTn id="9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8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480"/>
                            </p:stCondLst>
                            <p:childTnLst>
                              <p:par>
                                <p:cTn id="9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980"/>
                            </p:stCondLst>
                            <p:childTnLst>
                              <p:par>
                                <p:cTn id="9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720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شَّمْسُ وَالْقَمَر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7339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س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733920"/>
            <a:ext cx="136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ميز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7339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0" dur="4075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فَاكِهَةٌ وَالنَّخْلُ ذَات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02280" y="3505320"/>
            <a:ext cx="140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الثم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3505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 البل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3680" y="3505320"/>
            <a:ext cx="230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وراق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0" dur="6270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940"/>
                            </p:stCondLst>
                            <p:childTnLst>
                              <p:par>
                                <p:cTn id="1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940"/>
                            </p:stCondLst>
                            <p:childTnLst>
                              <p:par>
                                <p:cTn id="10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066680" y="16765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حَبُّ ذُ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الْعَص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رَّيْحَان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3276720"/>
            <a:ext cx="1334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عَص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2767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ش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3276720"/>
            <a:ext cx="173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وا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4572000"/>
            <a:ext cx="42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ما هو كغلاف للحب وهو قش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0" dur="3919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2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3520" y="2057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خَلَقَ الْجَانَّ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نَا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0" y="380988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809880"/>
            <a:ext cx="164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 خال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3809880"/>
            <a:ext cx="175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3809880"/>
            <a:ext cx="165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لص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8" dur="8830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320"/>
                            </p:stCondLst>
                            <p:childTnLst>
                              <p:par>
                                <p:cTn id="118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8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320"/>
                            </p:stCondLst>
                            <p:childTnLst>
                              <p:par>
                                <p:cTn id="120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094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ْبَحْرَيْنِ يَلْتَق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3657600"/>
            <a:ext cx="143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3657600"/>
            <a:ext cx="163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ط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65760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متد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3" dur="4075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57200" y="1447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يْنَه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04812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39625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304812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ج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048120"/>
            <a:ext cx="1704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048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39625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عديا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962520"/>
            <a:ext cx="1631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ظل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3962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464832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 بينهما حاجز يمنع كل منهما من التعدي على الأخر لا البحر المالح يتعدى على البحر العذب فيغشيه ويبدله مالحاً وتبطل بذلك الحياة  ، ويحجز البحرالعذب أن يزيد في الإنصباب على البحر المالح فيبدله ماءً عذب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تبطل بذلك مصلحة ملوحته من تطهير الهواء وغي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46483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7" dur="4494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2320"/>
                            </p:stCondLst>
                            <p:childTnLst>
                              <p:par>
                                <p:cTn id="1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820"/>
                            </p:stCondLst>
                            <p:childTnLst>
                              <p:par>
                                <p:cTn id="1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320"/>
                            </p:stCondLst>
                            <p:childTnLst>
                              <p:par>
                                <p:cTn id="1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09480" y="19810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هُ الْجَوَار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بَحْرِ كَالْأَعْل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25600" y="358128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3581280"/>
            <a:ext cx="177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ن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35812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3581280"/>
            <a:ext cx="1752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رف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8" dur="663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9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1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4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9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09480" y="2209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رْسَلُ عَلَيْك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نَارٍ وَنُحَاسٌ فَلا تَنْتَصِر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10280" y="4038480"/>
            <a:ext cx="1241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40384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40384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03848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م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2" dur="10502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500"/>
                            </p:stCondLst>
                            <p:childTnLst>
                              <p:par>
                                <p:cTn id="146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2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6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نْشَقَّتِ السَّمَاءُ فَكَانَتْ وَرْد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97880" y="3505320"/>
            <a:ext cx="150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50532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د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35053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505320"/>
            <a:ext cx="159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دخ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25600" y="4572000"/>
            <a:ext cx="64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دهان المراد به الأديم الأحمر وهو الجلد المصبو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0" dur="883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 هُوَ إِلَّا وَحْيٌ يُوحَى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َّمَهُ شَدِيدُ الْقُ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ُو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سْت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3505320"/>
            <a:ext cx="126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505320"/>
            <a:ext cx="180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ةٍ وحصافة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84160" y="3505320"/>
            <a:ext cx="206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فٍ و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5053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زنٍ وألم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495680"/>
            <a:ext cx="74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بذو مرة جبريل (ع) والمعنى أنه ذوشدَّة في جنب الله وهو ذو حصافة في رأيه وعقل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133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0880" y="1752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عْرَفُ الْمُجْرِمُونَ بِسِيمَاهُمْ فَيُؤْخَذ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ْأَقْد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70440" y="3581280"/>
            <a:ext cx="1680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3581280"/>
            <a:ext cx="187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وج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15160" y="3581280"/>
            <a:ext cx="275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عر مقدم الرأ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3581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2" dur="8464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740"/>
                            </p:stCondLst>
                            <p:childTnLst>
                              <p:par>
                                <p:cTn id="1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62120" y="15066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ِمَنْ خَافَ مَقَامَ رَبِّهِ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َوَات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34290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3429000"/>
            <a:ext cx="161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و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29200" y="3429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3429000"/>
            <a:ext cx="172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غ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8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8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8" dur="1640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2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700"/>
                            </p:stCondLst>
                            <p:childTnLst>
                              <p:par>
                                <p:cTn id="16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1200"/>
                            </p:stCondLst>
                            <p:childTnLst>
                              <p:par>
                                <p:cTn id="1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2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0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1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2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5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6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3352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ن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سٌ قَبْلَهُمْ وَلا جَانّ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81600" y="2743200"/>
            <a:ext cx="275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5181480"/>
            <a:ext cx="23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65360" y="5181480"/>
            <a:ext cx="1508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ضض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848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لمس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505320"/>
            <a:ext cx="428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لا يردن غير أزواج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3164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2743200"/>
            <a:ext cx="430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ور من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9" dur="1300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85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2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440"/>
                            </p:stCondLst>
                            <p:childTnLst>
                              <p:par>
                                <p:cTn id="17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440"/>
                            </p:stCondLst>
                            <p:childTnLst>
                              <p:par>
                                <p:cTn id="17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940"/>
                            </p:stCondLst>
                            <p:childTnLst>
                              <p:par>
                                <p:cTn id="17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2440"/>
                            </p:stCondLst>
                            <p:childTnLst>
                              <p:par>
                                <p:cTn id="17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940"/>
                            </p:stCondLst>
                            <p:childTnLst>
                              <p:par>
                                <p:cTn id="1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38080" y="127800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 دُونِهِمَا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00800" y="2971800"/>
            <a:ext cx="161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886200"/>
            <a:ext cx="4265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تا الخضرة المائلة ل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3021120"/>
            <a:ext cx="42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عهما على مد ال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8006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ما أخضر من ال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2096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0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6" dur="15465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500"/>
                            </p:stCondLst>
                            <p:childTnLst>
                              <p:par>
                                <p:cTn id="17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1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مَا عَيْنَانِ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نَضَّاخ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3505320"/>
            <a:ext cx="145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نَضَّاخ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95480" y="35053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وار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3505320"/>
            <a:ext cx="155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تج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13716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9" dur="4285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500"/>
                            </p:stCondLst>
                            <p:childTnLst>
                              <p:par>
                                <p:cTn id="1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ُور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ْخِي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96920" y="3429000"/>
            <a:ext cx="184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3429000"/>
            <a:ext cx="189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و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342900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رم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3429000"/>
            <a:ext cx="189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0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1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3" dur="5382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500"/>
                            </p:stCondLst>
                            <p:childTnLst>
                              <p:par>
                                <p:cTn id="1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0948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ُتَّكِئِي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خُض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ِس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28480" y="4267080"/>
            <a:ext cx="1524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4267080"/>
            <a:ext cx="178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در الوج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90600" y="4267080"/>
            <a:ext cx="1861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ب مو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4267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ٍ  ملو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3429000"/>
            <a:ext cx="1265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34290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3429000"/>
            <a:ext cx="18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ب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5181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 كل ما ندر وجوده ولا يمكن وصفه والتعبير عنه يقال له عبقر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0" dur="7889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09480" y="1600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رُجَّتِ الْأَرْضُ رَجًّ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جِبَالُ بَس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3505320"/>
            <a:ext cx="1303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3505320"/>
            <a:ext cx="1698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فتَّ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350532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دا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350532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28195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0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4" dur="700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كَانَت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مُنْبَث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3276720"/>
            <a:ext cx="132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81680" y="4191120"/>
            <a:ext cx="133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بَثّ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66680" y="32767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با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71800" y="4191120"/>
            <a:ext cx="1644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327672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ب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3276720"/>
            <a:ext cx="162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ر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66680" y="419112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قل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4191120"/>
            <a:ext cx="155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0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9" dur="5956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76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سُرُ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0" y="36576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52880" y="36576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س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8120" y="3657600"/>
            <a:ext cx="1639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1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3" dur="3658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1905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مَا يَ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5760" y="350532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505320"/>
            <a:ext cx="164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جادل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167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كذب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صدق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28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نْهَا وَ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59000" y="3200400"/>
            <a:ext cx="162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4114800"/>
            <a:ext cx="140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32004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يبهم ص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32004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3200400"/>
            <a:ext cx="182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76920" y="4114800"/>
            <a:ext cx="1855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ذهب عقول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41148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يبهم أل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11480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4" dur="5956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0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560"/>
                            </p:stCondLst>
                            <p:childTnLst>
                              <p:par>
                                <p:cTn id="21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1560"/>
                            </p:stCondLst>
                            <p:childTnLst>
                              <p:par>
                                <p:cTn id="216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2060"/>
                            </p:stCondLst>
                            <p:childTnLst>
                              <p:par>
                                <p:cTn id="2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6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7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2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3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320"/>
                            </p:stCondLst>
                            <p:childTnLst>
                              <p:par>
                                <p:cTn id="2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820"/>
                            </p:stCondLst>
                            <p:childTnLst>
                              <p:par>
                                <p:cTn id="2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320"/>
                            </p:stCondLst>
                            <p:childTnLst>
                              <p:par>
                                <p:cTn id="21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820"/>
                            </p:stCondLst>
                            <p:childTnLst>
                              <p:par>
                                <p:cTn id="2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8580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سِد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3320" y="3276720"/>
            <a:ext cx="145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3276720"/>
            <a:ext cx="185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طوع الشو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3276720"/>
            <a:ext cx="1643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 ال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3276720"/>
            <a:ext cx="1797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وكه صغ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0" dur="3553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23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1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2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7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71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2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مَن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34320" y="3352680"/>
            <a:ext cx="1239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63400" y="4191120"/>
            <a:ext cx="133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ن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33526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3352680"/>
            <a:ext cx="167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66680" y="419112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419112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4191120"/>
            <a:ext cx="174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0384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fill="hold">
                      <p:stCondLst>
                        <p:cond delay="0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5" dur="4128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500"/>
                            </p:stCondLst>
                            <p:childTnLst>
                              <p:par>
                                <p:cTn id="2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أَتْرَاب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3352680"/>
            <a:ext cx="1224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4267080"/>
            <a:ext cx="119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تْرَاب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10640" y="4267080"/>
            <a:ext cx="252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ات بالس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195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غنج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3352680"/>
            <a:ext cx="1676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 الباد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8080" y="335268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42670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يكبر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4267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جو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1911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0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7" dur="303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500"/>
                            </p:stCondLst>
                            <p:childTnLst>
                              <p:par>
                                <p:cTn id="2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0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1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2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7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04920" y="1981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ظِلّ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429000"/>
            <a:ext cx="138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 اس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76920" y="3429000"/>
            <a:ext cx="176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 م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6920" y="3429000"/>
            <a:ext cx="213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 الحرا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9" dur="4337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3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7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2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7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انُوا يُصِرُّو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عَظ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34320" y="32004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3200400"/>
            <a:ext cx="1638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قض الع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71800" y="320040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3200400"/>
            <a:ext cx="1660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4038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0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9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658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3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8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3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580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آكِلُونَ مِنْ شَجَر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350532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5029200"/>
            <a:ext cx="394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 وكريه الرائ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00200" y="4267080"/>
            <a:ext cx="391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حرق البط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3505320"/>
            <a:ext cx="392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 وحم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0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3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5" dur="6949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500"/>
                            </p:stCondLst>
                            <p:childTnLst>
                              <p:par>
                                <p:cTn id="25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57200" y="1676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شَارِبُونَ شُرْب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77120" y="29448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4800600"/>
            <a:ext cx="4038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بل المصابة بمرض العُطا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28800" y="2944800"/>
            <a:ext cx="400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ائهون في 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3859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يوانات الشار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4" dur="3814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3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2180"/>
                            </p:stCondLst>
                            <p:childTnLst>
                              <p:par>
                                <p:cTn id="25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0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6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1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1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2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33520" y="1905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نَشَاءُ لَجَعَلْنَاهُ حُطَاماً فَظَل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50532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عج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66880" y="35053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ند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156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0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9666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7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9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560"/>
                            </p:stCondLst>
                            <p:childTnLst>
                              <p:par>
                                <p:cTn id="26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1560"/>
                            </p:stCondLst>
                            <p:childTnLst>
                              <p:par>
                                <p:cTn id="263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8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0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2560"/>
                            </p:stCondLst>
                            <p:childTnLst>
                              <p:par>
                                <p:cTn id="26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3060"/>
                            </p:stCondLst>
                            <p:childTnLst>
                              <p:par>
                                <p:cTn id="26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5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8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1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2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3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7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8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91440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نَحْنُ مَحْرُو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33360" y="3581280"/>
            <a:ext cx="169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358128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خاس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358128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ح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3581280"/>
            <a:ext cx="1743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لز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0" dur="indefinite" restart="never" nodeType="tmRoot">
          <p:childTnLst>
            <p:seq>
              <p:cTn id="2671" dur="indefinite" nodeType="mainSeq">
                <p:childTnLst>
                  <p:par>
                    <p:cTn id="2672" fill="hold">
                      <p:stCondLst>
                        <p:cond delay="0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8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0" dur="7628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09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0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1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4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5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6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9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0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1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24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5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6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43000" y="15238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لَقَدْ رَآَهُ نَزْلَةً أُخْرَى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نْد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87160" y="3048120"/>
            <a:ext cx="240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048120"/>
            <a:ext cx="410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وق السماء الساب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886200"/>
            <a:ext cx="413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4724280"/>
            <a:ext cx="414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قام الأخير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830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8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8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8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5800" y="1828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َنْتُمْ أَنْزَلْتُمُوهُ مِن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نَحْنُ الْمُنْزِ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9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3886200"/>
            <a:ext cx="141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0060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ح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886200"/>
            <a:ext cx="1681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7" dur="9875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67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8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9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2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3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4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9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762120" y="18288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فَرَأَيْتُمُ النَّارَ الَّت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50520" y="3352680"/>
            <a:ext cx="126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3352680"/>
            <a:ext cx="160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د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335268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352680"/>
            <a:ext cx="1622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2670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0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3" dur="5956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حْنُ جَعَلْنَاهَا تَذْكِرَةً وَمَتَاعا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3352680"/>
            <a:ext cx="1503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42670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بأرض ق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33526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ين لا يخافون شيئ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181480"/>
            <a:ext cx="382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الأقوي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fill="hold">
                      <p:stCondLst>
                        <p:cond delay="0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9" dur="8098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4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5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6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2180"/>
                            </p:stCondLst>
                            <p:childTnLst>
                              <p:par>
                                <p:cTn id="2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بِهَذَا الْحَدِيثِ 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581280"/>
            <a:ext cx="1468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358128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هاو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76920" y="358128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19320" y="358128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ز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4" dur="indefinite" restart="never" nodeType="tmRoot">
          <p:childTnLst>
            <p:seq>
              <p:cTn id="2865" dur="indefinite" nodeType="mainSeq">
                <p:childTnLst>
                  <p:par>
                    <p:cTn id="2866" fill="hold">
                      <p:stCondLst>
                        <p:cond delay="0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0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2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4" dur="6949" fill="hold"/>
                                        <p:tgtEl>
                                          <p:spTgt spid="6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8380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وْلا إِنْ كُنْتُمْ غَيْر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350532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3505320"/>
            <a:ext cx="1590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زي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00600" y="3505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89548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لي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3" dur="indefinite" restart="never" nodeType="tmRoot">
          <p:childTnLst>
            <p:seq>
              <p:cTn id="2904" dur="indefinite" nodeType="mainSeq">
                <p:childTnLst>
                  <p:par>
                    <p:cTn id="2905" fill="hold">
                      <p:stCondLst>
                        <p:cond delay="0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5" dur="7889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500"/>
                            </p:stCondLst>
                            <p:childTnLst>
                              <p:par>
                                <p:cTn id="2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7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8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9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4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5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9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09480" y="12193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آثَارِهِمْ بِرُسُلِنَا وَقَفَّيْنَا بِعِيسَى ابْنِ مَرْيَمَ وَآتَيْنَاهُ الْأِنْجِيلَ وَجَعَلْنَا فِي قُلُوبِ الَّذِينَ اتَّبَعُوهُ رَأْفَةً وَرَحْمَةً وَرَهْبَانِيّ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تَبْنَاهَا عَلَيْهِمْ إِلَّا ابْتِغَاءَ رِضْوَانِ اللَّهِ فَمَا رَعَوْهَا حَقَّ رِعَايَتِهَا فَآتَيْنَا الَّذِينَ آمَنُوا مِنْهُمْ أَجْرَهُمْ وَكَثِيرٌ مِنْ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ديد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34320" y="4572000"/>
            <a:ext cx="1341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105520" y="3657600"/>
            <a:ext cx="158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تبع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65760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ث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رسل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4572000"/>
            <a:ext cx="1603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ترع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57200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د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19320" y="457200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101960" y="541008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cs typeface="Arial"/>
              </a:rPr>
              <a:t>الابتداع هو إتيان ما لم يسبق إليه في دين أو سنة أو صنعة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0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0" dur="67971" fill="hold"/>
                                        <p:tgtEl>
                                          <p:spTgt spid="6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76212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صْحَابُ الْجَنَّةِ يَوْمَئِذٍ خَيْرٌ مُسْتَقَرّاً وَأَحْسَن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352680"/>
            <a:ext cx="1078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19520" y="3352680"/>
            <a:ext cx="2171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الإسترا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105520" y="3352680"/>
            <a:ext cx="2000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كل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21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اب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4876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يل إسم مكان الاستقرار ومعناه ظاهر من القيلولة اي الاستراحة في منتصف النهار سواء معها نوم أم لا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4" dur="indefinite" restart="never" nodeType="tmRoot">
          <p:childTnLst>
            <p:seq>
              <p:cTn id="3015" dur="indefinite" nodeType="mainSeq">
                <p:childTnLst>
                  <p:par>
                    <p:cTn id="3016" fill="hold">
                      <p:stCondLst>
                        <p:cond delay="0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2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4" dur="9405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7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2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fill="hold">
                            <p:stCondLst>
                              <p:cond delay="1520"/>
                            </p:stCondLst>
                            <p:childTnLst>
                              <p:par>
                                <p:cTn id="30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2520"/>
                            </p:stCondLst>
                            <p:childTnLst>
                              <p:par>
                                <p:cTn id="30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59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4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9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0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1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560"/>
                            </p:stCondLst>
                            <p:childTnLst>
                              <p:par>
                                <p:cTn id="3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838080" y="1523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عَاداً وَثَمُودَا وَأَصْحَاب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ُرُوناً بَيْنَ ذَلِكَ كَث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ر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876920" y="34290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429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7" dur="indefinite" restart="never" nodeType="tmRoot">
          <p:childTnLst>
            <p:seq>
              <p:cTn id="3078" dur="indefinite" nodeType="mainSeq">
                <p:childTnLst>
                  <p:par>
                    <p:cTn id="3079" fill="hold">
                      <p:stCondLst>
                        <p:cond delay="0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3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5" dur="9405" fill="hold"/>
                                        <p:tgtEl>
                                          <p:spTgt spid="6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1" fill="hold">
                            <p:stCondLst>
                              <p:cond delay="500"/>
                            </p:stCondLst>
                            <p:childTnLst>
                              <p:par>
                                <p:cTn id="30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4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5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6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740"/>
                            </p:stCondLst>
                            <p:childTnLst>
                              <p:par>
                                <p:cTn id="30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1740"/>
                            </p:stCondLst>
                            <p:childTnLst>
                              <p:par>
                                <p:cTn id="310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2740"/>
                            </p:stCondLst>
                            <p:childTnLst>
                              <p:par>
                                <p:cTn id="31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2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3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2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3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6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7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41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2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3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906120" cy="73152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838080" y="1752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ّاً ضَرَبْنَا لَهُ الْأَمْثَالَ وَكُلّ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تْب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05720" y="3657600"/>
            <a:ext cx="140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ك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724280" y="3657600"/>
            <a:ext cx="158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ر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36576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س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5" dur="indefinite" restart="never" nodeType="tmRoot">
          <p:childTnLst>
            <p:seq>
              <p:cTn id="3146" dur="indefinite" nodeType="mainSeq">
                <p:childTnLst>
                  <p:par>
                    <p:cTn id="3147" fill="hold">
                      <p:stCondLst>
                        <p:cond delay="0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5" dur="956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500"/>
                            </p:stCondLst>
                            <p:childTnLst>
                              <p:par>
                                <p:cTn id="3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0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990720" y="14479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َّذِينَ يَقُولُونَ رَبَّنَا اصْرِفْ عَنَّا عَذَابَ جَهَنَّمَ إِنَّ عَذَابَهَا كَان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0" y="3200400"/>
            <a:ext cx="134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32004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ز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71800" y="3200400"/>
            <a:ext cx="162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ج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687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غرام  ما ينوب الانسان من شدة أو مصيبة فيلازمه لا يفارقه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8" dur="indefinite" restart="never" nodeType="tmRoot">
          <p:childTnLst>
            <p:seq>
              <p:cTn id="3189" dur="indefinite" nodeType="mainSeq">
                <p:childTnLst>
                  <p:par>
                    <p:cTn id="3190" fill="hold">
                      <p:stCondLst>
                        <p:cond delay="0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4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6" dur="1259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400"/>
                            </p:stCondLst>
                            <p:childTnLst>
                              <p:par>
                                <p:cTn id="3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5" fill="hold">
                            <p:stCondLst>
                              <p:cond delay="1400"/>
                            </p:stCondLst>
                            <p:childTnLst>
                              <p:par>
                                <p:cTn id="32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8" dur="8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9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6" dur="8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7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fill="hold">
                            <p:stCondLst>
                              <p:cond delay="2400"/>
                            </p:stCondLst>
                            <p:childTnLst>
                              <p:par>
                                <p:cTn id="323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3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4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5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8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0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fill="hold">
                            <p:stCondLst>
                              <p:cond delay="28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6680" y="1523880"/>
            <a:ext cx="7010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كُمُ الذَّكَرُ وَلَهُ الْأُنْث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ِلْكَ إِذاً قِسْمَة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429000"/>
            <a:ext cx="1407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3429000"/>
            <a:ext cx="158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ئ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1504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429000"/>
            <a:ext cx="1525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ط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867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8380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ُولَئِكَ يُجْزَوْن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ea typeface="Arial"/>
              </a:rPr>
              <a:t> الْغُرْفَة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مَا صَبَرُوا وَيُلَقَّوْنَ فِيهَا تَحِيَّةً وَسَل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0" y="365760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ُرْفَة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3808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رجة الع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876920" y="3657600"/>
            <a:ext cx="1812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ص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95480" y="36576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1" dur="indefinite" restart="never" nodeType="tmRoot">
          <p:childTnLst>
            <p:seq>
              <p:cTn id="3262" dur="indefinite" nodeType="mainSeq">
                <p:childTnLst>
                  <p:par>
                    <p:cTn id="3263" fill="hold">
                      <p:stCondLst>
                        <p:cond delay="0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7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9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1" dur="1165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0" fill="hold">
                            <p:stCondLst>
                              <p:cond delay="500"/>
                            </p:stCondLst>
                            <p:childTnLst>
                              <p:par>
                                <p:cTn id="3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2" dur="8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3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0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1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2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5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6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7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0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1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2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685800" y="1676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هُمْ و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934320" y="3200400"/>
            <a:ext cx="131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47120" y="5486400"/>
            <a:ext cx="177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َ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5486400"/>
            <a:ext cx="182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ا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895480" y="54864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رض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54864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س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28800" y="3200400"/>
            <a:ext cx="440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لقوا على وجوه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28800" y="3962520"/>
            <a:ext cx="4443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عذبوا في ال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4724280"/>
            <a:ext cx="448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قطوا في جه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4" dur="indefinite" restart="never" nodeType="tmRoot">
          <p:childTnLst>
            <p:seq>
              <p:cTn id="3325" dur="indefinite" nodeType="mainSeq">
                <p:childTnLst>
                  <p:par>
                    <p:cTn id="3326" fill="hold">
                      <p:stCondLst>
                        <p:cond delay="0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0" dur="8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1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7" dur="4337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8" fill="hold">
                      <p:stCondLst>
                        <p:cond delay="indefinite"/>
                      </p:stCondLst>
                      <p:childTnLst>
                        <p:par>
                          <p:cTn id="3339" fill="hold">
                            <p:stCondLst>
                              <p:cond delay="0"/>
                            </p:stCondLst>
                            <p:childTnLst>
                              <p:par>
                                <p:cTn id="3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0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1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2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140"/>
                            </p:stCondLst>
                            <p:childTnLst>
                              <p:par>
                                <p:cTn id="3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1740"/>
                            </p:stCondLst>
                            <p:childTnLst>
                              <p:par>
                                <p:cTn id="3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600"/>
                            </p:stCondLst>
                            <p:childTnLst>
                              <p:par>
                                <p:cTn id="3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100"/>
                            </p:stCondLst>
                            <p:childTnLst>
                              <p:par>
                                <p:cTn id="3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2100"/>
                            </p:stCondLst>
                            <p:childTnLst>
                              <p:par>
                                <p:cTn id="34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6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8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1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6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33520" y="1905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تَبْنُونَ بِكُلِّ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آيَة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010280" y="3124080"/>
            <a:ext cx="119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00920" y="5410080"/>
            <a:ext cx="130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676520" y="3809880"/>
            <a:ext cx="48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 المرتف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676520" y="3124080"/>
            <a:ext cx="480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رض الخض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76520" y="4495680"/>
            <a:ext cx="480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فيه 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05320" y="54100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ل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54100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خر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784520" y="5410080"/>
            <a:ext cx="141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ضيّ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0" dur="indefinite" restart="never" nodeType="tmRoot">
          <p:childTnLst>
            <p:seq>
              <p:cTn id="3431" dur="indefinite" nodeType="mainSeq">
                <p:childTnLst>
                  <p:par>
                    <p:cTn id="3432" fill="hold">
                      <p:stCondLst>
                        <p:cond delay="0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8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0" dur="5956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fill="hold">
                            <p:stCondLst>
                              <p:cond delay="1020"/>
                            </p:stCondLst>
                            <p:childTnLst>
                              <p:par>
                                <p:cTn id="34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2020"/>
                            </p:stCondLst>
                            <p:childTnLst>
                              <p:par>
                                <p:cTn id="3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1" dur="8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2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0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3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8380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نْحِتُونَ مِنَ الْجِبَالِ بُيُوت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01920" y="342900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0400" y="342900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ط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429000"/>
            <a:ext cx="1679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ارغ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371600" y="342900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fill="hold">
                      <p:stCondLst>
                        <p:cond delay="0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4" dur="5956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500"/>
                            </p:stCondLst>
                            <p:childTnLst>
                              <p:par>
                                <p:cTn id="3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3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4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5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780"/>
                            </p:stCondLst>
                            <p:childTnLst>
                              <p:par>
                                <p:cTn id="3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9" dur="8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0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1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1780"/>
                            </p:stCondLst>
                            <p:childTnLst>
                              <p:par>
                                <p:cTn id="35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2280"/>
                            </p:stCondLst>
                            <p:childTnLst>
                              <p:par>
                                <p:cTn id="3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2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66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7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8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1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2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3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7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8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762120" y="16002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َّا يَسْجُدُوا لِلَّهِ الَّذِي يُخْرِج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سَّمَاوَاتِ وَالْأَرْضِ وَيَعْلَمُ مَا تُخْفُونَ وَمَا تُعْل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81680" y="3276720"/>
            <a:ext cx="1354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ت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00600" y="3276720"/>
            <a:ext cx="173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مط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سر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462276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بء استعارة كأن الأشياء مخبأة مستورة تحت أطباق العدم ،فيخرجها الله تعالى من العدم إلى الوجود واحداً بعد الآخ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0" dur="indefinite" restart="never" nodeType="tmRoot">
          <p:childTnLst>
            <p:seq>
              <p:cTn id="3581" dur="indefinite" nodeType="mainSeq">
                <p:childTnLst>
                  <p:par>
                    <p:cTn id="3582" fill="hold">
                      <p:stCondLst>
                        <p:cond delay="0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0" dur="13218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1" fill="hold">
                      <p:stCondLst>
                        <p:cond delay="indefinite"/>
                      </p:stCondLst>
                      <p:childTnLst>
                        <p:par>
                          <p:cTn id="3592" fill="hold">
                            <p:stCondLst>
                              <p:cond delay="0"/>
                            </p:stCondLst>
                            <p:childTnLst>
                              <p:par>
                                <p:cTn id="35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-457200" y="-1522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838080" y="11430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ِيلَ لَهَا ادْخُلِي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مَّا رَأَتْهُ حَسِبَتْه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شَفَتْ عَنْ سَاقَيْهَا قَالَ إِنَّهُ صَرْحٌ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لَتْ رَبِّ إِنِّي ظَلَمْتُ نَفْسِي وَأَسْلَمْتُ مَعَ سُلَيْمَانَ لِلَّهِ رَبِّ الْعَالَم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011000" y="5410080"/>
            <a:ext cx="129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086600" y="3886200"/>
            <a:ext cx="116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86600" y="464832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32960" y="3124080"/>
            <a:ext cx="131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743200" y="3124080"/>
            <a:ext cx="194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العا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876920" y="3124080"/>
            <a:ext cx="1996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في ال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62120" y="3124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يت الكب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76920" y="3886200"/>
            <a:ext cx="200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43200" y="3886200"/>
            <a:ext cx="194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62120" y="3886200"/>
            <a:ext cx="185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ل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76920" y="46483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مل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43200" y="4648320"/>
            <a:ext cx="1962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4648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5410080"/>
            <a:ext cx="1995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ابي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43200" y="5410080"/>
            <a:ext cx="190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5410080"/>
            <a:ext cx="1782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1" dur="indefinite" restart="never" nodeType="tmRoot">
          <p:childTnLst>
            <p:seq>
              <p:cTn id="3622" dur="indefinite" nodeType="mainSeq">
                <p:childTnLst>
                  <p:par>
                    <p:cTn id="3623" fill="hold">
                      <p:stCondLst>
                        <p:cond delay="0"/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0" dur="32235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500"/>
                            </p:stCondLst>
                            <p:childTnLst>
                              <p:par>
                                <p:cTn id="3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0" dur="8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1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9" dur="8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0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1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500"/>
                            </p:stCondLst>
                            <p:childTnLst>
                              <p:par>
                                <p:cTn id="37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09480" y="9144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انَ لِنَبِيٍّ أَنْ يَكُونَ لَهُ أَسْرَى حَتَّى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ea typeface="Arial"/>
              </a:rPr>
              <a:t> يُثْخِ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أَرْضِ تُرِيدُو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دُّنْيَا وَاللَّهُ يُرِيدُ الْآخِرَةَ وَاللَّهُ عَزِيز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لأنفا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086600" y="2057400"/>
            <a:ext cx="117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ثْخِ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481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ل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105520" y="205740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ار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0280" y="3352680"/>
            <a:ext cx="121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396252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خدع به الانس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33526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طرأ ويز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457200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نراه على غير حقيق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90720" y="2590920"/>
            <a:ext cx="73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ثخن : المراد استقرار دينه بين الناس كأنه شيء غليظ فتجمد وثبت بعد أن كان رقيقاً سائلاً مخشي الزوال بالسيل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5181480"/>
            <a:ext cx="69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عرض : أي ما يطرأ على الشيء ويسرع فيه الزوال ، ولذلك سمي به متاع الدنيا لدثوره وزواله عما قلي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7" dur="indefinite" restart="never" nodeType="tmRoot">
          <p:childTnLst>
            <p:seq>
              <p:cTn id="3758" dur="indefinite" nodeType="mainSeq">
                <p:childTnLst>
                  <p:par>
                    <p:cTn id="3759" fill="hold">
                      <p:stCondLst>
                        <p:cond delay="0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7" dur="23929" fill="hold"/>
                                        <p:tgtEl>
                                          <p:spTgt spid="7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500"/>
                            </p:stCondLst>
                            <p:childTnLst>
                              <p:par>
                                <p:cTn id="38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45720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يْفَ وَإِنْ يَظْهَرُوا عَلَيْكُمْ 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ك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ُرْضُونَكُمْ بِأَفْوَاهِهِمْ وَتَأْبَى قُلُوبُهُمْ وَأَكْثَرُ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934320" y="3200400"/>
            <a:ext cx="128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934320" y="4038480"/>
            <a:ext cx="130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934320" y="4876920"/>
            <a:ext cx="131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952880" y="3200400"/>
            <a:ext cx="160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فظ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71800" y="3200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ه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14400" y="3200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د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71800" y="40384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ا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ير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914400" y="40384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ه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71800" y="48769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14400" y="48769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م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3" dur="indefinite" restart="never" nodeType="tmRoot">
          <p:childTnLst>
            <p:seq>
              <p:cTn id="3834" dur="indefinite" nodeType="mainSeq">
                <p:childTnLst>
                  <p:par>
                    <p:cTn id="3835" fill="hold">
                      <p:stCondLst>
                        <p:cond delay="0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9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1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3" dur="19018" fill="hold"/>
                                        <p:tgtEl>
                                          <p:spTgt spid="7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0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6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0"/>
                            </p:stCondLst>
                            <p:childTnLst>
                              <p:par>
                                <p:cTn id="3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4" fill="hold">
                            <p:stCondLst>
                              <p:cond delay="500"/>
                            </p:stCondLst>
                            <p:childTnLst>
                              <p:par>
                                <p:cTn id="3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9" fill="hold">
                      <p:stCondLst>
                        <p:cond delay="indefinite"/>
                      </p:stCondLst>
                      <p:childTnLst>
                        <p:par>
                          <p:cTn id="3920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762120" y="15238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مْ حَسِبْتُمْ أَنْ تُتْرَكُوا وَلَمَّا يَعْلَمِ اللَّهُ الَّذِينَ جَاهَدُوا مِنْكُمْ وَلَمْ يَتَّخِذُوا مِنْ دُونِ اللَّهِ وَلا رَسُولِهِ وَلا الْمُؤْمِنِي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لَّهُ خَبِيرٌ بِمَا تَعْمَل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934320" y="36576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5288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خلا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954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ق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03680" y="480060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ليجة :أي  ما يتخذه الانسان معتمداً عليه وليس من أهل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5" dur="indefinite" restart="never" nodeType="tmRoot">
          <p:childTnLst>
            <p:seq>
              <p:cTn id="3926" dur="indefinite" nodeType="mainSeq">
                <p:childTnLst>
                  <p:par>
                    <p:cTn id="3927" fill="hold">
                      <p:stCondLst>
                        <p:cond delay="0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1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2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3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5" dur="23876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500"/>
                            </p:stCondLst>
                            <p:childTnLst>
                              <p:par>
                                <p:cTn id="39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1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2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6" fill="hold">
                            <p:stCondLst>
                              <p:cond delay="500"/>
                            </p:stCondLst>
                            <p:childTnLst>
                              <p:par>
                                <p:cTn id="39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685800" y="1295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َالَتِ الْيَهُودُ عُزَيْرٌ ابْنُ اللَّهِ وَقَالَتِ النَّصَارَى الْمَسِيحُ ابْنُ اللَّهِ ذَلِكَ قَوْلُهُمْ بِأَفْوَاهِهِ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وْلَ الَّذِينَ كَفَرُوا مِنْ قَبْلُ قَاتَلَهُمُ اللَّهُ أَنَّى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766920" y="3429000"/>
            <a:ext cx="163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0" y="43434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ب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006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58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د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43434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ا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0" dur="indefinite" restart="never" nodeType="tmRoot">
          <p:childTnLst>
            <p:seq>
              <p:cTn id="3971" dur="indefinite" nodeType="mainSeq">
                <p:childTnLst>
                  <p:par>
                    <p:cTn id="3972" fill="hold">
                      <p:stCondLst>
                        <p:cond delay="0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8" dur="27429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120" y="1600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َّذِينَ يَجْتَنِبُونَ كَبَائِرَ الْأِثْمِ وَالْفَوَاحِشَ إِلّ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رَبَّكَ وَاسِعُ الْمَغْفِرَةِ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657600"/>
            <a:ext cx="1251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365760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اص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65760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غ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58080" y="487692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من اللمم  المعاصي الصغير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407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2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20"/>
                            </p:stCondLst>
                            <p:childTnLst>
                              <p:par>
                                <p:cTn id="2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685800" y="12193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زِيَادَةٌ فِي الْكُفْرِ يُضَلُّ بِهِ الَّذِينَ كَفَرُوا يُحِلُّونَهُ عَاماً وَيُحَرِّمُونَهُ عَام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ِدَّةَ مَا حَرَّمَ اللَّهُ فَيُحِلُّوا مَا حَرَّمَ اللَّهُ زُيِّنَ لَهُمْ سُوءُ أَعْمَالِهِمْ وَاللَّهُ لا يَهْدِي الْقَوْمَ الْكَاف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81680" y="3124080"/>
            <a:ext cx="1397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0" y="4876920"/>
            <a:ext cx="137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3124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أ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895480" y="3124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س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1440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71800" y="4876920"/>
            <a:ext cx="168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وافق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48769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4876920"/>
            <a:ext cx="1757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حرِّ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914400" y="388620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م كانوا يأخرون حرمة شهر حرام إلى بعض الشهو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ير المحرمة التي بعد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9" dur="indefinite" restart="never" nodeType="tmRoot">
          <p:childTnLst>
            <p:seq>
              <p:cTn id="4030" dur="indefinite" nodeType="mainSeq">
                <p:childTnLst>
                  <p:par>
                    <p:cTn id="4031" fill="hold">
                      <p:stCondLst>
                        <p:cond delay="0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8" dur="36154" fill="hold"/>
                                        <p:tgtEl>
                                          <p:spTgt spid="8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500"/>
                            </p:stCondLst>
                            <p:childTnLst>
                              <p:par>
                                <p:cTn id="4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3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685800" y="1752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اهِدُوا بِأَمْوَالِكُمْ وَأَنْفُسِكُمْ فِي سَبِيلِ اللَّهِ ذَلِكُمْ خَيْرٌ لَكُمْ إِنْ كُنْتُمْ تَعْلَم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0" y="320040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0" y="40384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0" y="4876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رج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52880" y="32004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هرب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71800" y="32004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با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71800" y="4038480"/>
            <a:ext cx="1523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م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48769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يوخ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ض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9072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لا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5" dur="indefinite" restart="never" nodeType="tmRoot">
          <p:childTnLst>
            <p:seq>
              <p:cTn id="4096" dur="indefinite" nodeType="mainSeq">
                <p:childTnLst>
                  <p:par>
                    <p:cTn id="4097" fill="hold">
                      <p:stCondLst>
                        <p:cond delay="0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5" dur="17868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fill="hold">
                      <p:stCondLst>
                        <p:cond delay="indefinite"/>
                      </p:stCondLst>
                      <p:childTnLst>
                        <p:par>
                          <p:cTn id="4107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0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1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2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5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7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500"/>
                            </p:stCondLst>
                            <p:childTnLst>
                              <p:par>
                                <p:cTn id="4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609480" y="13716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كَا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رِيباً وَسَفَر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تَّبَعُوكَ وَلَكِنْ بَعُدَتْ عَلَيْهِمُ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سَيَحْلِفُونَ بِاللَّهِ لَوِ اسْتَطَعْنَا لَخَرَجْنَا مَعَكُمْ يُهْلِكُونَ أَنْفُسَهُمْ وَاللَّهُ يَعْلَمُ إِنَّهُمْ لَكَاذِب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477120" y="32767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419112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5105520"/>
            <a:ext cx="1638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0" y="327672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432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فأ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41911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ه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4320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غو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38080" y="4191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ب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51055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5105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43200" y="51055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2" dur="indefinite" restart="never" nodeType="tmRoot">
          <p:childTnLst>
            <p:seq>
              <p:cTn id="4183" dur="indefinite" nodeType="mainSeq">
                <p:childTnLst>
                  <p:par>
                    <p:cTn id="4184" fill="hold">
                      <p:stCondLst>
                        <p:cond delay="0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8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0" dur="1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2" dur="28526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7" fill="hold">
                            <p:stCondLst>
                              <p:cond delay="0"/>
                            </p:stCondLst>
                            <p:childTnLst>
                              <p:par>
                                <p:cTn id="42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2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2" fill="hold">
                            <p:stCondLst>
                              <p:cond delay="0"/>
                            </p:stCondLst>
                            <p:childTnLst>
                              <p:par>
                                <p:cTn id="4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6" fill="hold">
                            <p:stCondLst>
                              <p:cond delay="500"/>
                            </p:stCondLst>
                            <p:childTnLst>
                              <p:par>
                                <p:cTn id="4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fill="hold">
                      <p:stCondLst>
                        <p:cond delay="indefinite"/>
                      </p:stCondLst>
                      <p:childTnLst>
                        <p:par>
                          <p:cTn id="4262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5720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وْ يَجِدُونَ مَلْجَأً أَوْ مَغَارَاتٍ أَو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َلَّوْا إِلَيْهِ وَه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86600" y="33526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86600" y="4343400"/>
            <a:ext cx="1336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800600" y="3352680"/>
            <a:ext cx="220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لكاً في الا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666880" y="33526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اً خف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33526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876920" y="4343400"/>
            <a:ext cx="214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66880" y="4343400"/>
            <a:ext cx="215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تبئ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5800" y="4343400"/>
            <a:ext cx="187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7" dur="indefinite" restart="never" nodeType="tmRoot">
          <p:childTnLst>
            <p:seq>
              <p:cTn id="4268" dur="indefinite" nodeType="mainSeq">
                <p:childTnLst>
                  <p:par>
                    <p:cTn id="4269" fill="hold">
                      <p:stCondLst>
                        <p:cond delay="0"/>
                      </p:stCondLst>
                      <p:childTnLst>
                        <p:par>
                          <p:cTn id="4270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5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7" dur="11599" fill="hold"/>
                                        <p:tgtEl>
                                          <p:spTgt spid="8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500"/>
                            </p:stCondLst>
                            <p:childTnLst>
                              <p:par>
                                <p:cTn id="4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7" fill="hold">
                            <p:stCondLst>
                              <p:cond delay="500"/>
                            </p:stCondLst>
                            <p:childTnLst>
                              <p:par>
                                <p:cTn id="4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2" fill="hold">
                      <p:stCondLst>
                        <p:cond delay="indefinite"/>
                      </p:stCondLst>
                      <p:childTnLst>
                        <p:par>
                          <p:cTn id="4323" fill="hold">
                            <p:stCondLst>
                              <p:cond delay="0"/>
                            </p:stCondLst>
                            <p:childTnLst>
                              <p:par>
                                <p:cTn id="4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33520" y="16002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ْ مَن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صَّدَقَاتِ فَإِنْ أُعْطُوا مِنْهَا رَضُوا وَإِنْ لَمْ يُعْطَوْا مِنْهَا إِذَا هُمْ يَسْخَط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81680" y="335268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33526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ي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80060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مز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90720" y="3352680"/>
            <a:ext cx="154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طال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8080" y="46483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لمزك : المقصود أنهم  كانوا يعيبونك في قسمتها إذا لم تعطهم منها لعدم إستحقاقهم ذلك أ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لأسباب أخر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8" dur="indefinite" restart="never" nodeType="tmRoot">
          <p:childTnLst>
            <p:seq>
              <p:cTn id="4329" dur="indefinite" nodeType="mainSeq">
                <p:childTnLst>
                  <p:par>
                    <p:cTn id="4330" fill="hold">
                      <p:stCondLst>
                        <p:cond delay="0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7" dur="16562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8" fill="hold">
                      <p:stCondLst>
                        <p:cond delay="indefinite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685800" y="91440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الصَّدَقَاتُ لِلْفُقَرَاءِ وَالْمَسَاكِينِ وَالْعَامِلِينَ عَلَيْه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الرِّقَابِ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سَبِيلِ اللَّهِ وَابْنِ السَّبِيلِ فَرِيضَةً مِنَ اللَّهِ وَاللَّهُ عَلِيم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928840" y="2514600"/>
            <a:ext cx="269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39560" y="3200400"/>
            <a:ext cx="610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وحدوا الله ولم تدخل المعرفة قلوب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219320" y="2514600"/>
            <a:ext cx="4522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يخشون الله قلوبهم ر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219320" y="3886200"/>
            <a:ext cx="455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ليس في قلوبهم إي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572000"/>
            <a:ext cx="202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263120" y="4572000"/>
            <a:ext cx="164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هاج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4572000"/>
            <a:ext cx="134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ديون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819520" y="457200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ق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43000" y="5257800"/>
            <a:ext cx="67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غارمين الناس الذين تراكمت عليهم الديون  من أعم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اموا بها في غير معصية الله تعال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8" dur="indefinite" restart="never" nodeType="tmRoot">
          <p:childTnLst>
            <p:seq>
              <p:cTn id="4369" dur="indefinite" nodeType="mainSeq">
                <p:childTnLst>
                  <p:par>
                    <p:cTn id="4370" fill="hold">
                      <p:stCondLst>
                        <p:cond delay="0"/>
                      </p:stCondLst>
                      <p:childTnLst>
                        <p:par>
                          <p:cTn id="4371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4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7" dur="30929" fill="hold"/>
                                        <p:tgtEl>
                                          <p:spTgt spid="8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8" fill="hold">
                      <p:stCondLst>
                        <p:cond delay="indefinite"/>
                      </p:stCondLst>
                      <p:childTnLst>
                        <p:par>
                          <p:cTn id="4379" fill="hold">
                            <p:stCondLst>
                              <p:cond delay="0"/>
                            </p:stCondLst>
                            <p:childTnLst>
                              <p:par>
                                <p:cTn id="4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3" fill="hold">
                            <p:stCondLst>
                              <p:cond delay="500"/>
                            </p:stCondLst>
                            <p:childTnLst>
                              <p:par>
                                <p:cTn id="4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6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6" fill="hold">
                      <p:stCondLst>
                        <p:cond delay="indefinite"/>
                      </p:stCondLst>
                      <p:childTnLst>
                        <p:par>
                          <p:cTn id="4427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838080" y="13716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ُ الَّذِينَ يُؤْذُونَ النَّبِيَّ وَيَقُولُونَ هُو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لْ أُذُنُ خَيْرٍ لَكُمْ يُؤْمِنُ بِاللَّهِ وَيُؤْمِنُ لِلْمُؤْمِنِينَ وَرَحْمَةٌ لِلَّذِينَ آمَنُوا مِنْكُمْ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92320" y="3429000"/>
            <a:ext cx="2108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رحة السم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3429000"/>
            <a:ext cx="107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15960" y="3429000"/>
            <a:ext cx="185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طي الإذ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295280" y="3429000"/>
            <a:ext cx="147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عه 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62120" y="4724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سميَّ (ص) بها إشارة إلى أنه يصغي ويستمع إلى كل ما يقال ويذكر له،للإساءة إليه (ص) ، لكنه سماع لما فيه خيركم  ومصلحتكم وليس لما يضركم ولا ينفعك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6" dur="indefinite" restart="never" nodeType="tmRoot">
          <p:childTnLst>
            <p:seq>
              <p:cTn id="4437" dur="indefinite" nodeType="mainSeq">
                <p:childTnLst>
                  <p:par>
                    <p:cTn id="4438" fill="hold">
                      <p:stCondLst>
                        <p:cond delay="0"/>
                      </p:stCondLst>
                      <p:childTnLst>
                        <p:par>
                          <p:cTn id="4439" fill="hold">
                            <p:stCondLst>
                              <p:cond delay="0"/>
                            </p:stCondLst>
                            <p:childTnLst>
                              <p:par>
                                <p:cTn id="4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6" dur="24033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4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609480" y="12952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يَأْتِهِمْ نَبَأُ الَّذِينَ مِنْ قَبْلِهِمْ قَوْمِ نُوحٍ وَعَادٍ وَثَمُودَ وَقَوْمِ إِبْرَاهِيمَ وَأَصْحَابِ مَدْيَ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تَتْهُمْ رُسُلُهُمْ بِالْبَيِّنَاتِ فَمَا كَانَ اللَّهُ لِيَظْلِمَهُمْ وَلَكِنْ كَانُوا أَنْفُسَهُمْ يَظْل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417360" y="3429000"/>
            <a:ext cx="206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3429000"/>
            <a:ext cx="1460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نقل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48320" y="3429000"/>
            <a:ext cx="156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ؤم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743200" y="3429000"/>
            <a:ext cx="142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الح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23920" y="4648320"/>
            <a:ext cx="89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قصود بالمؤتفكات قوم لوط الذين إنقلبت بهم قراهم عاليها سافلها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13716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5" dur="indefinite" restart="never" nodeType="tmRoot">
          <p:childTnLst>
            <p:seq>
              <p:cTn id="4476" dur="indefinite" nodeType="mainSeq">
                <p:childTnLst>
                  <p:par>
                    <p:cTn id="4477" fill="hold">
                      <p:stCondLst>
                        <p:cond delay="0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1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4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6" dur="35840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fill="hold">
                      <p:stCondLst>
                        <p:cond delay="indefinite"/>
                      </p:stCondLst>
                      <p:childTnLst>
                        <p:par>
                          <p:cTn id="4488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fill="hold">
                      <p:stCondLst>
                        <p:cond delay="indefinite"/>
                      </p:stCondLst>
                      <p:childTnLst>
                        <p:par>
                          <p:cTn id="4508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3" fill="hold">
                            <p:stCondLst>
                              <p:cond delay="0"/>
                            </p:stCondLst>
                            <p:childTnLst>
                              <p:par>
                                <p:cTn id="4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5335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رَضُوا بِأَنْ يَكُونُوا مَع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طُبِعَ عَلَى قُلُوبِهِمْ فَهُمْ لا يَفْق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01480" y="3352680"/>
            <a:ext cx="157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33526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خل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952880" y="3352680"/>
            <a:ext cx="173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ائ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38080" y="3352680"/>
            <a:ext cx="169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هار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38080" y="4572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والف المقصود بهم الذين عُذِروا عن المشاركة في الجهاد من النساء والعجائز والأطفال والمرض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7" dur="indefinite" restart="never" nodeType="tmRoot">
          <p:childTnLst>
            <p:seq>
              <p:cTn id="4518" dur="indefinite" nodeType="mainSeq">
                <p:childTnLst>
                  <p:par>
                    <p:cTn id="4519" fill="hold">
                      <p:stCondLst>
                        <p:cond delay="0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5" dur="11912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6" fill="hold">
                      <p:stCondLst>
                        <p:cond delay="indefinite"/>
                      </p:stCondLst>
                      <p:childTnLst>
                        <p:par>
                          <p:cTn id="4527" fill="hold">
                            <p:stCondLst>
                              <p:cond delay="0"/>
                            </p:stCondLst>
                            <p:childTnLst>
                              <p:par>
                                <p:cTn id="4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1" fill="hold">
                            <p:stCondLst>
                              <p:cond delay="500"/>
                            </p:stCondLst>
                            <p:childTnLst>
                              <p:par>
                                <p:cTn id="45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5" fill="hold">
                      <p:stCondLst>
                        <p:cond delay="indefinite"/>
                      </p:stCondLst>
                      <p:childTnLst>
                        <p:par>
                          <p:cTn id="4546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0"/>
                            </p:stCondLst>
                            <p:childTnLst>
                              <p:par>
                                <p:cTn id="4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156852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رَأَيْتَ الَّذ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عْطَى قَلِيل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وأ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 النج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2814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281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276720"/>
            <a:ext cx="167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500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500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ف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495680"/>
            <a:ext cx="164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قط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4956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7440" y="5486400"/>
            <a:ext cx="76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كدى : أي الذي أعطى قليلاً من المال ثم أمسك أشد المس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778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1143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 عَلَيْهِ النَّشْأَةَ الْأُخْر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نَّهُ هُوَ أَغْن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هُوَ رَبّ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2590920"/>
            <a:ext cx="123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590920"/>
            <a:ext cx="193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طى ما يبق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5909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فق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590920"/>
            <a:ext cx="193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448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معنى القنية ما يدوم من الأموال ويبقى ببقاء نفسه كالدار والبستان والحيوا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99400" y="457668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572000"/>
            <a:ext cx="1930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جم المض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4576680"/>
            <a:ext cx="1911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واك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57668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و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3845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80"/>
                            </p:stCondLst>
                            <p:childTnLst>
                              <p:par>
                                <p:cTn id="4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480"/>
                            </p:stCondLst>
                            <p:childTnLst>
                              <p:par>
                                <p:cTn id="4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98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59Z</dcterms:created>
  <dc:creator/>
  <dc:description/>
  <dc:language>en-US</dc:language>
  <cp:lastModifiedBy>ALI</cp:lastModifiedBy>
  <dcterms:modified xsi:type="dcterms:W3CDTF">2008-09-21T07:01:32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